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voltage.wav" ContentType="audio/x-wav"/>
  <Override PartName="/ppt/media/image6.png" ContentType="image/png"/>
  <Override PartName="/ppt/media/image13.jpeg" ContentType="image/jpeg"/>
  <Override PartName="/ppt/media/explode.wav" ContentType="audio/x-wav"/>
  <Override PartName="/ppt/media/image14.gif" ContentType="image/gif"/>
  <Override PartName="/ppt/media/chimes.wav" ContentType="audio/x-wav"/>
  <Override PartName="/ppt/media/image15.wmf" ContentType="image/x-wmf"/>
  <Override PartName="/ppt/media/image1.jpeg" ContentType="image/jpeg"/>
  <Override PartName="/ppt/media/Windows%20XP%20Ringin.wav" ContentType="audio/x-wav"/>
  <Override PartName="/ppt/media/image10.png" ContentType="image/png"/>
  <Override PartName="/ppt/media/image2.png" ContentType="image/png"/>
  <Override PartName="/ppt/media/image3.jpeg" ContentType="image/jpeg"/>
  <Override PartName="/ppt/media/laser.wav" ContentType="audio/x-wav"/>
  <Override PartName="/ppt/media/image4.png" ContentType="image/png"/>
  <Override PartName="/ppt/media/image5.png" ContentType="image/pn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2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ftr" idx="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 type="sldNum" idx="1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8AEF-6C41-463C-911D-A646210EC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 replace the title / subtitle with your ow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ck on the title block -&gt; select all the text by pressing Ctrl+A -&gt; press Delete key -&gt; type your own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C6D4E-81C9-4400-A457-199D244765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6B0A-6935-43DC-85D1-C9F3B2DB0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CEBC-521A-41B8-8BD3-89E95442B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81B25-7DF2-468D-B161-F5BE814794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B71F-EBF4-4B22-BC13-9086853FE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231C2-75E8-412F-939E-EF11C631806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50C51-DD4F-4053-933C-1CDF4E7F4FB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EEFCAE-99B8-41BC-BAD9-B828AF57C2B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E21ED-A69A-42A2-8FF3-97C4A54684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CFA04-FDA0-422E-9E70-F15514110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9B44A-5E8C-4B6D-B091-A2E4BBDFFD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49909-559F-4FDE-90FA-8D30E55A3D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AD51D-FEED-4775-88A3-6E6D93DB7EB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B2901-4EA1-49D1-A15A-82D18F3083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E492B-4B79-4382-8EB9-05611423AD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0762A-7B7B-44CC-A939-043A9180ED3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82263-4FEF-4DB8-BA0B-F15665DAAA1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511D7-C4F2-4B53-9258-180A9DFD97B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878059-664D-4F14-8FD6-5119879273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F5085-4656-45C6-A3FC-E16F84E5F8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E2A65B-20E3-46FB-8ADF-685B100FD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FC356-AF0A-40AA-BF42-1C09F42432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4EA321-AF93-4E65-9E44-728FB3C58B8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197B5F-5482-4656-923E-91BC6C34BC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0F2E5-ECB4-4BD9-9024-AB9026E87EA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416AC-02B4-4520-A862-095D170E3B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FD3E71-29A3-4836-ADDF-B7F00A57426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5C7FC-E086-4419-8B49-80E4DC2F530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189517-C3E5-4F75-9D80-EA6A467E179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FE10C9-49B5-4D94-A47D-DAC64C0610A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F175C-3483-4FFA-A197-224800CDE2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B5C2-E856-449A-A502-9A38C5CF931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3720" y="685440"/>
            <a:ext cx="88376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537C-F008-48BA-8E7B-DB239E37BC1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584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02720" y="152352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22860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584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102720" y="4070880"/>
            <a:ext cx="27968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58858-FD42-4206-B1B2-5B486F652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7088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178F-A077-4914-8CE9-83DC74A32B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523520"/>
            <a:ext cx="42390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70880"/>
            <a:ext cx="8686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4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976F2-4FC6-4894-938C-08662F82A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6487-00F5-42F7-ADD7-6249D4939550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668600"/>
            <a:ext cx="9144000" cy="3565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rcRect l="0" t="0" r="-8246" b="-32877"/>
          <a:stretch/>
        </p:blipFill>
        <p:spPr>
          <a:xfrm>
            <a:off x="7524720" y="687240"/>
            <a:ext cx="1162080" cy="532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BM Systems and Technolog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3"/>
          </p:nvPr>
        </p:nvSpPr>
        <p:spPr>
          <a:xfrm>
            <a:off x="761760" y="6221520"/>
            <a:ext cx="362556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CS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5181120" y="6221520"/>
            <a:ext cx="20574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  <a:ea typeface="Arial"/>
              </a:rPr>
              <a:t>November 1,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828800" y="1695600"/>
            <a:ext cx="0" cy="10792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28800" y="516204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8880" y="6248520"/>
            <a:ext cx="164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1828800" y="4304880"/>
            <a:ext cx="0" cy="857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828800" y="1371600"/>
            <a:ext cx="0" cy="3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-227160" algn="ctr">
              <a:spcBef>
                <a:spcPts val="689"/>
              </a:spcBef>
              <a:spcAft>
                <a:spcPts val="414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455760" algn="ctr">
              <a:spcBef>
                <a:spcPts val="499"/>
              </a:spcBef>
              <a:buClr>
                <a:srgbClr val="2db6b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687240" algn="ctr"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 algn="ctr">
              <a:spcBef>
                <a:spcPts val="451"/>
              </a:spcBef>
              <a:buClr>
                <a:srgbClr val="2db6b3"/>
              </a:buClr>
              <a:buFont typeface="Arial"/>
              <a:buChar char="&gt;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451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716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82560" indent="-22392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91296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43000" indent="-228600">
              <a:spcBef>
                <a:spcPts val="1049"/>
              </a:spcBef>
              <a:spcAft>
                <a:spcPts val="451"/>
              </a:spcAft>
              <a:buClr>
                <a:srgbClr val="2db6b3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43000" indent="-228600">
              <a:spcBef>
                <a:spcPts val="1049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81720" y="74520"/>
            <a:ext cx="309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and Technology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6499080"/>
            <a:ext cx="330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3"/>
          <p:cNvSpPr>
            <a:spLocks noGrp="1"/>
          </p:cNvSpPr>
          <p:nvPr>
            <p:ph type="sldNum" idx="5"/>
          </p:nvPr>
        </p:nvSpPr>
        <p:spPr>
          <a:xfrm>
            <a:off x="154080" y="650052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97BE-7660-4476-8814-F96A9D076F63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6"/>
          </p:nvPr>
        </p:nvSpPr>
        <p:spPr>
          <a:xfrm>
            <a:off x="1447560" y="6500520"/>
            <a:ext cx="3811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CSM       |      IBM 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46160"/>
            <a:ext cx="0" cy="23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648000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/>
          <a:srcRect l="0" t="54041" r="0" b="23777"/>
          <a:stretch/>
        </p:blipFill>
        <p:spPr>
          <a:xfrm>
            <a:off x="0" y="6475320"/>
            <a:ext cx="9144000" cy="3938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3"/>
          <a:srcRect l="0" t="27010" r="0" b="52127"/>
          <a:stretch/>
        </p:blipFill>
        <p:spPr>
          <a:xfrm>
            <a:off x="1440" y="1440"/>
            <a:ext cx="9144000" cy="381240"/>
          </a:xfrm>
          <a:prstGeom prst="rect">
            <a:avLst/>
          </a:prstGeom>
          <a:ln w="3240">
            <a:solidFill>
              <a:srgbClr val="7889fb"/>
            </a:solidFill>
            <a:miter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2db6b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Num" idx="7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D38B-5396-4E10-B418-A96BB805A022}" type="slidenum">
              <a:rPr b="1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6502320"/>
            <a:ext cx="59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72160" y="6499080"/>
            <a:ext cx="335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2006 IBM Corpo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647532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167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686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1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-636480"/>
            <a:ext cx="622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3960" y="52560"/>
            <a:ext cx="177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ystems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32600" y="-1327320"/>
            <a:ext cx="3016080" cy="114012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wmf"/><Relationship Id="rId3" Type="http://schemas.openxmlformats.org/officeDocument/2006/relationships/audio" Target="../media/explode.wav"/><Relationship Id="rId4" Type="http://schemas.openxmlformats.org/officeDocument/2006/relationships/audio" Target="../media/Windows%20XP%20Ringin.wav"/><Relationship Id="rId5" Type="http://schemas.openxmlformats.org/officeDocument/2006/relationships/audio" Target="../media/Windows%20XP%20Ringin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1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10.png"/><Relationship Id="rId25" Type="http://schemas.openxmlformats.org/officeDocument/2006/relationships/image" Target="../media/image12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laser.wav"/><Relationship Id="rId3" Type="http://schemas.openxmlformats.org/officeDocument/2006/relationships/audio" Target="../media/voltag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6157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presentation is designed to be self-running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ss F5 to start it, and then just sit back and enjoy!</a:t>
            </a: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(Run time is about 4 minutes 30 second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46107FA-643A-4474-B142-68C842A75A54}" type="datetime1">
              <a:rPr lang="en-US"/>
              <a:t>07/28/26</a:t>
            </a:fld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216000" y="2286000"/>
            <a:ext cx="4190760" cy="39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Run commands i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parallel across your nod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dsh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5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166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5753160" y="1409760"/>
            <a:ext cx="1359000" cy="4127400"/>
            <a:chOff x="5753160" y="1409760"/>
            <a:chExt cx="1359000" cy="4127400"/>
          </a:xfrm>
        </p:grpSpPr>
        <p:sp>
          <p:nvSpPr>
            <p:cNvPr id="1182" name=""/>
            <p:cNvSpPr/>
            <p:nvPr/>
          </p:nvSpPr>
          <p:spPr>
            <a:xfrm>
              <a:off x="57531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866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2485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3118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118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2611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7148520" y="1265400"/>
            <a:ext cx="664560" cy="4429080"/>
            <a:chOff x="7148520" y="1265400"/>
            <a:chExt cx="664560" cy="4429080"/>
          </a:xfrm>
        </p:grpSpPr>
        <p:sp>
          <p:nvSpPr>
            <p:cNvPr id="1189" name=""/>
            <p:cNvSpPr/>
            <p:nvPr/>
          </p:nvSpPr>
          <p:spPr>
            <a:xfrm>
              <a:off x="7173720" y="12654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61120" y="26114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8520" y="54180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pt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7156440" y="1278000"/>
            <a:ext cx="800280" cy="4386240"/>
            <a:chOff x="7156440" y="1278000"/>
            <a:chExt cx="800280" cy="4386240"/>
          </a:xfrm>
        </p:grpSpPr>
        <p:sp>
          <p:nvSpPr>
            <p:cNvPr id="1193" name=""/>
            <p:cNvSpPr/>
            <p:nvPr/>
          </p:nvSpPr>
          <p:spPr>
            <a:xfrm>
              <a:off x="7156800" y="2637000"/>
              <a:ext cx="799560" cy="246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 21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156440" y="1278000"/>
              <a:ext cx="800280" cy="246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 19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164720" y="5418000"/>
              <a:ext cx="729360" cy="2462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p 8 day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5753160" y="1397160"/>
            <a:ext cx="1359000" cy="4127400"/>
            <a:chOff x="5753160" y="1397160"/>
            <a:chExt cx="1359000" cy="4127400"/>
          </a:xfrm>
        </p:grpSpPr>
        <p:sp>
          <p:nvSpPr>
            <p:cNvPr id="1197" name=""/>
            <p:cNvSpPr/>
            <p:nvPr/>
          </p:nvSpPr>
          <p:spPr>
            <a:xfrm>
              <a:off x="5753160" y="345420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286680" y="13971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520" y="13971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311880" y="27306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311880" y="41148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261120" y="55245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3" name=""/>
          <p:cNvSpPr/>
          <p:nvPr/>
        </p:nvSpPr>
        <p:spPr>
          <a:xfrm>
            <a:off x="4807800" y="3017880"/>
            <a:ext cx="10494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 1: up 19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 2: up 21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de n: up 8 day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4849920" y="333540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h -a up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19057-C61B-4A6E-90A5-CC6FE2B92D7A}" type="slidenum">
              <a:t>10</a:t>
            </a:fld>
          </a:p>
        </p:txBody>
      </p:sp>
    </p:spTree>
  </p:cSld>
  <p:transition spd="slow" advTm="0">
    <p:fade thruBlk="true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3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5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grpSp>
          <p:nvGrpSpPr>
            <p:cNvPr id="1206" name=""/>
            <p:cNvGrpSpPr/>
            <p:nvPr/>
          </p:nvGrpSpPr>
          <p:grpSpPr>
            <a:xfrm>
              <a:off x="5778360" y="1409760"/>
              <a:ext cx="1333800" cy="4127400"/>
              <a:chOff x="5778360" y="1409760"/>
              <a:chExt cx="1333800" cy="4127400"/>
            </a:xfrm>
          </p:grpSpPr>
          <p:sp>
            <p:nvSpPr>
              <p:cNvPr id="1207" name=""/>
              <p:cNvSpPr/>
              <p:nvPr/>
            </p:nvSpPr>
            <p:spPr>
              <a:xfrm>
                <a:off x="5778360" y="3467160"/>
                <a:ext cx="520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299280" y="1422360"/>
                <a:ext cx="0" cy="4102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299280" y="2743200"/>
                <a:ext cx="799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311880" y="1409760"/>
                <a:ext cx="8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311880" y="4127400"/>
                <a:ext cx="8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311880" y="5537160"/>
                <a:ext cx="800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3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5364000" y="3238560"/>
              <a:ext cx="318960" cy="404640"/>
              <a:chOff x="5364000" y="3238560"/>
              <a:chExt cx="318960" cy="404640"/>
            </a:xfrm>
          </p:grpSpPr>
          <p:sp>
            <p:nvSpPr>
              <p:cNvPr id="1223" name=""/>
              <p:cNvSpPr/>
              <p:nvPr/>
            </p:nvSpPr>
            <p:spPr>
              <a:xfrm flipH="1">
                <a:off x="5364000" y="324468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546520" y="3247920"/>
                <a:ext cx="123840" cy="11880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364000" y="323856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6840" y="336708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364000" y="364320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376600" y="3260520"/>
                <a:ext cx="162000" cy="37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502240" y="3371760"/>
                <a:ext cx="166680" cy="2613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0" name=""/>
          <p:cNvGrpSpPr/>
          <p:nvPr/>
        </p:nvGrpSpPr>
        <p:grpSpPr>
          <a:xfrm>
            <a:off x="5765760" y="1409760"/>
            <a:ext cx="1359000" cy="4127400"/>
            <a:chOff x="5765760" y="1409760"/>
            <a:chExt cx="1359000" cy="4127400"/>
          </a:xfrm>
        </p:grpSpPr>
        <p:sp>
          <p:nvSpPr>
            <p:cNvPr id="1231" name=""/>
            <p:cNvSpPr/>
            <p:nvPr/>
          </p:nvSpPr>
          <p:spPr>
            <a:xfrm>
              <a:off x="57657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2992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2611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244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244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737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"/>
          <p:cNvSpPr/>
          <p:nvPr/>
        </p:nvSpPr>
        <p:spPr>
          <a:xfrm>
            <a:off x="165240" y="1968480"/>
            <a:ext cx="4190760" cy="43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ynchronize files across your nod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cfmupdaten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0" name=""/>
          <p:cNvGrpSpPr/>
          <p:nvPr/>
        </p:nvGrpSpPr>
        <p:grpSpPr>
          <a:xfrm>
            <a:off x="7167600" y="1206360"/>
            <a:ext cx="344160" cy="4545000"/>
            <a:chOff x="7167600" y="1206360"/>
            <a:chExt cx="344160" cy="4545000"/>
          </a:xfrm>
        </p:grpSpPr>
        <p:grpSp>
          <p:nvGrpSpPr>
            <p:cNvPr id="1241" name=""/>
            <p:cNvGrpSpPr/>
            <p:nvPr/>
          </p:nvGrpSpPr>
          <p:grpSpPr>
            <a:xfrm>
              <a:off x="7192800" y="1206360"/>
              <a:ext cx="318960" cy="405000"/>
              <a:chOff x="7192800" y="1206360"/>
              <a:chExt cx="318960" cy="405000"/>
            </a:xfrm>
          </p:grpSpPr>
          <p:sp>
            <p:nvSpPr>
              <p:cNvPr id="1242" name=""/>
              <p:cNvSpPr/>
              <p:nvPr/>
            </p:nvSpPr>
            <p:spPr>
              <a:xfrm flipH="1">
                <a:off x="7192800" y="121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75320" y="1216080"/>
                <a:ext cx="123840" cy="11916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192800" y="1206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05640" y="1335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192800" y="161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205400" y="1228680"/>
                <a:ext cx="162000" cy="3729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331040" y="1339920"/>
                <a:ext cx="166680" cy="261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9" name=""/>
            <p:cNvGrpSpPr/>
            <p:nvPr/>
          </p:nvGrpSpPr>
          <p:grpSpPr>
            <a:xfrm>
              <a:off x="7192800" y="2565360"/>
              <a:ext cx="318960" cy="405000"/>
              <a:chOff x="7192800" y="2565360"/>
              <a:chExt cx="318960" cy="405000"/>
            </a:xfrm>
          </p:grpSpPr>
          <p:sp>
            <p:nvSpPr>
              <p:cNvPr id="1250" name=""/>
              <p:cNvSpPr/>
              <p:nvPr/>
            </p:nvSpPr>
            <p:spPr>
              <a:xfrm flipH="1">
                <a:off x="7192800" y="2571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375320" y="2575080"/>
                <a:ext cx="123840" cy="11916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192800" y="2565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05640" y="2694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192800" y="2970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205400" y="2587680"/>
                <a:ext cx="162000" cy="3729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331040" y="2698920"/>
                <a:ext cx="166680" cy="26172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7167600" y="5346720"/>
              <a:ext cx="318960" cy="404640"/>
              <a:chOff x="7167600" y="5346720"/>
              <a:chExt cx="318960" cy="404640"/>
            </a:xfrm>
          </p:grpSpPr>
          <p:sp>
            <p:nvSpPr>
              <p:cNvPr id="1258" name=""/>
              <p:cNvSpPr/>
              <p:nvPr/>
            </p:nvSpPr>
            <p:spPr>
              <a:xfrm flipH="1">
                <a:off x="7167600" y="535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350120" y="5356080"/>
                <a:ext cx="123840" cy="11880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167600" y="534672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480440" y="547524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167600" y="575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180200" y="5368680"/>
                <a:ext cx="162000" cy="37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305840" y="5479920"/>
                <a:ext cx="166680" cy="2613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5297D-A1FD-4AA3-89BB-3CFACA3E2A82}" type="slidenum">
              <a:t>11</a:t>
            </a:fld>
          </a:p>
        </p:txBody>
      </p:sp>
    </p:spTree>
  </p:cSld>
  <p:transition spd="slow" advTm="0">
    <p:fade thruBlk="true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30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"/>
          <p:cNvSpPr/>
          <p:nvPr/>
        </p:nvSpPr>
        <p:spPr>
          <a:xfrm>
            <a:off x="203040" y="1676520"/>
            <a:ext cx="41911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Install and maintain application software across your nod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smsupdatenode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269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5308560" y="3340080"/>
              <a:ext cx="406440" cy="30492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7162920" y="1231920"/>
            <a:ext cx="431640" cy="4457520"/>
            <a:chOff x="7162920" y="1231920"/>
            <a:chExt cx="431640" cy="4457520"/>
          </a:xfrm>
        </p:grpSpPr>
        <p:sp>
          <p:nvSpPr>
            <p:cNvPr id="1286" name=""/>
            <p:cNvSpPr/>
            <p:nvPr/>
          </p:nvSpPr>
          <p:spPr>
            <a:xfrm>
              <a:off x="7188120" y="1231920"/>
              <a:ext cx="406440" cy="30492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75520" y="2603520"/>
              <a:ext cx="406440" cy="30492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162920" y="5384880"/>
              <a:ext cx="406440" cy="304560"/>
            </a:xfrm>
            <a:prstGeom prst="flowChartMultidocumen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"/>
          <p:cNvGrpSpPr/>
          <p:nvPr/>
        </p:nvGrpSpPr>
        <p:grpSpPr>
          <a:xfrm>
            <a:off x="5753160" y="1409760"/>
            <a:ext cx="1359000" cy="4127400"/>
            <a:chOff x="5753160" y="1409760"/>
            <a:chExt cx="1359000" cy="4127400"/>
          </a:xfrm>
        </p:grpSpPr>
        <p:sp>
          <p:nvSpPr>
            <p:cNvPr id="1290" name=""/>
            <p:cNvSpPr/>
            <p:nvPr/>
          </p:nvSpPr>
          <p:spPr>
            <a:xfrm>
              <a:off x="57531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866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485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3118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3118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2611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9BD2-2DDC-4833-A6E7-CD368F4A6BC5}" type="slidenum">
              <a:t>12</a:t>
            </a:fld>
          </a:p>
        </p:txBody>
      </p:sp>
    </p:spTree>
  </p:cSld>
  <p:transition spd="slow" advTm="0">
    <p:fade thruBlk="true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1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1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1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30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177840" y="2019240"/>
            <a:ext cx="419112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et up node monitoring and automated ev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responses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startcondresp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300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153720" y="6854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316" name="" descr=""/>
          <p:cNvPicPr/>
          <p:nvPr/>
        </p:nvPicPr>
        <p:blipFill>
          <a:blip r:embed="rId1"/>
          <a:stretch/>
        </p:blipFill>
        <p:spPr>
          <a:xfrm rot="1189200">
            <a:off x="4804920" y="2887560"/>
            <a:ext cx="1047960" cy="1062000"/>
          </a:xfrm>
          <a:prstGeom prst="rect">
            <a:avLst/>
          </a:prstGeom>
          <a:ln w="0">
            <a:noFill/>
          </a:ln>
        </p:spPr>
      </p:pic>
      <p:sp>
        <p:nvSpPr>
          <p:cNvPr id="1317" name=""/>
          <p:cNvSpPr/>
          <p:nvPr/>
        </p:nvSpPr>
        <p:spPr>
          <a:xfrm>
            <a:off x="7340760" y="2387520"/>
            <a:ext cx="711000" cy="685800"/>
          </a:xfrm>
          <a:custGeom>
            <a:avLst/>
            <a:gdLst>
              <a:gd name="textAreaLeft" fmla="*/ 293040 w 711000"/>
              <a:gd name="textAreaRight" fmla="*/ 417960 w 711000"/>
              <a:gd name="textAreaTop" fmla="*/ 282600 h 685800"/>
              <a:gd name="textAreaBottom" fmla="*/ 403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5448240" y="2743200"/>
            <a:ext cx="2234880" cy="752400"/>
            <a:chOff x="5448240" y="2743200"/>
            <a:chExt cx="2234880" cy="752400"/>
          </a:xfrm>
        </p:grpSpPr>
        <p:sp>
          <p:nvSpPr>
            <p:cNvPr id="1319" name=""/>
            <p:cNvSpPr/>
            <p:nvPr/>
          </p:nvSpPr>
          <p:spPr>
            <a:xfrm flipH="1">
              <a:off x="6270120" y="2743200"/>
              <a:ext cx="1413000" cy="32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99280" y="2755800"/>
              <a:ext cx="0" cy="739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5448240" y="3467160"/>
              <a:ext cx="851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2" name="" descr=""/>
          <p:cNvPicPr/>
          <p:nvPr/>
        </p:nvPicPr>
        <p:blipFill>
          <a:blip r:embed="rId2"/>
          <a:stretch/>
        </p:blipFill>
        <p:spPr>
          <a:xfrm>
            <a:off x="3319560" y="4281480"/>
            <a:ext cx="1234800" cy="17114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5346720" y="3467160"/>
            <a:ext cx="0" cy="1628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4660920" y="5067360"/>
            <a:ext cx="6602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3C63F-B9BD-4F18-ACD2-A1D3F27FC644}" type="slidenum">
              <a:t>13</a:t>
            </a:fld>
          </a:p>
        </p:txBody>
      </p:sp>
    </p:spTree>
  </p:cSld>
  <p:transition spd="slow" advTm="0">
    <p:fade thruBlk="true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20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0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2000"/>
                                        <p:tgtEl>
                                          <p:spTgt spid="1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ows%20XP%20Ring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ows%20XP%20Ringin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589" dur="5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590" dur="5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591" dur="5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92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3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94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5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96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2000"/>
                                        <p:tgtEl>
                                          <p:spTgt spid="1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3000"/>
                                        <p:tgtEl>
                                          <p:spTgt spid="1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5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grpSp>
          <p:nvGrpSpPr>
            <p:cNvPr id="1326" name=""/>
            <p:cNvGrpSpPr/>
            <p:nvPr/>
          </p:nvGrpSpPr>
          <p:grpSpPr>
            <a:xfrm>
              <a:off x="4851360" y="749160"/>
              <a:ext cx="3187800" cy="5321520"/>
              <a:chOff x="4851360" y="749160"/>
              <a:chExt cx="3187800" cy="5321520"/>
            </a:xfrm>
          </p:grpSpPr>
          <p:grpSp>
            <p:nvGrpSpPr>
              <p:cNvPr id="1327" name=""/>
              <p:cNvGrpSpPr/>
              <p:nvPr/>
            </p:nvGrpSpPr>
            <p:grpSpPr>
              <a:xfrm>
                <a:off x="5778360" y="1409760"/>
                <a:ext cx="1333800" cy="4127400"/>
                <a:chOff x="5778360" y="1409760"/>
                <a:chExt cx="1333800" cy="4127400"/>
              </a:xfrm>
            </p:grpSpPr>
            <p:sp>
              <p:nvSpPr>
                <p:cNvPr id="1328" name=""/>
                <p:cNvSpPr/>
                <p:nvPr/>
              </p:nvSpPr>
              <p:spPr>
                <a:xfrm>
                  <a:off x="5778360" y="3467160"/>
                  <a:ext cx="520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6299280" y="1422360"/>
                  <a:ext cx="0" cy="4102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6299280" y="2743200"/>
                  <a:ext cx="799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6311880" y="1409760"/>
                  <a:ext cx="800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6311880" y="4127400"/>
                  <a:ext cx="800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6311880" y="5537160"/>
                  <a:ext cx="800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4" name=""/>
              <p:cNvSpPr/>
              <p:nvPr/>
            </p:nvSpPr>
            <p:spPr>
              <a:xfrm>
                <a:off x="4851360" y="2857680"/>
                <a:ext cx="914400" cy="125712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7124760" y="749160"/>
                <a:ext cx="914400" cy="1257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7112160" y="4813200"/>
                <a:ext cx="914400" cy="1257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7232760" y="3678120"/>
                <a:ext cx="647640" cy="84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7232760" y="172260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de 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7232760" y="5786280"/>
                <a:ext cx="74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de 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4859280" y="38084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SM 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7124760" y="2120760"/>
                <a:ext cx="914400" cy="1257480"/>
              </a:xfrm>
              <a:prstGeom prst="rect">
                <a:avLst/>
              </a:prstGeom>
              <a:solidFill>
                <a:srgbClr val="ffff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7220160" y="3081240"/>
                <a:ext cx="672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spcBef>
                    <a:spcPts val="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de 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5364000" y="3238560"/>
                <a:ext cx="318960" cy="404640"/>
                <a:chOff x="5364000" y="3238560"/>
                <a:chExt cx="318960" cy="404640"/>
              </a:xfrm>
            </p:grpSpPr>
            <p:sp>
              <p:nvSpPr>
                <p:cNvPr id="1344" name=""/>
                <p:cNvSpPr/>
                <p:nvPr/>
              </p:nvSpPr>
              <p:spPr>
                <a:xfrm flipH="1">
                  <a:off x="5364000" y="324468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5546520" y="3247920"/>
                  <a:ext cx="123840" cy="118800"/>
                </a:xfrm>
                <a:prstGeom prst="rtTriangle">
                  <a:avLst/>
                </a:prstGeom>
                <a:solidFill>
                  <a:srgbClr val="d1821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364000" y="3238560"/>
                  <a:ext cx="0" cy="39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5676840" y="33670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364000" y="364320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5376600" y="3260520"/>
                  <a:ext cx="162000" cy="372600"/>
                </a:xfrm>
                <a:prstGeom prst="rect">
                  <a:avLst/>
                </a:prstGeom>
                <a:solidFill>
                  <a:srgbClr val="d182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5502240" y="3371760"/>
                  <a:ext cx="166680" cy="261360"/>
                </a:xfrm>
                <a:prstGeom prst="rect">
                  <a:avLst/>
                </a:prstGeom>
                <a:solidFill>
                  <a:srgbClr val="d1821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1" name=""/>
            <p:cNvGrpSpPr/>
            <p:nvPr/>
          </p:nvGrpSpPr>
          <p:grpSpPr>
            <a:xfrm>
              <a:off x="7167600" y="1206360"/>
              <a:ext cx="344160" cy="4545000"/>
              <a:chOff x="7167600" y="1206360"/>
              <a:chExt cx="344160" cy="4545000"/>
            </a:xfrm>
          </p:grpSpPr>
          <p:grpSp>
            <p:nvGrpSpPr>
              <p:cNvPr id="1352" name=""/>
              <p:cNvGrpSpPr/>
              <p:nvPr/>
            </p:nvGrpSpPr>
            <p:grpSpPr>
              <a:xfrm>
                <a:off x="7192800" y="1206360"/>
                <a:ext cx="318960" cy="405000"/>
                <a:chOff x="7192800" y="1206360"/>
                <a:chExt cx="318960" cy="405000"/>
              </a:xfrm>
            </p:grpSpPr>
            <p:sp>
              <p:nvSpPr>
                <p:cNvPr id="1353" name=""/>
                <p:cNvSpPr/>
                <p:nvPr/>
              </p:nvSpPr>
              <p:spPr>
                <a:xfrm flipH="1">
                  <a:off x="7192800" y="121284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7375320" y="1216080"/>
                  <a:ext cx="123840" cy="119160"/>
                </a:xfrm>
                <a:prstGeom prst="rtTriangle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7192800" y="1206360"/>
                  <a:ext cx="0" cy="40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7505640" y="1335240"/>
                  <a:ext cx="0" cy="27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7192800" y="161136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205400" y="1228680"/>
                  <a:ext cx="162000" cy="3729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7331040" y="1339920"/>
                  <a:ext cx="166680" cy="261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0" name=""/>
              <p:cNvGrpSpPr/>
              <p:nvPr/>
            </p:nvGrpSpPr>
            <p:grpSpPr>
              <a:xfrm>
                <a:off x="7192800" y="2565360"/>
                <a:ext cx="318960" cy="405000"/>
                <a:chOff x="7192800" y="2565360"/>
                <a:chExt cx="318960" cy="405000"/>
              </a:xfrm>
            </p:grpSpPr>
            <p:sp>
              <p:nvSpPr>
                <p:cNvPr id="1361" name=""/>
                <p:cNvSpPr/>
                <p:nvPr/>
              </p:nvSpPr>
              <p:spPr>
                <a:xfrm flipH="1">
                  <a:off x="7192800" y="257184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7375320" y="2575080"/>
                  <a:ext cx="123840" cy="119160"/>
                </a:xfrm>
                <a:prstGeom prst="rtTriangle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7192800" y="2565360"/>
                  <a:ext cx="0" cy="400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7505640" y="2694240"/>
                  <a:ext cx="0" cy="27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7192800" y="297036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7205400" y="2587680"/>
                  <a:ext cx="162000" cy="3729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7331040" y="2698920"/>
                  <a:ext cx="166680" cy="26172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7167600" y="5346720"/>
                <a:ext cx="318960" cy="404640"/>
                <a:chOff x="7167600" y="5346720"/>
                <a:chExt cx="318960" cy="404640"/>
              </a:xfrm>
            </p:grpSpPr>
            <p:sp>
              <p:nvSpPr>
                <p:cNvPr id="1369" name=""/>
                <p:cNvSpPr/>
                <p:nvPr/>
              </p:nvSpPr>
              <p:spPr>
                <a:xfrm flipH="1">
                  <a:off x="7167600" y="5352840"/>
                  <a:ext cx="177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7350120" y="5356080"/>
                  <a:ext cx="123840" cy="118800"/>
                </a:xfrm>
                <a:prstGeom prst="rtTriangle">
                  <a:avLst/>
                </a:prstGeom>
                <a:solidFill>
                  <a:srgbClr val="ccec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7167600" y="5346720"/>
                  <a:ext cx="0" cy="399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7480440" y="547524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7167600" y="5751360"/>
                  <a:ext cx="318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7180200" y="5368680"/>
                  <a:ext cx="162000" cy="37260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7305840" y="5479920"/>
                  <a:ext cx="166680" cy="261360"/>
                </a:xfrm>
                <a:prstGeom prst="rect">
                  <a:avLst/>
                </a:pr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76" name=""/>
          <p:cNvGrpSpPr/>
          <p:nvPr/>
        </p:nvGrpSpPr>
        <p:grpSpPr>
          <a:xfrm>
            <a:off x="7167600" y="1206360"/>
            <a:ext cx="344160" cy="4545000"/>
            <a:chOff x="7167600" y="1206360"/>
            <a:chExt cx="344160" cy="4545000"/>
          </a:xfrm>
        </p:grpSpPr>
        <p:grpSp>
          <p:nvGrpSpPr>
            <p:cNvPr id="1377" name=""/>
            <p:cNvGrpSpPr/>
            <p:nvPr/>
          </p:nvGrpSpPr>
          <p:grpSpPr>
            <a:xfrm>
              <a:off x="7192800" y="1206360"/>
              <a:ext cx="318960" cy="405000"/>
              <a:chOff x="7192800" y="1206360"/>
              <a:chExt cx="318960" cy="405000"/>
            </a:xfrm>
          </p:grpSpPr>
          <p:sp>
            <p:nvSpPr>
              <p:cNvPr id="1378" name=""/>
              <p:cNvSpPr/>
              <p:nvPr/>
            </p:nvSpPr>
            <p:spPr>
              <a:xfrm flipH="1">
                <a:off x="7192800" y="121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375320" y="1216080"/>
                <a:ext cx="123840" cy="119160"/>
              </a:xfrm>
              <a:prstGeom prst="rtTriangle">
                <a:avLst/>
              </a:prstGeom>
              <a:solidFill>
                <a:srgbClr val="d1821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192800" y="1206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05640" y="1335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192800" y="161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205400" y="1228680"/>
                <a:ext cx="162000" cy="37296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331040" y="1339920"/>
                <a:ext cx="166680" cy="26172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7192800" y="2565360"/>
              <a:ext cx="318960" cy="405000"/>
              <a:chOff x="7192800" y="2565360"/>
              <a:chExt cx="318960" cy="405000"/>
            </a:xfrm>
          </p:grpSpPr>
          <p:sp>
            <p:nvSpPr>
              <p:cNvPr id="1386" name=""/>
              <p:cNvSpPr/>
              <p:nvPr/>
            </p:nvSpPr>
            <p:spPr>
              <a:xfrm flipH="1">
                <a:off x="7192800" y="2571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7375320" y="2575080"/>
                <a:ext cx="123840" cy="119160"/>
              </a:xfrm>
              <a:prstGeom prst="rtTriangle">
                <a:avLst/>
              </a:prstGeom>
              <a:solidFill>
                <a:srgbClr val="d1821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7192800" y="2565360"/>
                <a:ext cx="0" cy="4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505640" y="269424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7192800" y="2970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205400" y="2587680"/>
                <a:ext cx="162000" cy="37296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331040" y="2698920"/>
                <a:ext cx="166680" cy="261720"/>
              </a:xfrm>
              <a:prstGeom prst="rect">
                <a:avLst/>
              </a:prstGeom>
              <a:solidFill>
                <a:srgbClr val="d1821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7167600" y="5346720"/>
              <a:ext cx="318960" cy="404640"/>
              <a:chOff x="7167600" y="5346720"/>
              <a:chExt cx="318960" cy="404640"/>
            </a:xfrm>
          </p:grpSpPr>
          <p:sp>
            <p:nvSpPr>
              <p:cNvPr id="1394" name=""/>
              <p:cNvSpPr/>
              <p:nvPr/>
            </p:nvSpPr>
            <p:spPr>
              <a:xfrm flipH="1">
                <a:off x="7167600" y="5352840"/>
                <a:ext cx="177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350120" y="5356080"/>
                <a:ext cx="123840" cy="118800"/>
              </a:xfrm>
              <a:prstGeom prst="rtTriangle">
                <a:avLst/>
              </a:prstGeom>
              <a:solidFill>
                <a:srgbClr val="cce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7167600" y="534672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480440" y="547524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7167600" y="5751360"/>
                <a:ext cx="318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7180200" y="5368680"/>
                <a:ext cx="162000" cy="3726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305840" y="5479920"/>
                <a:ext cx="166680" cy="26136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1" name=""/>
          <p:cNvGrpSpPr/>
          <p:nvPr/>
        </p:nvGrpSpPr>
        <p:grpSpPr>
          <a:xfrm>
            <a:off x="5765760" y="1409760"/>
            <a:ext cx="1359000" cy="2092320"/>
            <a:chOff x="5765760" y="1409760"/>
            <a:chExt cx="1359000" cy="2092320"/>
          </a:xfrm>
        </p:grpSpPr>
        <p:sp>
          <p:nvSpPr>
            <p:cNvPr id="1402" name=""/>
            <p:cNvSpPr/>
            <p:nvPr/>
          </p:nvSpPr>
          <p:spPr>
            <a:xfrm>
              <a:off x="57657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6295680" y="1409760"/>
              <a:ext cx="3240" cy="20923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2611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244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165240" y="1968480"/>
            <a:ext cx="419076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Define Nodegrou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and do any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aforementione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functions on Nodegroup boundar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162000" y="592596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353ff"/>
                </a:solidFill>
                <a:latin typeface="Lydian"/>
              </a:rPr>
              <a:t>nodegrp -n node1,node2 grou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0" name=""/>
          <p:cNvGrpSpPr/>
          <p:nvPr/>
        </p:nvGrpSpPr>
        <p:grpSpPr>
          <a:xfrm>
            <a:off x="6680160" y="660240"/>
            <a:ext cx="1733760" cy="3078720"/>
            <a:chOff x="6680160" y="660240"/>
            <a:chExt cx="1733760" cy="3078720"/>
          </a:xfrm>
        </p:grpSpPr>
        <p:sp>
          <p:nvSpPr>
            <p:cNvPr id="1411" name=""/>
            <p:cNvSpPr/>
            <p:nvPr/>
          </p:nvSpPr>
          <p:spPr>
            <a:xfrm>
              <a:off x="6680160" y="660240"/>
              <a:ext cx="1498680" cy="2832120"/>
            </a:xfrm>
            <a:prstGeom prst="rect">
              <a:avLst/>
            </a:prstGeom>
            <a:noFill/>
            <a:ln w="38160">
              <a:solidFill>
                <a:srgbClr val="535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464600" y="3462480"/>
              <a:ext cx="94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5353ff"/>
                  </a:solidFill>
                  <a:latin typeface="Arial"/>
                </a:rPr>
                <a:t>group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3" name=""/>
          <p:cNvSpPr/>
          <p:nvPr/>
        </p:nvSpPr>
        <p:spPr>
          <a:xfrm>
            <a:off x="0" y="5938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ydian"/>
              </a:rPr>
              <a:t>cfmupdatenode -N group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BCE4-B898-4D74-A7B0-DABD0F1B4DB7}" type="slidenum">
              <a:t>14</a:t>
            </a:fld>
          </a:p>
        </p:txBody>
      </p:sp>
    </p:spTree>
  </p:cSld>
  <p:transition spd="slow" advTm="0">
    <p:fade thruBlk="true"/>
  </p:transition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2000"/>
                                        <p:tgtEl>
                                          <p:spTgt spid="1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6" dur="2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10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0" dur="3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"/>
          <p:cNvSpPr/>
          <p:nvPr/>
        </p:nvSpPr>
        <p:spPr>
          <a:xfrm>
            <a:off x="885960" y="2016000"/>
            <a:ext cx="82580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Support for firmware fl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Support for diskless 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HA management server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Blue Gene monitoring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Support for hierarchical management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ydian"/>
              </a:rPr>
              <a:t>And much, much mo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0" y="2222640"/>
            <a:ext cx="9144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ydian"/>
              </a:rPr>
              <a:t>And that’s not all!</a:t>
            </a:r>
            <a:endParaRPr b="0" lang="en-US" sz="6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69800" y="647640"/>
            <a:ext cx="796284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CSM has other features and capabilities like: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F217C-4E64-4320-BCFF-8221FFC3F30A}" type="slidenum">
              <a:t>15</a:t>
            </a:fld>
          </a:p>
        </p:txBody>
      </p:sp>
    </p:spTree>
  </p:cSld>
  <p:transition spd="slow" advTm="0">
    <p:fade thruBlk="true"/>
  </p:transition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7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3" dur="100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"/>
          <p:cNvSpPr/>
          <p:nvPr/>
        </p:nvSpPr>
        <p:spPr>
          <a:xfrm>
            <a:off x="190440" y="1638360"/>
            <a:ext cx="873756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For more informatio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talk with your IBM Sales Representativ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or visit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  </a:t>
            </a:r>
            <a:r>
              <a:rPr b="1" lang="en-US" sz="2400" spc="-1" strike="noStrike">
                <a:solidFill>
                  <a:srgbClr val="5353ff"/>
                </a:solidFill>
                <a:latin typeface="Arial"/>
                <a:ea typeface="Arial"/>
              </a:rPr>
              <a:t>http://www14.software.ibm.com/webapp/set2/sas/f/csm</a:t>
            </a:r>
            <a:br>
              <a:rPr sz="24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Thank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59811-B8DE-405F-B727-CE5622E2F7B3}" type="slidenum">
              <a:t>16</a:t>
            </a:fld>
          </a:p>
        </p:txBody>
      </p:sp>
    </p:spTree>
  </p:cSld>
  <p:transition spd="slow" advTm="0">
    <p:fade thruBlk="true"/>
  </p:transition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 repeatCount="indefinite">
                                  <p:stCondLst>
                                    <p:cond delay="1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5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66760" y="2679840"/>
            <a:ext cx="815328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uster Systems Management (CSM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high-level overvie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8686800" y="47116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EEEEA48-3ACB-4D67-B958-EEDA2AC0B002}" type="datetime1">
              <a:rPr lang="en-US"/>
              <a:t>07/28/26</a:t>
            </a:fld>
          </a:p>
        </p:txBody>
      </p:sp>
    </p:spTree>
  </p:cSld>
  <p:transition spd="slow" advTm="0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787320"/>
            <a:ext cx="9144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ydian"/>
              </a:rPr>
              <a:t>What is CSM?</a:t>
            </a:r>
            <a:endParaRPr b="0" lang="en-US" sz="6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476440"/>
            <a:ext cx="91440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oftware for deploying, managing, maintaining, and monitoring System x and System p servers from a single point of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457880"/>
            <a:ext cx="914400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for AIX and Lin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1A348-761C-4A23-9D73-7EBE3EC516C9}" type="slidenum">
              <a:t>3</a:t>
            </a:fld>
          </a:p>
        </p:txBody>
      </p:sp>
    </p:spTree>
  </p:cSld>
  <p:transition spd="slow" advTm="0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6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854360" y="444600"/>
            <a:ext cx="5422680" cy="26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CSM supports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 a wide variety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System p and System x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Lydian"/>
                <a:ea typeface="Arial"/>
              </a:rPr>
              <a:t>“nodes”</a:t>
            </a:r>
            <a:br>
              <a:rPr sz="3200"/>
            </a:b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2229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22296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2476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2247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227640" y="415296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229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222960" y="415764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22476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476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227640" y="415764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341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23412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23412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2355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37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355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24060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40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4060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240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234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619600" y="3998880"/>
            <a:ext cx="50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29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944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2341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34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2341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800600" y="4187880"/>
            <a:ext cx="64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216480" y="41623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21648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2164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1648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038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3900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390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390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8422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390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3900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8390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4224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487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848720" y="4157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84872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5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85160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8501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5340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85340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785340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8436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553080" y="4187880"/>
            <a:ext cx="5040" cy="4680"/>
          </a:xfrm>
          <a:custGeom>
            <a:avLst/>
            <a:gdLst/>
            <a:ahLst/>
            <a:rect l="l" t="t" r="r" b="b"/>
            <a:pathLst>
              <a:path w="3" h="4">
                <a:moveTo>
                  <a:pt x="3" y="4"/>
                </a:moveTo>
                <a:lnTo>
                  <a:pt x="3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843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4872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8487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487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832880" y="4157640"/>
            <a:ext cx="612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0" y="0"/>
                </a:move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83288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83288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83288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83288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0732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818480" y="42894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73880" y="4151160"/>
            <a:ext cx="324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3738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375680" y="415296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3756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771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373880" y="41623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373880" y="4157640"/>
            <a:ext cx="4680" cy="4680"/>
          </a:xfrm>
          <a:custGeom>
            <a:avLst/>
            <a:gdLst/>
            <a:ahLst/>
            <a:rect l="l" t="t" r="r" b="b"/>
            <a:pathLst>
              <a:path w="4" h="4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375680" y="4157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3756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3771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83600" y="4157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8360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850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864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850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8972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389720" y="4157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897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3836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41511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803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708520" y="3121200"/>
            <a:ext cx="3240" cy="4680"/>
          </a:xfrm>
          <a:custGeom>
            <a:avLst/>
            <a:gdLst/>
            <a:ahLst/>
            <a:rect l="l" t="t" r="r" b="b"/>
            <a:pathLst>
              <a:path w="2" h="4">
                <a:moveTo>
                  <a:pt x="2" y="4"/>
                </a:moveTo>
                <a:lnTo>
                  <a:pt x="2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380360" y="41623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8360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3836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38360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677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367760" y="4157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367760" y="415296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677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677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58040" y="42894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754680" y="415296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5648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756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759720" y="415296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754680" y="41623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5464080" y="4187880"/>
            <a:ext cx="6480" cy="4680"/>
          </a:xfrm>
          <a:custGeom>
            <a:avLst/>
            <a:gdLst/>
            <a:ahLst/>
            <a:rect l="l" t="t" r="r" b="b"/>
            <a:pathLst>
              <a:path w="5" h="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4"/>
                </a:lnTo>
                <a:lnTo>
                  <a:pt x="0" y="4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756480" y="4157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75648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759720" y="415764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765840" y="4157640"/>
            <a:ext cx="180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65840" y="4157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76584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676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6908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6764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72320" y="4157640"/>
            <a:ext cx="1440" cy="4680"/>
          </a:xfrm>
          <a:custGeom>
            <a:avLst/>
            <a:gdLst/>
            <a:ahLst/>
            <a:rect l="l" t="t" r="r" b="b"/>
            <a:pathLst>
              <a:path w="1" h="4">
                <a:moveTo>
                  <a:pt x="1" y="4"/>
                </a:moveTo>
                <a:lnTo>
                  <a:pt x="1" y="0"/>
                </a:lnTo>
                <a:lnTo>
                  <a:pt x="0" y="0"/>
                </a:lnTo>
                <a:lnTo>
                  <a:pt x="0" y="4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72320" y="41623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772320" y="4157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723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6584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761160" y="415116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761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61160" y="41623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765840" y="4157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65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765840" y="41623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48560" y="41623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48560" y="4157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485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48560" y="4151160"/>
            <a:ext cx="612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4856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2229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22296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22476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2247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7640" y="2824200"/>
            <a:ext cx="180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229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476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22476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227640" y="2825640"/>
            <a:ext cx="180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2341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23412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234120" y="274968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23556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2373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2355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240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4060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24060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240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234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229440" y="2744640"/>
            <a:ext cx="4680" cy="180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22944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229440" y="275112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22944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341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2341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34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2341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216480" y="2751120"/>
            <a:ext cx="6480" cy="468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4" y="0"/>
                </a:lnTo>
                <a:lnTo>
                  <a:pt x="4" y="3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216480" y="283212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1648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21648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21648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216480" y="274464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21648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038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3900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8390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390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8390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8422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8390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839000" y="28274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3"/>
                </a:lnTo>
                <a:lnTo>
                  <a:pt x="0" y="3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83900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8390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84224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8487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848720" y="28256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84872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85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85160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85016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5340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85340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85340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85340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85340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8487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843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8436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843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84872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84872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8487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487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83288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3288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83288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83288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83288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83288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83288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80732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818480" y="295920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373880" y="2820960"/>
            <a:ext cx="32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373880" y="28224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375680" y="282420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756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3771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73880" y="283212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375680" y="2825640"/>
            <a:ext cx="28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3756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3771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8360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383600" y="282564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38360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3850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3864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85040" y="28242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38972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389720" y="282564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9720" y="282564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972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8360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3803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380360" y="2827440"/>
            <a:ext cx="324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2" y="3"/>
                </a:moveTo>
                <a:lnTo>
                  <a:pt x="2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380360" y="283212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38360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38360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8360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38360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3677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367760" y="282240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367760" y="2825640"/>
            <a:ext cx="288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367760" y="282564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367760" y="2824200"/>
            <a:ext cx="288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3677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3677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358040" y="295920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0" y="0"/>
                  <a:pt x="1" y="3"/>
                  <a:pt x="1" y="3"/>
                </a:cubicBezTo>
                <a:cubicBezTo>
                  <a:pt x="1" y="4"/>
                  <a:pt x="0" y="6"/>
                  <a:pt x="0" y="6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754680" y="2820960"/>
            <a:ext cx="504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0" y="1"/>
                </a:moveTo>
                <a:lnTo>
                  <a:pt x="3" y="1"/>
                </a:lnTo>
                <a:lnTo>
                  <a:pt x="3" y="1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754680" y="2822400"/>
            <a:ext cx="648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6480" y="282420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5648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759720" y="2824200"/>
            <a:ext cx="14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754680" y="283212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756480" y="282564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75648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759720" y="2825640"/>
            <a:ext cx="14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6765840" y="2827440"/>
            <a:ext cx="180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65840" y="282564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76584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76764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76908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767640" y="28242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772320" y="2827440"/>
            <a:ext cx="1440" cy="4680"/>
          </a:xfrm>
          <a:custGeom>
            <a:avLst/>
            <a:gdLst/>
            <a:ahLst/>
            <a:rect l="l" t="t" r="r" b="b"/>
            <a:pathLst>
              <a:path w="1" h="3">
                <a:moveTo>
                  <a:pt x="1" y="3"/>
                </a:move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772320" y="283212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772320" y="28256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772320" y="282564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7232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76584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761160" y="2820960"/>
            <a:ext cx="4680" cy="1440"/>
          </a:xfrm>
          <a:custGeom>
            <a:avLst/>
            <a:gdLst/>
            <a:ahLst/>
            <a:rect l="l" t="t" r="r" b="b"/>
            <a:pathLst>
              <a:path w="3" h="1">
                <a:moveTo>
                  <a:pt x="3" y="1"/>
                </a:moveTo>
                <a:lnTo>
                  <a:pt x="3" y="0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61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61160" y="283212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765840" y="28256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765840" y="282564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765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765840" y="28321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748560" y="283212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748560" y="282240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748560" y="282564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2" y="0"/>
                </a:lnTo>
                <a:lnTo>
                  <a:pt x="2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748560" y="282564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7485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748560" y="282096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4" y="0"/>
                </a:lnTo>
                <a:lnTo>
                  <a:pt x="4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748560" y="282240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692520" y="4152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69252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69720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9252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6957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69252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69720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99420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6878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831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68604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36831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81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813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681360" y="415764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36813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6813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6813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6813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39895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687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68784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6878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6878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878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6878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004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00536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70368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70368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09840" y="417996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0"/>
                </a:moveTo>
                <a:lnTo>
                  <a:pt x="0" y="0"/>
                </a:lnTo>
                <a:lnTo>
                  <a:pt x="0" y="2"/>
                </a:lnTo>
                <a:lnTo>
                  <a:pt x="3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70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372420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cubicBezTo>
                  <a:pt x="1" y="0"/>
                  <a:pt x="1" y="2"/>
                  <a:pt x="1" y="3"/>
                </a:cubicBezTo>
                <a:cubicBezTo>
                  <a:pt x="1" y="5"/>
                  <a:pt x="1" y="5"/>
                  <a:pt x="0" y="5"/>
                </a:cubicBezTo>
                <a:cubicBezTo>
                  <a:pt x="0" y="5"/>
                  <a:pt x="0" y="5"/>
                  <a:pt x="0" y="6"/>
                </a:cubicBezTo>
                <a:cubicBezTo>
                  <a:pt x="1" y="6"/>
                  <a:pt x="1" y="4"/>
                  <a:pt x="1" y="3"/>
                </a:cubicBezTo>
                <a:cubicBezTo>
                  <a:pt x="1" y="3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38140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077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07792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0829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07792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07972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028880" y="424800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07792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0829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237960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07324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06856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71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0685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206676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6676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76160" y="4187880"/>
            <a:ext cx="180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066760" y="41608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2066760" y="41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066760" y="4156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066760" y="41529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0732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73240" y="4157640"/>
            <a:ext cx="324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73240" y="41608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7324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7324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7324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07324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2084400" y="415764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08440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08764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0876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087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08440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16080" y="4287960"/>
            <a:ext cx="360" cy="7920"/>
          </a:xfrm>
          <a:custGeom>
            <a:avLst/>
            <a:gdLst/>
            <a:ahLst/>
            <a:rect l="l" t="t" r="r" b="b"/>
            <a:pathLst>
              <a:path w="0" h="6">
                <a:moveTo>
                  <a:pt x="0" y="3"/>
                </a:move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2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4"/>
                </a:cubicBezTo>
                <a:cubicBezTo>
                  <a:pt x="0" y="5"/>
                  <a:pt x="0" y="6"/>
                  <a:pt x="0" y="6"/>
                </a:cubicBezTo>
                <a:cubicBezTo>
                  <a:pt x="0" y="6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5"/>
                  <a:pt x="0" y="5"/>
                </a:cubicBezTo>
                <a:cubicBezTo>
                  <a:pt x="0" y="5"/>
                  <a:pt x="0" y="5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3"/>
                  <a:pt x="0" y="3"/>
                  <a:pt x="0" y="3"/>
                </a:cubicBezTo>
                <a:cubicBezTo>
                  <a:pt x="0" y="3"/>
                  <a:pt x="0" y="3"/>
                  <a:pt x="0" y="3"/>
                </a:cubicBezTo>
                <a:cubicBezTo>
                  <a:pt x="0" y="2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10816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1" y="0"/>
                  <a:pt x="0" y="3"/>
                  <a:pt x="0" y="3"/>
                </a:cubicBezTo>
                <a:cubicBezTo>
                  <a:pt x="0" y="4"/>
                  <a:pt x="1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1" y="5"/>
                  <a:pt x="1" y="5"/>
                  <a:pt x="1" y="3"/>
                </a:cubicBezTo>
                <a:cubicBezTo>
                  <a:pt x="1" y="2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544840" y="4149720"/>
            <a:ext cx="4680" cy="3240"/>
          </a:xfrm>
          <a:custGeom>
            <a:avLst/>
            <a:gdLst/>
            <a:ahLst/>
            <a:rect l="l" t="t" r="r" b="b"/>
            <a:pathLst>
              <a:path w="3" h="2">
                <a:moveTo>
                  <a:pt x="3" y="2"/>
                </a:move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54484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44840" y="4152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480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544840" y="415296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25448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544840" y="4156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480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544840" y="4156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53368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535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253368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3044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5304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81040" y="4248000"/>
            <a:ext cx="3240" cy="32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530440" y="41608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283212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53044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5304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53692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53836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538360" y="4157640"/>
            <a:ext cx="4680" cy="3240"/>
          </a:xfrm>
          <a:custGeom>
            <a:avLst/>
            <a:gdLst/>
            <a:ahLst/>
            <a:rect l="l" t="t" r="r" b="b"/>
            <a:pathLst>
              <a:path w="3" h="3">
                <a:moveTo>
                  <a:pt x="0" y="3"/>
                </a:moveTo>
                <a:lnTo>
                  <a:pt x="0" y="0"/>
                </a:lnTo>
                <a:lnTo>
                  <a:pt x="3" y="0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3836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53836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53836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3836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53692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49520" y="4157640"/>
            <a:ext cx="648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5495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25527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5527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5527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5495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160800" y="4152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160800" y="4152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16548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16080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162240" y="41608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160800" y="4157640"/>
            <a:ext cx="6120" cy="32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60800" y="4156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16548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16080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156120" y="4157640"/>
            <a:ext cx="360" cy="32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151080" y="4156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15288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151080" y="4152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14964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14964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149640" y="4157640"/>
            <a:ext cx="1440" cy="32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149640" y="41608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149640" y="4156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3149640" y="4156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149640" y="41529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3156120" y="4149720"/>
            <a:ext cx="46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0" y="2"/>
                </a:moveTo>
                <a:lnTo>
                  <a:pt x="0" y="0"/>
                </a:lnTo>
                <a:lnTo>
                  <a:pt x="4" y="0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156120" y="4152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3156120" y="41608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156120" y="4156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156120" y="4156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156120" y="415296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3156120" y="41608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166920" y="41608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170160" y="4156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3170160" y="4156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170160" y="4152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468600" y="4149720"/>
            <a:ext cx="6480" cy="3240"/>
          </a:xfrm>
          <a:custGeom>
            <a:avLst/>
            <a:gdLst/>
            <a:ahLst/>
            <a:rect l="l" t="t" r="r" b="b"/>
            <a:pathLst>
              <a:path w="4" h="2">
                <a:moveTo>
                  <a:pt x="4" y="0"/>
                </a:moveTo>
                <a:lnTo>
                  <a:pt x="0" y="0"/>
                </a:lnTo>
                <a:lnTo>
                  <a:pt x="0" y="2"/>
                </a:lnTo>
                <a:lnTo>
                  <a:pt x="4" y="2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66920" y="4152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191040" y="4287960"/>
            <a:ext cx="360" cy="7920"/>
          </a:xfrm>
          <a:custGeom>
            <a:avLst/>
            <a:gdLst/>
            <a:ahLst/>
            <a:rect l="l" t="t" r="r" b="b"/>
            <a:pathLst>
              <a:path w="1" h="6">
                <a:moveTo>
                  <a:pt x="1" y="0"/>
                </a:moveTo>
                <a:cubicBezTo>
                  <a:pt x="0" y="0"/>
                  <a:pt x="0" y="3"/>
                  <a:pt x="0" y="3"/>
                </a:cubicBezTo>
                <a:cubicBezTo>
                  <a:pt x="0" y="4"/>
                  <a:pt x="0" y="6"/>
                  <a:pt x="1" y="6"/>
                </a:cubicBezTo>
                <a:cubicBezTo>
                  <a:pt x="1" y="5"/>
                  <a:pt x="1" y="5"/>
                  <a:pt x="1" y="5"/>
                </a:cubicBezTo>
                <a:cubicBezTo>
                  <a:pt x="0" y="5"/>
                  <a:pt x="0" y="5"/>
                  <a:pt x="0" y="3"/>
                </a:cubicBezTo>
                <a:cubicBezTo>
                  <a:pt x="0" y="2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36957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692520" y="2820960"/>
            <a:ext cx="7920" cy="360"/>
          </a:xfrm>
          <a:custGeom>
            <a:avLst/>
            <a:gdLst/>
            <a:ahLst/>
            <a:rect l="l" t="t" r="r" b="b"/>
            <a:pathLst>
              <a:path w="5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9252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369720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69252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6957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369252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369720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369252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6878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6831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68604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6831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681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6813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6813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813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36813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13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6813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3687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687840" y="282564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68784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878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6878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6878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6878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171960" y="2220840"/>
            <a:ext cx="4680" cy="46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0"/>
                </a:moveTo>
                <a:lnTo>
                  <a:pt x="0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7004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03680" y="28209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370368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70368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370368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70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372420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0" y="0"/>
                </a:moveTo>
                <a:cubicBezTo>
                  <a:pt x="1" y="0"/>
                  <a:pt x="1" y="1"/>
                  <a:pt x="1" y="2"/>
                </a:cubicBezTo>
                <a:cubicBezTo>
                  <a:pt x="1" y="4"/>
                  <a:pt x="1" y="4"/>
                  <a:pt x="0" y="4"/>
                </a:cubicBezTo>
                <a:cubicBezTo>
                  <a:pt x="0" y="4"/>
                  <a:pt x="0" y="4"/>
                  <a:pt x="0" y="5"/>
                </a:cubicBezTo>
                <a:cubicBezTo>
                  <a:pt x="1" y="5"/>
                  <a:pt x="1" y="4"/>
                  <a:pt x="1" y="2"/>
                </a:cubicBezTo>
                <a:cubicBezTo>
                  <a:pt x="1" y="2"/>
                  <a:pt x="1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07972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077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07792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0829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07792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07972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89440" y="21906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7792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0829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07792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07324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06856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07180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06856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066760" y="282096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06676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066760" y="282564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066760" y="283068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066760" y="282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066760" y="28242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066760" y="2822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073240" y="282096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073240" y="283068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07324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07324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07324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07324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08440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087640" y="28209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087640" y="282420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0876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0876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8440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116080" y="2959200"/>
            <a:ext cx="360" cy="61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2"/>
                </a:move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1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4"/>
                </a:cubicBezTo>
                <a:cubicBezTo>
                  <a:pt x="0" y="4"/>
                  <a:pt x="0" y="5"/>
                  <a:pt x="0" y="5"/>
                </a:cubicBezTo>
                <a:cubicBezTo>
                  <a:pt x="0" y="5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0" y="2"/>
                  <a:pt x="0" y="2"/>
                </a:cubicBezTo>
                <a:cubicBezTo>
                  <a:pt x="0" y="2"/>
                  <a:pt x="0" y="2"/>
                  <a:pt x="0" y="2"/>
                </a:cubicBezTo>
                <a:cubicBezTo>
                  <a:pt x="0" y="1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10816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1" y="0"/>
                  <a:pt x="0" y="2"/>
                  <a:pt x="0" y="2"/>
                </a:cubicBezTo>
                <a:cubicBezTo>
                  <a:pt x="0" y="4"/>
                  <a:pt x="1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1" y="4"/>
                  <a:pt x="1" y="4"/>
                  <a:pt x="1" y="2"/>
                </a:cubicBezTo>
                <a:cubicBezTo>
                  <a:pt x="1" y="1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54484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44840" y="28224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480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544840" y="2822400"/>
            <a:ext cx="36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5448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608280" y="2190600"/>
            <a:ext cx="504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2544840" y="2824200"/>
            <a:ext cx="32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5480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2544840" y="2824200"/>
            <a:ext cx="36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98680" y="2190600"/>
            <a:ext cx="180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3368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9724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53368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25304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25304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594240" y="2190600"/>
            <a:ext cx="2880" cy="504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3"/>
                </a:moveTo>
                <a:lnTo>
                  <a:pt x="0" y="0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530440" y="283068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0" y="0"/>
                </a:moveTo>
                <a:lnTo>
                  <a:pt x="0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9256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53044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253044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253692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53836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53836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53836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53836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253836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253692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5495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616200" y="21859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314880" y="2189160"/>
            <a:ext cx="288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5527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5527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5495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162240" y="282096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160800" y="2820960"/>
            <a:ext cx="612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160800" y="28224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16548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16080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162240" y="283068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160800" y="282420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16548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922560" y="21891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156120" y="2825640"/>
            <a:ext cx="360" cy="504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3"/>
                </a:move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151080" y="28242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0" y="0"/>
                </a:lnTo>
                <a:lnTo>
                  <a:pt x="3" y="0"/>
                </a:lnTo>
                <a:lnTo>
                  <a:pt x="3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91464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0" y="1"/>
                </a:moveTo>
                <a:lnTo>
                  <a:pt x="0" y="0"/>
                </a:lnTo>
                <a:lnTo>
                  <a:pt x="2" y="0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151080" y="2822400"/>
            <a:ext cx="504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149640" y="282096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149640" y="282240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911760" y="2190600"/>
            <a:ext cx="1440" cy="5040"/>
          </a:xfrm>
          <a:custGeom>
            <a:avLst/>
            <a:gdLst/>
            <a:ahLst/>
            <a:rect l="l" t="t" r="r" b="b"/>
            <a:pathLst>
              <a:path w="1" h="3">
                <a:moveTo>
                  <a:pt x="0" y="3"/>
                </a:moveTo>
                <a:lnTo>
                  <a:pt x="0" y="0"/>
                </a:lnTo>
                <a:lnTo>
                  <a:pt x="1" y="0"/>
                </a:lnTo>
                <a:lnTo>
                  <a:pt x="1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149640" y="28306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149640" y="28242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149640" y="28242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49640" y="282240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156120" y="282096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219560" y="2190600"/>
            <a:ext cx="468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0" y="3"/>
                </a:moveTo>
                <a:lnTo>
                  <a:pt x="0" y="0"/>
                </a:lnTo>
                <a:lnTo>
                  <a:pt x="4" y="0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3156120" y="2830680"/>
            <a:ext cx="46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0" y="0"/>
                </a:move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3156120" y="28242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3156120" y="28242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156120" y="28224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3156120" y="283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78440" y="2190600"/>
            <a:ext cx="6120" cy="5040"/>
          </a:xfrm>
          <a:custGeom>
            <a:avLst/>
            <a:gdLst/>
            <a:ahLst/>
            <a:rect l="l" t="t" r="r" b="b"/>
            <a:pathLst>
              <a:path w="4" h="3">
                <a:moveTo>
                  <a:pt x="4" y="0"/>
                </a:moveTo>
                <a:lnTo>
                  <a:pt x="0" y="0"/>
                </a:lnTo>
                <a:lnTo>
                  <a:pt x="0" y="3"/>
                </a:lnTo>
                <a:lnTo>
                  <a:pt x="4" y="3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3166920" y="283068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33960" y="218592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932280" y="2189160"/>
            <a:ext cx="3240" cy="144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0"/>
                </a:moveTo>
                <a:lnTo>
                  <a:pt x="0" y="0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170160" y="28242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3170160" y="2822400"/>
            <a:ext cx="3240" cy="360"/>
          </a:xfrm>
          <a:custGeom>
            <a:avLst/>
            <a:gdLst/>
            <a:ahLst/>
            <a:rect l="l" t="t" r="r" b="b"/>
            <a:pathLst>
              <a:path w="2" h="0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2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3166920" y="2820960"/>
            <a:ext cx="6480" cy="360"/>
          </a:xfrm>
          <a:custGeom>
            <a:avLst/>
            <a:gdLst/>
            <a:ahLst/>
            <a:rect l="l" t="t" r="r" b="b"/>
            <a:pathLst>
              <a:path w="4" h="0">
                <a:moveTo>
                  <a:pt x="4" y="0"/>
                </a:move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191040" y="2959200"/>
            <a:ext cx="360" cy="61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cubicBezTo>
                  <a:pt x="0" y="0"/>
                  <a:pt x="0" y="2"/>
                  <a:pt x="0" y="2"/>
                </a:cubicBezTo>
                <a:cubicBezTo>
                  <a:pt x="0" y="4"/>
                  <a:pt x="0" y="5"/>
                  <a:pt x="1" y="5"/>
                </a:cubicBezTo>
                <a:cubicBezTo>
                  <a:pt x="1" y="4"/>
                  <a:pt x="1" y="4"/>
                  <a:pt x="1" y="4"/>
                </a:cubicBezTo>
                <a:cubicBezTo>
                  <a:pt x="0" y="4"/>
                  <a:pt x="0" y="4"/>
                  <a:pt x="0" y="2"/>
                </a:cubicBezTo>
                <a:cubicBezTo>
                  <a:pt x="0" y="1"/>
                  <a:pt x="0" y="0"/>
                  <a:pt x="1" y="0"/>
                </a:cubicBezTo>
                <a:cubicBezTo>
                  <a:pt x="1" y="0"/>
                  <a:pt x="1" y="0"/>
                  <a:pt x="1" y="0"/>
                </a:cubicBezTo>
                <a:cubicBezTo>
                  <a:pt x="1" y="0"/>
                  <a:pt x="1" y="0"/>
                  <a:pt x="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977760" y="2679840"/>
            <a:ext cx="2527200" cy="1718280"/>
            <a:chOff x="977760" y="2679840"/>
            <a:chExt cx="2527200" cy="1718280"/>
          </a:xfrm>
        </p:grpSpPr>
        <p:grpSp>
          <p:nvGrpSpPr>
            <p:cNvPr id="878" name=""/>
            <p:cNvGrpSpPr/>
            <p:nvPr/>
          </p:nvGrpSpPr>
          <p:grpSpPr>
            <a:xfrm>
              <a:off x="977760" y="2679840"/>
              <a:ext cx="1469880" cy="1718280"/>
              <a:chOff x="977760" y="2679840"/>
              <a:chExt cx="1469880" cy="1718280"/>
            </a:xfrm>
          </p:grpSpPr>
          <p:sp>
            <p:nvSpPr>
              <p:cNvPr id="879" name=""/>
              <p:cNvSpPr/>
              <p:nvPr/>
            </p:nvSpPr>
            <p:spPr>
              <a:xfrm>
                <a:off x="977760" y="2679840"/>
                <a:ext cx="1447920" cy="1387440"/>
              </a:xfrm>
              <a:prstGeom prst="ellipse">
                <a:avLst/>
              </a:prstGeom>
              <a:solidFill>
                <a:srgbClr val="0000ff">
                  <a:alpha val="4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0" name=""/>
              <p:cNvGrpSpPr/>
              <p:nvPr/>
            </p:nvGrpSpPr>
            <p:grpSpPr>
              <a:xfrm>
                <a:off x="1054080" y="2908440"/>
                <a:ext cx="1393560" cy="1489680"/>
                <a:chOff x="1054080" y="2908440"/>
                <a:chExt cx="1393560" cy="1489680"/>
              </a:xfrm>
            </p:grpSpPr>
            <p:pic>
              <p:nvPicPr>
                <p:cNvPr id="881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87240" y="3365280"/>
                  <a:ext cx="48204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2" name=""/>
                <p:cNvSpPr/>
                <p:nvPr/>
              </p:nvSpPr>
              <p:spPr>
                <a:xfrm>
                  <a:off x="1054080" y="3898800"/>
                  <a:ext cx="1393560" cy="49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System p Server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AIX or Linux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3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06000" y="3060720"/>
                  <a:ext cx="48240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434600" y="3213000"/>
                  <a:ext cx="482400" cy="550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054080" y="2908440"/>
                  <a:ext cx="48240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86" name=""/>
            <p:cNvSpPr/>
            <p:nvPr/>
          </p:nvSpPr>
          <p:spPr>
            <a:xfrm flipH="1">
              <a:off x="2488680" y="3390840"/>
              <a:ext cx="101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7" name=""/>
          <p:cNvGrpSpPr/>
          <p:nvPr/>
        </p:nvGrpSpPr>
        <p:grpSpPr>
          <a:xfrm>
            <a:off x="5600880" y="2770200"/>
            <a:ext cx="2565360" cy="1389960"/>
            <a:chOff x="5600880" y="2770200"/>
            <a:chExt cx="2565360" cy="1389960"/>
          </a:xfrm>
        </p:grpSpPr>
        <p:grpSp>
          <p:nvGrpSpPr>
            <p:cNvPr id="888" name=""/>
            <p:cNvGrpSpPr/>
            <p:nvPr/>
          </p:nvGrpSpPr>
          <p:grpSpPr>
            <a:xfrm>
              <a:off x="6299280" y="2770200"/>
              <a:ext cx="1866960" cy="1389960"/>
              <a:chOff x="6299280" y="2770200"/>
              <a:chExt cx="1866960" cy="1389960"/>
            </a:xfrm>
          </p:grpSpPr>
          <p:sp>
            <p:nvSpPr>
              <p:cNvPr id="889" name=""/>
              <p:cNvSpPr/>
              <p:nvPr/>
            </p:nvSpPr>
            <p:spPr>
              <a:xfrm>
                <a:off x="7145280" y="2770200"/>
                <a:ext cx="457200" cy="438120"/>
              </a:xfrm>
              <a:prstGeom prst="ellipse">
                <a:avLst/>
              </a:prstGeom>
              <a:solidFill>
                <a:srgbClr val="ffcc00">
                  <a:alpha val="5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299280" y="3162240"/>
                <a:ext cx="685800" cy="656640"/>
              </a:xfrm>
              <a:prstGeom prst="ellipse">
                <a:avLst/>
              </a:prstGeom>
              <a:solidFill>
                <a:srgbClr val="ffcc00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1" name=""/>
              <p:cNvGrpSpPr/>
              <p:nvPr/>
            </p:nvGrpSpPr>
            <p:grpSpPr>
              <a:xfrm>
                <a:off x="6527880" y="2933640"/>
                <a:ext cx="1638360" cy="1226520"/>
                <a:chOff x="6527880" y="2933640"/>
                <a:chExt cx="1638360" cy="1226520"/>
              </a:xfrm>
            </p:grpSpPr>
            <p:pic>
              <p:nvPicPr>
                <p:cNvPr id="892" name="" descr=""/>
                <p:cNvPicPr/>
                <p:nvPr/>
              </p:nvPicPr>
              <p:blipFill>
                <a:blip r:embed="rId5"/>
                <a:srcRect l="36922" t="51389" r="3357" b="14150"/>
                <a:stretch/>
              </p:blipFill>
              <p:spPr>
                <a:xfrm>
                  <a:off x="6527880" y="2933640"/>
                  <a:ext cx="1638360" cy="629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3" name=""/>
                <p:cNvSpPr/>
                <p:nvPr/>
              </p:nvSpPr>
              <p:spPr>
                <a:xfrm>
                  <a:off x="6604200" y="3526920"/>
                  <a:ext cx="144756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System x Server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Linux on Intel and Optero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94" name=""/>
            <p:cNvSpPr/>
            <p:nvPr/>
          </p:nvSpPr>
          <p:spPr>
            <a:xfrm flipH="1">
              <a:off x="5600880" y="3378240"/>
              <a:ext cx="58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3716280" y="4495680"/>
            <a:ext cx="1905120" cy="1413000"/>
            <a:chOff x="3716280" y="4495680"/>
            <a:chExt cx="1905120" cy="1413000"/>
          </a:xfrm>
        </p:grpSpPr>
        <p:grpSp>
          <p:nvGrpSpPr>
            <p:cNvPr id="896" name=""/>
            <p:cNvGrpSpPr/>
            <p:nvPr/>
          </p:nvGrpSpPr>
          <p:grpSpPr>
            <a:xfrm>
              <a:off x="3716280" y="4813200"/>
              <a:ext cx="1905120" cy="1095480"/>
              <a:chOff x="3716280" y="4813200"/>
              <a:chExt cx="1905120" cy="1095480"/>
            </a:xfrm>
          </p:grpSpPr>
          <p:sp>
            <p:nvSpPr>
              <p:cNvPr id="897" name=""/>
              <p:cNvSpPr/>
              <p:nvPr/>
            </p:nvSpPr>
            <p:spPr>
              <a:xfrm>
                <a:off x="4025880" y="4813200"/>
                <a:ext cx="1143000" cy="1095480"/>
              </a:xfrm>
              <a:prstGeom prst="ellipse">
                <a:avLst/>
              </a:prstGeom>
              <a:solidFill>
                <a:srgbClr val="00808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8" name=""/>
              <p:cNvGrpSpPr/>
              <p:nvPr/>
            </p:nvGrpSpPr>
            <p:grpSpPr>
              <a:xfrm>
                <a:off x="3716280" y="5092560"/>
                <a:ext cx="1905120" cy="680760"/>
                <a:chOff x="3716280" y="5092560"/>
                <a:chExt cx="1905120" cy="680760"/>
              </a:xfrm>
            </p:grpSpPr>
            <p:pic>
              <p:nvPicPr>
                <p:cNvPr id="89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887640" y="5092560"/>
                  <a:ext cx="1447920" cy="17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0" name=""/>
                <p:cNvSpPr/>
                <p:nvPr/>
              </p:nvSpPr>
              <p:spPr>
                <a:xfrm>
                  <a:off x="3716280" y="5229000"/>
                  <a:ext cx="1905120" cy="54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Devices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HMCs, IVMs, MMs, BMCs, terminal servers, etc.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01" name=""/>
            <p:cNvSpPr/>
            <p:nvPr/>
          </p:nvSpPr>
          <p:spPr>
            <a:xfrm>
              <a:off x="4597560" y="449568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177840" y="584280"/>
            <a:ext cx="3492360" cy="2463840"/>
            <a:chOff x="177840" y="584280"/>
            <a:chExt cx="3492360" cy="2463840"/>
          </a:xfrm>
        </p:grpSpPr>
        <p:grpSp>
          <p:nvGrpSpPr>
            <p:cNvPr id="903" name=""/>
            <p:cNvGrpSpPr/>
            <p:nvPr/>
          </p:nvGrpSpPr>
          <p:grpSpPr>
            <a:xfrm>
              <a:off x="177840" y="584280"/>
              <a:ext cx="2019240" cy="1858680"/>
              <a:chOff x="177840" y="584280"/>
              <a:chExt cx="2019240" cy="1858680"/>
            </a:xfrm>
          </p:grpSpPr>
          <p:sp>
            <p:nvSpPr>
              <p:cNvPr id="904" name=""/>
              <p:cNvSpPr/>
              <p:nvPr/>
            </p:nvSpPr>
            <p:spPr>
              <a:xfrm>
                <a:off x="438480" y="708120"/>
                <a:ext cx="1497960" cy="1423080"/>
              </a:xfrm>
              <a:prstGeom prst="ellipse">
                <a:avLst/>
              </a:prstGeom>
              <a:solidFill>
                <a:srgbClr val="ff0000">
                  <a:alpha val="4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5" name=""/>
              <p:cNvGrpSpPr/>
              <p:nvPr/>
            </p:nvGrpSpPr>
            <p:grpSpPr>
              <a:xfrm>
                <a:off x="177840" y="584280"/>
                <a:ext cx="2019240" cy="1858680"/>
                <a:chOff x="177840" y="584280"/>
                <a:chExt cx="2019240" cy="1858680"/>
              </a:xfrm>
            </p:grpSpPr>
            <p:sp>
              <p:nvSpPr>
                <p:cNvPr id="906" name=""/>
                <p:cNvSpPr/>
                <p:nvPr/>
              </p:nvSpPr>
              <p:spPr>
                <a:xfrm>
                  <a:off x="177840" y="2126160"/>
                  <a:ext cx="2019240" cy="31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System p Cluster 160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(AIX or Linux)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7" name=""/>
                <p:cNvGrpSpPr/>
                <p:nvPr/>
              </p:nvGrpSpPr>
              <p:grpSpPr>
                <a:xfrm>
                  <a:off x="250920" y="584280"/>
                  <a:ext cx="1845000" cy="1494000"/>
                  <a:chOff x="250920" y="584280"/>
                  <a:chExt cx="1845000" cy="1494000"/>
                </a:xfrm>
              </p:grpSpPr>
              <p:sp>
                <p:nvSpPr>
                  <p:cNvPr id="908" name=""/>
                  <p:cNvSpPr/>
                  <p:nvPr/>
                </p:nvSpPr>
                <p:spPr>
                  <a:xfrm>
                    <a:off x="1759680" y="1299600"/>
                    <a:ext cx="1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1" y="3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1185480" y="1324080"/>
                    <a:ext cx="396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0" y="3"/>
                        </a:move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740520" y="1690200"/>
                    <a:ext cx="64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91040" y="1010880"/>
                    <a:ext cx="326520" cy="2797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1380960" y="1055880"/>
                    <a:ext cx="0" cy="25236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933120" y="1035360"/>
                    <a:ext cx="0" cy="25236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 flipH="1">
                    <a:off x="1572120" y="1067400"/>
                    <a:ext cx="219960" cy="21168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1380960" y="1420920"/>
                    <a:ext cx="0" cy="25344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933120" y="1400040"/>
                    <a:ext cx="0" cy="25236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1558800" y="1392480"/>
                    <a:ext cx="329760" cy="28080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"/>
                  <p:cNvSpPr/>
                  <p:nvPr/>
                </p:nvSpPr>
                <p:spPr>
                  <a:xfrm flipH="1">
                    <a:off x="451440" y="1395000"/>
                    <a:ext cx="318600" cy="315720"/>
                  </a:xfrm>
                  <a:prstGeom prst="line">
                    <a:avLst/>
                  </a:prstGeom>
                  <a:ln w="507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672840" y="1275120"/>
                    <a:ext cx="10893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82" h="122">
                        <a:moveTo>
                          <a:pt x="166" y="122"/>
                        </a:moveTo>
                        <a:lnTo>
                          <a:pt x="11" y="113"/>
                        </a:lnTo>
                        <a:lnTo>
                          <a:pt x="0" y="0"/>
                        </a:lnTo>
                        <a:lnTo>
                          <a:pt x="662" y="0"/>
                        </a:lnTo>
                        <a:lnTo>
                          <a:pt x="882" y="9"/>
                        </a:lnTo>
                        <a:lnTo>
                          <a:pt x="882" y="122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b4b4b4"/>
                      </a:gs>
                      <a:gs pos="100000">
                        <a:srgbClr val="f0f0f0"/>
                      </a:gs>
                    </a:gsLst>
                    <a:lin ang="10800000"/>
                  </a:gradFill>
                  <a:ln w="255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686520" y="1275120"/>
                    <a:ext cx="23976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2">
                        <a:moveTo>
                          <a:pt x="0" y="0"/>
                        </a:moveTo>
                        <a:lnTo>
                          <a:pt x="156" y="9"/>
                        </a:lnTo>
                        <a:lnTo>
                          <a:pt x="156" y="49"/>
                        </a:lnTo>
                        <a:lnTo>
                          <a:pt x="195" y="49"/>
                        </a:lnTo>
                        <a:lnTo>
                          <a:pt x="165" y="55"/>
                        </a:lnTo>
                        <a:lnTo>
                          <a:pt x="165" y="72"/>
                        </a:lnTo>
                        <a:lnTo>
                          <a:pt x="195" y="72"/>
                        </a:lnTo>
                        <a:lnTo>
                          <a:pt x="160" y="80"/>
                        </a:lnTo>
                        <a:lnTo>
                          <a:pt x="195" y="80"/>
                        </a:lnTo>
                        <a:lnTo>
                          <a:pt x="160" y="86"/>
                        </a:lnTo>
                        <a:lnTo>
                          <a:pt x="195" y="86"/>
                        </a:lnTo>
                        <a:lnTo>
                          <a:pt x="160" y="94"/>
                        </a:lnTo>
                        <a:lnTo>
                          <a:pt x="195" y="94"/>
                        </a:lnTo>
                        <a:lnTo>
                          <a:pt x="160" y="102"/>
                        </a:lnTo>
                        <a:lnTo>
                          <a:pt x="195" y="102"/>
                        </a:lnTo>
                        <a:lnTo>
                          <a:pt x="160" y="109"/>
                        </a:lnTo>
                        <a:lnTo>
                          <a:pt x="195" y="109"/>
                        </a:lnTo>
                        <a:lnTo>
                          <a:pt x="156" y="117"/>
                        </a:lnTo>
                        <a:lnTo>
                          <a:pt x="156" y="122"/>
                        </a:lnTo>
                        <a:lnTo>
                          <a:pt x="0" y="113"/>
                        </a:lnTo>
                        <a:lnTo>
                          <a:pt x="0" y="52"/>
                        </a:lnTo>
                        <a:lnTo>
                          <a:pt x="0" y="49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464646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"/>
                  <p:cNvSpPr/>
                  <p:nvPr/>
                </p:nvSpPr>
                <p:spPr>
                  <a:xfrm>
                    <a:off x="1496520" y="1357920"/>
                    <a:ext cx="0" cy="486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" bIns="1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"/>
                  <p:cNvSpPr/>
                  <p:nvPr/>
                </p:nvSpPr>
                <p:spPr>
                  <a:xfrm flipH="1">
                    <a:off x="889920" y="1357920"/>
                    <a:ext cx="6062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1709640" y="1356480"/>
                    <a:ext cx="0" cy="529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"/>
                  <p:cNvSpPr/>
                  <p:nvPr/>
                </p:nvSpPr>
                <p:spPr>
                  <a:xfrm flipH="1">
                    <a:off x="1560240" y="1356480"/>
                    <a:ext cx="149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"/>
                  <p:cNvSpPr/>
                  <p:nvPr/>
                </p:nvSpPr>
                <p:spPr>
                  <a:xfrm>
                    <a:off x="1546560" y="1356480"/>
                    <a:ext cx="13680" cy="489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43">
                        <a:moveTo>
                          <a:pt x="11" y="0"/>
                        </a:moveTo>
                        <a:lnTo>
                          <a:pt x="0" y="0"/>
                        </a:lnTo>
                        <a:lnTo>
                          <a:pt x="0" y="43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" bIns="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1546560" y="1356480"/>
                    <a:ext cx="16308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9">
                        <a:moveTo>
                          <a:pt x="109" y="0"/>
                        </a:moveTo>
                        <a:lnTo>
                          <a:pt x="132" y="9"/>
                        </a:lnTo>
                        <a:lnTo>
                          <a:pt x="2" y="9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1545480" y="1366560"/>
                    <a:ext cx="15588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6">
                        <a:moveTo>
                          <a:pt x="110" y="0"/>
                        </a:moveTo>
                        <a:lnTo>
                          <a:pt x="126" y="6"/>
                        </a:lnTo>
                        <a:lnTo>
                          <a:pt x="1" y="6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"/>
                  <p:cNvSpPr/>
                  <p:nvPr/>
                </p:nvSpPr>
                <p:spPr>
                  <a:xfrm>
                    <a:off x="1545480" y="1373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">
                        <a:moveTo>
                          <a:pt x="110" y="0"/>
                        </a:moveTo>
                        <a:lnTo>
                          <a:pt x="126" y="8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"/>
                  <p:cNvSpPr/>
                  <p:nvPr/>
                </p:nvSpPr>
                <p:spPr>
                  <a:xfrm>
                    <a:off x="1545480" y="1382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">
                        <a:moveTo>
                          <a:pt x="110" y="0"/>
                        </a:moveTo>
                        <a:lnTo>
                          <a:pt x="126" y="8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1545480" y="1391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7">
                        <a:moveTo>
                          <a:pt x="110" y="0"/>
                        </a:moveTo>
                        <a:lnTo>
                          <a:pt x="126" y="7"/>
                        </a:lnTo>
                        <a:lnTo>
                          <a:pt x="1" y="7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1545480" y="1400040"/>
                    <a:ext cx="155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6" h="8">
                        <a:moveTo>
                          <a:pt x="110" y="0"/>
                        </a:moveTo>
                        <a:lnTo>
                          <a:pt x="126" y="8"/>
                        </a:lnTo>
                        <a:lnTo>
                          <a:pt x="1" y="8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2" name=""/>
                  <p:cNvSpPr/>
                  <p:nvPr/>
                </p:nvSpPr>
                <p:spPr>
                  <a:xfrm>
                    <a:off x="1546560" y="1330560"/>
                    <a:ext cx="1630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" h="6">
                        <a:moveTo>
                          <a:pt x="120" y="0"/>
                        </a:moveTo>
                        <a:lnTo>
                          <a:pt x="132" y="6"/>
                        </a:lnTo>
                        <a:lnTo>
                          <a:pt x="7" y="6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1545480" y="1330560"/>
                    <a:ext cx="1641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133" h="6">
                        <a:moveTo>
                          <a:pt x="133" y="6"/>
                        </a:moveTo>
                        <a:lnTo>
                          <a:pt x="133" y="0"/>
                        </a:lnTo>
                        <a:lnTo>
                          <a:pt x="0" y="0"/>
                        </a:lnTo>
                        <a:lnTo>
                          <a:pt x="0" y="6"/>
                        </a:lnTo>
                        <a:lnTo>
                          <a:pt x="12" y="6"/>
                        </a:lnTo>
                        <a:lnTo>
                          <a:pt x="1" y="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879120" y="1285560"/>
                    <a:ext cx="883440" cy="12888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113">
                        <a:moveTo>
                          <a:pt x="715" y="113"/>
                        </a:moveTo>
                        <a:lnTo>
                          <a:pt x="715" y="0"/>
                        </a:lnTo>
                        <a:lnTo>
                          <a:pt x="0" y="0"/>
                        </a:lnTo>
                        <a:lnTo>
                          <a:pt x="0" y="4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5" name=""/>
                  <p:cNvSpPr/>
                  <p:nvPr/>
                </p:nvSpPr>
                <p:spPr>
                  <a:xfrm>
                    <a:off x="889920" y="1338120"/>
                    <a:ext cx="0" cy="19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6" name=""/>
                  <p:cNvSpPr/>
                  <p:nvPr/>
                </p:nvSpPr>
                <p:spPr>
                  <a:xfrm>
                    <a:off x="879120" y="1406520"/>
                    <a:ext cx="8834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715" h="7">
                        <a:moveTo>
                          <a:pt x="715" y="7"/>
                        </a:moveTo>
                        <a:lnTo>
                          <a:pt x="0" y="7"/>
                        </a:lnTo>
                        <a:lnTo>
                          <a:pt x="0" y="0"/>
                        </a:lnTo>
                        <a:lnTo>
                          <a:pt x="0" y="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"/>
                  <p:cNvSpPr/>
                  <p:nvPr/>
                </p:nvSpPr>
                <p:spPr>
                  <a:xfrm>
                    <a:off x="686520" y="1275120"/>
                    <a:ext cx="1076040" cy="139320"/>
                  </a:xfrm>
                  <a:custGeom>
                    <a:avLst/>
                    <a:gdLst/>
                    <a:ahLst/>
                    <a:rect l="l" t="t" r="r" b="b"/>
                    <a:pathLst>
                      <a:path w="871" h="122">
                        <a:moveTo>
                          <a:pt x="871" y="9"/>
                        </a:moveTo>
                        <a:lnTo>
                          <a:pt x="643" y="0"/>
                        </a:lnTo>
                        <a:lnTo>
                          <a:pt x="0" y="0"/>
                        </a:lnTo>
                        <a:lnTo>
                          <a:pt x="0" y="113"/>
                        </a:lnTo>
                        <a:lnTo>
                          <a:pt x="156" y="122"/>
                        </a:lnTo>
                        <a:lnTo>
                          <a:pt x="156" y="12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"/>
                  <p:cNvSpPr/>
                  <p:nvPr/>
                </p:nvSpPr>
                <p:spPr>
                  <a:xfrm flipH="1" flipV="1">
                    <a:off x="701280" y="1274760"/>
                    <a:ext cx="177840" cy="10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"/>
                  <p:cNvSpPr/>
                  <p:nvPr/>
                </p:nvSpPr>
                <p:spPr>
                  <a:xfrm>
                    <a:off x="835560" y="1356480"/>
                    <a:ext cx="540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42">
                        <a:moveTo>
                          <a:pt x="44" y="0"/>
                        </a:moveTo>
                        <a:lnTo>
                          <a:pt x="12" y="0"/>
                        </a:lnTo>
                        <a:lnTo>
                          <a:pt x="0" y="42"/>
                        </a:lnTo>
                        <a:lnTo>
                          <a:pt x="12" y="42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1385280" y="1289520"/>
                    <a:ext cx="355320" cy="2520"/>
                  </a:xfrm>
                  <a:prstGeom prst="rect">
                    <a:avLst/>
                  </a:prstGeom>
                  <a:blipFill rotWithShape="0">
                    <a:blip r:embed="rId7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879120" y="1366560"/>
                    <a:ext cx="6170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6">
                        <a:moveTo>
                          <a:pt x="436" y="0"/>
                        </a:moveTo>
                        <a:lnTo>
                          <a:pt x="500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850320" y="1371960"/>
                    <a:ext cx="28440" cy="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">
                        <a:moveTo>
                          <a:pt x="23" y="1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flipH="1">
                    <a:off x="889560" y="1366560"/>
                    <a:ext cx="36360" cy="61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879120" y="1373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850320" y="1379520"/>
                    <a:ext cx="28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">
                        <a:moveTo>
                          <a:pt x="23" y="3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 flipH="1">
                    <a:off x="889560" y="1373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879120" y="1382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850320" y="1386000"/>
                    <a:ext cx="2844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5">
                        <a:moveTo>
                          <a:pt x="23" y="5"/>
                        </a:moveTo>
                        <a:lnTo>
                          <a:pt x="0" y="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 flipH="1">
                    <a:off x="889560" y="1382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879120" y="1391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7">
                        <a:moveTo>
                          <a:pt x="436" y="0"/>
                        </a:moveTo>
                        <a:lnTo>
                          <a:pt x="500" y="7"/>
                        </a:lnTo>
                        <a:lnTo>
                          <a:pt x="0" y="7"/>
                        </a:lnTo>
                        <a:lnTo>
                          <a:pt x="0" y="7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850320" y="1397520"/>
                    <a:ext cx="2844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">
                        <a:moveTo>
                          <a:pt x="23" y="2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 flipH="1">
                    <a:off x="889560" y="1391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3" name=""/>
                  <p:cNvSpPr/>
                  <p:nvPr/>
                </p:nvSpPr>
                <p:spPr>
                  <a:xfrm>
                    <a:off x="879120" y="1400040"/>
                    <a:ext cx="6170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850320" y="1404000"/>
                    <a:ext cx="28440" cy="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4">
                        <a:moveTo>
                          <a:pt x="23" y="4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 flipH="1">
                    <a:off x="889560" y="1400040"/>
                    <a:ext cx="36360" cy="9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"/>
                  <p:cNvSpPr/>
                  <p:nvPr/>
                </p:nvSpPr>
                <p:spPr>
                  <a:xfrm flipH="1">
                    <a:off x="889560" y="1357920"/>
                    <a:ext cx="36360" cy="8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"/>
                  <p:cNvSpPr/>
                  <p:nvPr/>
                </p:nvSpPr>
                <p:spPr>
                  <a:xfrm>
                    <a:off x="879120" y="1357920"/>
                    <a:ext cx="61704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500" h="8">
                        <a:moveTo>
                          <a:pt x="436" y="0"/>
                        </a:moveTo>
                        <a:lnTo>
                          <a:pt x="500" y="8"/>
                        </a:lnTo>
                        <a:lnTo>
                          <a:pt x="0" y="8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850320" y="1362600"/>
                    <a:ext cx="284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">
                        <a:moveTo>
                          <a:pt x="23" y="3"/>
                        </a:moveTo>
                        <a:lnTo>
                          <a:pt x="0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"/>
                  <p:cNvSpPr/>
                  <p:nvPr/>
                </p:nvSpPr>
                <p:spPr>
                  <a:xfrm flipH="1">
                    <a:off x="879120" y="1330560"/>
                    <a:ext cx="61704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"/>
                  <p:cNvSpPr/>
                  <p:nvPr/>
                </p:nvSpPr>
                <p:spPr>
                  <a:xfrm flipH="1">
                    <a:off x="889560" y="1330560"/>
                    <a:ext cx="3636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889920" y="1330560"/>
                    <a:ext cx="6062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491" h="6">
                        <a:moveTo>
                          <a:pt x="430" y="0"/>
                        </a:moveTo>
                        <a:lnTo>
                          <a:pt x="491" y="6"/>
                        </a:lnTo>
                        <a:lnTo>
                          <a:pt x="0" y="6"/>
                        </a:lnTo>
                        <a:lnTo>
                          <a:pt x="0" y="6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850320" y="1334520"/>
                    <a:ext cx="3924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3">
                        <a:moveTo>
                          <a:pt x="32" y="3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"/>
                  <p:cNvSpPr/>
                  <p:nvPr/>
                </p:nvSpPr>
                <p:spPr>
                  <a:xfrm>
                    <a:off x="850320" y="1325160"/>
                    <a:ext cx="2844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8">
                        <a:moveTo>
                          <a:pt x="23" y="5"/>
                        </a:moveTo>
                        <a:lnTo>
                          <a:pt x="0" y="0"/>
                        </a:lnTo>
                        <a:lnTo>
                          <a:pt x="0" y="8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1491120" y="1330560"/>
                    <a:ext cx="0" cy="75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"/>
                  <p:cNvSpPr/>
                  <p:nvPr/>
                </p:nvSpPr>
                <p:spPr>
                  <a:xfrm>
                    <a:off x="999720" y="1292040"/>
                    <a:ext cx="132840" cy="7560"/>
                  </a:xfrm>
                  <a:prstGeom prst="ellipse">
                    <a:avLst/>
                  </a:prstGeom>
                  <a:blipFill rotWithShape="0">
                    <a:blip r:embed="rId8"/>
                    <a:srcRect/>
                    <a:tile tx="0" ty="0" sx="100000" sy="100000" algn="ctr"/>
                  </a:blip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1400" bIns="-414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"/>
                  <p:cNvSpPr/>
                  <p:nvPr/>
                </p:nvSpPr>
                <p:spPr>
                  <a:xfrm>
                    <a:off x="686520" y="1315080"/>
                    <a:ext cx="107604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871" h="9">
                        <a:moveTo>
                          <a:pt x="871" y="9"/>
                        </a:moveTo>
                        <a:lnTo>
                          <a:pt x="160" y="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858960" y="1285560"/>
                    <a:ext cx="2016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" h="35">
                        <a:moveTo>
                          <a:pt x="0" y="0"/>
                        </a:moveTo>
                        <a:lnTo>
                          <a:pt x="0" y="32"/>
                        </a:lnTo>
                        <a:lnTo>
                          <a:pt x="16" y="35"/>
                        </a:ln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291240" y="1690200"/>
                    <a:ext cx="540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" h="3">
                        <a:moveTo>
                          <a:pt x="4" y="0"/>
                        </a:move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4" y="3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1843920" y="584280"/>
                    <a:ext cx="648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3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0"/>
                        </a:lnTo>
                        <a:lnTo>
                          <a:pt x="0" y="3"/>
                        </a:lnTo>
                        <a:lnTo>
                          <a:pt x="5" y="3"/>
                        </a:lnTo>
                        <a:lnTo>
                          <a:pt x="5" y="0"/>
                        </a:lnTo>
                        <a:close/>
                      </a:path>
                    </a:pathLst>
                  </a:custGeom>
                  <a:solidFill>
                    <a:srgbClr val="dcdcd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0" bIns="-43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9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50920" y="1630800"/>
                    <a:ext cx="4125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6080" y="640800"/>
                    <a:ext cx="41220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83720" y="640800"/>
                    <a:ext cx="41220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27600" y="640800"/>
                    <a:ext cx="41256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71840" y="640800"/>
                    <a:ext cx="412560" cy="44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83720" y="1630800"/>
                    <a:ext cx="412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6680" y="1630800"/>
                    <a:ext cx="41220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162440" y="1630800"/>
                    <a:ext cx="41256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978" name=""/>
            <p:cNvSpPr/>
            <p:nvPr/>
          </p:nvSpPr>
          <p:spPr>
            <a:xfrm flipH="1" flipV="1">
              <a:off x="2171880" y="2197080"/>
              <a:ext cx="1498320" cy="85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9" name=""/>
          <p:cNvGrpSpPr/>
          <p:nvPr/>
        </p:nvGrpSpPr>
        <p:grpSpPr>
          <a:xfrm>
            <a:off x="5448240" y="469800"/>
            <a:ext cx="3314880" cy="2552400"/>
            <a:chOff x="5448240" y="469800"/>
            <a:chExt cx="3314880" cy="2552400"/>
          </a:xfrm>
        </p:grpSpPr>
        <p:grpSp>
          <p:nvGrpSpPr>
            <p:cNvPr id="980" name=""/>
            <p:cNvGrpSpPr/>
            <p:nvPr/>
          </p:nvGrpSpPr>
          <p:grpSpPr>
            <a:xfrm>
              <a:off x="6934320" y="469800"/>
              <a:ext cx="1828800" cy="1784160"/>
              <a:chOff x="6934320" y="469800"/>
              <a:chExt cx="1828800" cy="1784160"/>
            </a:xfrm>
          </p:grpSpPr>
          <p:sp>
            <p:nvSpPr>
              <p:cNvPr id="981" name=""/>
              <p:cNvSpPr/>
              <p:nvPr/>
            </p:nvSpPr>
            <p:spPr>
              <a:xfrm>
                <a:off x="7086960" y="469800"/>
                <a:ext cx="1523880" cy="1460520"/>
              </a:xfrm>
              <a:prstGeom prst="ellipse">
                <a:avLst/>
              </a:prstGeom>
              <a:solidFill>
                <a:srgbClr val="339966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2" name=""/>
              <p:cNvGrpSpPr/>
              <p:nvPr/>
            </p:nvGrpSpPr>
            <p:grpSpPr>
              <a:xfrm>
                <a:off x="6934320" y="851040"/>
                <a:ext cx="1828800" cy="1402920"/>
                <a:chOff x="6934320" y="851040"/>
                <a:chExt cx="1828800" cy="140292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6934320" y="1620720"/>
                  <a:ext cx="182880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Cluster 1350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Linux HPC Solutio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Intel, Opteron and Blade Servers</a:t>
                  </a: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 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4" name=""/>
                <p:cNvGrpSpPr/>
                <p:nvPr/>
              </p:nvGrpSpPr>
              <p:grpSpPr>
                <a:xfrm>
                  <a:off x="7010640" y="851040"/>
                  <a:ext cx="1533240" cy="761760"/>
                  <a:chOff x="7010640" y="851040"/>
                  <a:chExt cx="1533240" cy="761760"/>
                </a:xfrm>
              </p:grpSpPr>
              <p:pic>
                <p:nvPicPr>
                  <p:cNvPr id="985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010640" y="851040"/>
                    <a:ext cx="466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86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543800" y="851040"/>
                    <a:ext cx="46692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987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8077320" y="851040"/>
                    <a:ext cx="4665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988" name=""/>
            <p:cNvSpPr/>
            <p:nvPr/>
          </p:nvSpPr>
          <p:spPr>
            <a:xfrm flipV="1">
              <a:off x="5448240" y="2171520"/>
              <a:ext cx="1422360" cy="85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5181480" y="4305240"/>
            <a:ext cx="2070360" cy="1961640"/>
            <a:chOff x="5181480" y="4305240"/>
            <a:chExt cx="2070360" cy="1961640"/>
          </a:xfrm>
        </p:grpSpPr>
        <p:grpSp>
          <p:nvGrpSpPr>
            <p:cNvPr id="990" name=""/>
            <p:cNvGrpSpPr/>
            <p:nvPr/>
          </p:nvGrpSpPr>
          <p:grpSpPr>
            <a:xfrm>
              <a:off x="5575320" y="5016600"/>
              <a:ext cx="1676520" cy="1250280"/>
              <a:chOff x="5575320" y="5016600"/>
              <a:chExt cx="1676520" cy="1250280"/>
            </a:xfrm>
          </p:grpSpPr>
          <p:sp>
            <p:nvSpPr>
              <p:cNvPr id="991" name=""/>
              <p:cNvSpPr/>
              <p:nvPr/>
            </p:nvSpPr>
            <p:spPr>
              <a:xfrm>
                <a:off x="5575320" y="5016600"/>
                <a:ext cx="1295640" cy="1241280"/>
              </a:xfrm>
              <a:prstGeom prst="ellipse">
                <a:avLst/>
              </a:prstGeom>
              <a:solidFill>
                <a:srgbClr val="ff0000">
                  <a:alpha val="4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6677280" y="53942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4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"/>
              <p:cNvGrpSpPr/>
              <p:nvPr/>
            </p:nvGrpSpPr>
            <p:grpSpPr>
              <a:xfrm>
                <a:off x="5803920" y="5168880"/>
                <a:ext cx="1447920" cy="1098000"/>
                <a:chOff x="5803920" y="5168880"/>
                <a:chExt cx="1447920" cy="1098000"/>
              </a:xfrm>
            </p:grpSpPr>
            <p:sp>
              <p:nvSpPr>
                <p:cNvPr id="994" name=""/>
                <p:cNvSpPr/>
                <p:nvPr/>
              </p:nvSpPr>
              <p:spPr>
                <a:xfrm>
                  <a:off x="5803920" y="5816160"/>
                  <a:ext cx="144792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BladeCenter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Intel, Power and Optero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9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5857920" y="5168880"/>
                  <a:ext cx="1295280" cy="5583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996" name=""/>
            <p:cNvSpPr/>
            <p:nvPr/>
          </p:nvSpPr>
          <p:spPr>
            <a:xfrm>
              <a:off x="5181480" y="4305240"/>
              <a:ext cx="711360" cy="71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2374920" y="4330800"/>
            <a:ext cx="1574640" cy="1958040"/>
            <a:chOff x="2374920" y="4330800"/>
            <a:chExt cx="1574640" cy="1958040"/>
          </a:xfrm>
        </p:grpSpPr>
        <p:grpSp>
          <p:nvGrpSpPr>
            <p:cNvPr id="998" name=""/>
            <p:cNvGrpSpPr/>
            <p:nvPr/>
          </p:nvGrpSpPr>
          <p:grpSpPr>
            <a:xfrm>
              <a:off x="2374920" y="5054760"/>
              <a:ext cx="1295280" cy="1234080"/>
              <a:chOff x="2374920" y="5054760"/>
              <a:chExt cx="1295280" cy="1234080"/>
            </a:xfrm>
          </p:grpSpPr>
          <p:sp>
            <p:nvSpPr>
              <p:cNvPr id="999" name=""/>
              <p:cNvSpPr/>
              <p:nvPr/>
            </p:nvSpPr>
            <p:spPr>
              <a:xfrm>
                <a:off x="2527200" y="5130720"/>
                <a:ext cx="1143000" cy="1094760"/>
              </a:xfrm>
              <a:prstGeom prst="ellipse">
                <a:avLst/>
              </a:prstGeom>
              <a:solidFill>
                <a:srgbClr val="0080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2374920" y="5054760"/>
                <a:ext cx="1165320" cy="1234080"/>
                <a:chOff x="2374920" y="5054760"/>
                <a:chExt cx="1165320" cy="123408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2374920" y="5892840"/>
                  <a:ext cx="1165320" cy="39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Aft>
                      <a:spcPts val="201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HA Clusters </a:t>
                  </a: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(HACMP or Tivoli)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2603520" y="5207040"/>
                  <a:ext cx="48276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832120" y="5359320"/>
                  <a:ext cx="482760" cy="55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2451240" y="5054760"/>
                  <a:ext cx="482400" cy="550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05" name=""/>
            <p:cNvSpPr/>
            <p:nvPr/>
          </p:nvSpPr>
          <p:spPr>
            <a:xfrm flipH="1">
              <a:off x="3225960" y="4330800"/>
              <a:ext cx="723600" cy="72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6" name=""/>
          <p:cNvGrpSpPr/>
          <p:nvPr/>
        </p:nvGrpSpPr>
        <p:grpSpPr>
          <a:xfrm>
            <a:off x="5511960" y="3873600"/>
            <a:ext cx="3301920" cy="1755360"/>
            <a:chOff x="5511960" y="3873600"/>
            <a:chExt cx="3301920" cy="1755360"/>
          </a:xfrm>
        </p:grpSpPr>
        <p:grpSp>
          <p:nvGrpSpPr>
            <p:cNvPr id="1007" name=""/>
            <p:cNvGrpSpPr/>
            <p:nvPr/>
          </p:nvGrpSpPr>
          <p:grpSpPr>
            <a:xfrm>
              <a:off x="7213680" y="4076640"/>
              <a:ext cx="1600200" cy="1552320"/>
              <a:chOff x="7213680" y="4076640"/>
              <a:chExt cx="1600200" cy="1552320"/>
            </a:xfrm>
          </p:grpSpPr>
          <p:sp>
            <p:nvSpPr>
              <p:cNvPr id="1008" name=""/>
              <p:cNvSpPr/>
              <p:nvPr/>
            </p:nvSpPr>
            <p:spPr>
              <a:xfrm>
                <a:off x="7442280" y="4533840"/>
                <a:ext cx="1143000" cy="1095120"/>
              </a:xfrm>
              <a:prstGeom prst="ellipse">
                <a:avLst/>
              </a:prstGeom>
              <a:solidFill>
                <a:srgbClr val="ff6600">
                  <a:alpha val="4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9" name=""/>
              <p:cNvGrpSpPr/>
              <p:nvPr/>
            </p:nvGrpSpPr>
            <p:grpSpPr>
              <a:xfrm>
                <a:off x="7213680" y="4076640"/>
                <a:ext cx="1600200" cy="1552320"/>
                <a:chOff x="7213680" y="4076640"/>
                <a:chExt cx="1600200" cy="1552320"/>
              </a:xfrm>
            </p:grpSpPr>
            <p:pic>
              <p:nvPicPr>
                <p:cNvPr id="1010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670880" y="4076640"/>
                  <a:ext cx="669960" cy="109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1" name=""/>
                <p:cNvSpPr/>
                <p:nvPr/>
              </p:nvSpPr>
              <p:spPr>
                <a:xfrm>
                  <a:off x="7213680" y="5178240"/>
                  <a:ext cx="1600200" cy="45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BCU for Linux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(Balanced Configuration Unit)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12" name=""/>
            <p:cNvSpPr/>
            <p:nvPr/>
          </p:nvSpPr>
          <p:spPr>
            <a:xfrm>
              <a:off x="5511960" y="3873600"/>
              <a:ext cx="1879560" cy="69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0" y="3898800"/>
            <a:ext cx="3606840" cy="2143080"/>
            <a:chOff x="0" y="3898800"/>
            <a:chExt cx="3606840" cy="2143080"/>
          </a:xfrm>
        </p:grpSpPr>
        <p:grpSp>
          <p:nvGrpSpPr>
            <p:cNvPr id="1014" name=""/>
            <p:cNvGrpSpPr/>
            <p:nvPr/>
          </p:nvGrpSpPr>
          <p:grpSpPr>
            <a:xfrm>
              <a:off x="0" y="4546440"/>
              <a:ext cx="2438280" cy="1495440"/>
              <a:chOff x="0" y="4546440"/>
              <a:chExt cx="2438280" cy="1495440"/>
            </a:xfrm>
          </p:grpSpPr>
          <p:sp>
            <p:nvSpPr>
              <p:cNvPr id="1015" name=""/>
              <p:cNvSpPr/>
              <p:nvPr/>
            </p:nvSpPr>
            <p:spPr>
              <a:xfrm>
                <a:off x="533160" y="5537160"/>
                <a:ext cx="381240" cy="365040"/>
              </a:xfrm>
              <a:prstGeom prst="ellipse">
                <a:avLst/>
              </a:prstGeom>
              <a:solidFill>
                <a:srgbClr val="0000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057400" y="4851360"/>
                <a:ext cx="380880" cy="365040"/>
              </a:xfrm>
              <a:prstGeom prst="ellipse">
                <a:avLst/>
              </a:prstGeom>
              <a:solidFill>
                <a:srgbClr val="0000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137960" y="60307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3" y="1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127160" y="6030720"/>
                <a:ext cx="6120" cy="1800"/>
              </a:xfrm>
              <a:custGeom>
                <a:avLst/>
                <a:gdLst/>
                <a:ahLst/>
                <a:rect l="l" t="t" r="r" b="b"/>
                <a:pathLst>
                  <a:path w="4" h="1">
                    <a:moveTo>
                      <a:pt x="0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77880" y="6037200"/>
                <a:ext cx="1440" cy="468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62040" y="60372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8960" y="6030720"/>
                <a:ext cx="5040" cy="1800"/>
              </a:xfrm>
              <a:custGeom>
                <a:avLst/>
                <a:gdLst/>
                <a:ahLst/>
                <a:rect l="l" t="t" r="r" b="b"/>
                <a:pathLst>
                  <a:path w="3" h="1">
                    <a:moveTo>
                      <a:pt x="0" y="1"/>
                    </a:move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137960" y="47070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3" y="3"/>
                    </a:move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68160" y="4707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84000" y="4707000"/>
                <a:ext cx="1800" cy="468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1" y="3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8960" y="47070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5" y="0"/>
                    </a:move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3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6" name=""/>
              <p:cNvGrpSpPr/>
              <p:nvPr/>
            </p:nvGrpSpPr>
            <p:grpSpPr>
              <a:xfrm>
                <a:off x="380880" y="4546440"/>
                <a:ext cx="1836720" cy="1330200"/>
                <a:chOff x="380880" y="4546440"/>
                <a:chExt cx="1836720" cy="133020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1642680" y="5070240"/>
                  <a:ext cx="504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0"/>
                      </a:move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3" y="4"/>
                      </a:lnTo>
                      <a:lnTo>
                        <a:pt x="0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1657080" y="5070240"/>
                  <a:ext cx="3240" cy="468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2" y="4"/>
                      </a:move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1193400" y="5070240"/>
                  <a:ext cx="1800" cy="4680"/>
                </a:xfrm>
                <a:custGeom>
                  <a:avLst/>
                  <a:gdLst/>
                  <a:ahLst/>
                  <a:rect l="l" t="t" r="r" b="b"/>
                  <a:pathLst>
                    <a:path w="1" h="4">
                      <a:moveTo>
                        <a:pt x="1" y="4"/>
                      </a:move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564840" y="5070240"/>
                  <a:ext cx="4680" cy="468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3" y="4"/>
                      </a:move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552240" y="5070240"/>
                  <a:ext cx="6480" cy="4680"/>
                </a:xfrm>
                <a:custGeom>
                  <a:avLst/>
                  <a:gdLst/>
                  <a:ahLst/>
                  <a:rect l="l" t="t" r="r" b="b"/>
                  <a:pathLst>
                    <a:path w="4" h="4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4" y="4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2" name="" descr=""/>
                <p:cNvPicPr/>
                <p:nvPr/>
              </p:nvPicPr>
              <p:blipFill>
                <a:blip r:embed="rId25"/>
                <a:srcRect l="1252" t="14331" r="2333" b="7000"/>
                <a:stretch/>
              </p:blipFill>
              <p:spPr>
                <a:xfrm>
                  <a:off x="380880" y="4546440"/>
                  <a:ext cx="1836720" cy="112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3" name=""/>
                <p:cNvSpPr/>
                <p:nvPr/>
              </p:nvSpPr>
              <p:spPr>
                <a:xfrm>
                  <a:off x="814320" y="5648040"/>
                  <a:ext cx="101268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spcAft>
                      <a:spcPts val="275"/>
                    </a:spcAft>
                    <a:tabLst>
                      <a:tab algn="l" pos="0"/>
                      <a:tab algn="l" pos="822240"/>
                      <a:tab algn="l" pos="1644480"/>
                      <a:tab algn="l" pos="2467080"/>
                      <a:tab algn="l" pos="3289320"/>
                      <a:tab algn="l" pos="4111560"/>
                      <a:tab algn="l" pos="4933800"/>
                      <a:tab algn="l" pos="5756400"/>
                      <a:tab algn="l" pos="6578640"/>
                      <a:tab algn="l" pos="7400880"/>
                      <a:tab algn="l" pos="8223120"/>
                      <a:tab algn="l" pos="9045720"/>
                      <a:tab algn="l" pos="9867960"/>
                      <a:tab algn="l" pos="10690200"/>
                    </a:tabLst>
                  </a:pPr>
                  <a:r>
                    <a:rPr b="0" lang="en-US" sz="1500" spc="-1" strike="noStrike">
                      <a:solidFill>
                        <a:srgbClr val="000000"/>
                      </a:solidFill>
                      <a:latin typeface="Lydian"/>
                      <a:ea typeface="Arial"/>
                    </a:rPr>
                    <a:t>Blue Gene</a:t>
                  </a:r>
                  <a:endParaRPr b="0" lang="en-US" sz="1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"/>
              <p:cNvSpPr/>
              <p:nvPr/>
            </p:nvSpPr>
            <p:spPr>
              <a:xfrm>
                <a:off x="0" y="4699080"/>
                <a:ext cx="380880" cy="365040"/>
              </a:xfrm>
              <a:prstGeom prst="ellipse">
                <a:avLst/>
              </a:prstGeom>
              <a:solidFill>
                <a:srgbClr val="0000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5" name=""/>
            <p:cNvSpPr/>
            <p:nvPr/>
          </p:nvSpPr>
          <p:spPr>
            <a:xfrm flipH="1">
              <a:off x="2451240" y="3898800"/>
              <a:ext cx="1155600" cy="571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3535200" y="2692440"/>
            <a:ext cx="1951200" cy="1781280"/>
            <a:chOff x="3535200" y="2692440"/>
            <a:chExt cx="1951200" cy="1781280"/>
          </a:xfrm>
        </p:grpSpPr>
        <p:sp>
          <p:nvSpPr>
            <p:cNvPr id="1038" name=""/>
            <p:cNvSpPr/>
            <p:nvPr/>
          </p:nvSpPr>
          <p:spPr>
            <a:xfrm>
              <a:off x="3657600" y="2692440"/>
              <a:ext cx="1828800" cy="1731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786200" y="4060800"/>
              <a:ext cx="5040" cy="468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4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54720" y="3871800"/>
              <a:ext cx="6120" cy="180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0" y="0"/>
                  </a:moveTo>
                  <a:lnTo>
                    <a:pt x="4" y="0"/>
                  </a:lnTo>
                  <a:lnTo>
                    <a:pt x="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844800" y="4022640"/>
              <a:ext cx="504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3" y="2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535200" y="4030560"/>
              <a:ext cx="504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548160" y="4030560"/>
              <a:ext cx="4680" cy="32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4064040" y="3289320"/>
              <a:ext cx="1041120" cy="641160"/>
              <a:chOff x="4064040" y="3289320"/>
              <a:chExt cx="1041120" cy="641160"/>
            </a:xfrm>
          </p:grpSpPr>
          <p:pic>
            <p:nvPicPr>
              <p:cNvPr id="1045" name="" descr=""/>
              <p:cNvPicPr/>
              <p:nvPr/>
            </p:nvPicPr>
            <p:blipFill>
              <a:blip r:embed="rId26"/>
              <a:srcRect l="0" t="0" r="0" b="5014"/>
              <a:stretch/>
            </p:blipFill>
            <p:spPr>
              <a:xfrm>
                <a:off x="4064040" y="3289320"/>
                <a:ext cx="1041120" cy="64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>
                <a:off x="4459320" y="3493800"/>
                <a:ext cx="323640" cy="25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7" name=""/>
            <p:cNvSpPr/>
            <p:nvPr/>
          </p:nvSpPr>
          <p:spPr>
            <a:xfrm>
              <a:off x="3873600" y="2857680"/>
              <a:ext cx="144756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  <a:ea typeface="Arial"/>
                </a:rPr>
                <a:t>CSM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Lydian"/>
                  <a:ea typeface="Arial"/>
                </a:rPr>
                <a:t>Management Serv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733920" y="3962520"/>
              <a:ext cx="172692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"/>
                  <a:ea typeface="Arial"/>
                </a:rPr>
                <a:t>You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2240"/>
                  <a:tab algn="l" pos="1644480"/>
                  <a:tab algn="l" pos="2467080"/>
                  <a:tab algn="l" pos="32893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Lydian"/>
                  <a:ea typeface="Arial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Lydian"/>
                  <a:ea typeface="Arial"/>
                </a:rPr>
                <a:t>single point of control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A3BB-4E08-4BC7-820F-94D2980D170E}" type="slidenum">
              <a:t>4</a:t>
            </a:fld>
          </a:p>
        </p:txBody>
      </p:sp>
    </p:spTree>
  </p:cSld>
  <p:transition spd="slow" advTm="0">
    <p:fade thruBlk="true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4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3" dur="2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0" y="1536840"/>
            <a:ext cx="914400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Lydian"/>
              </a:rPr>
              <a:t>Impressive!</a:t>
            </a:r>
            <a:endParaRPr b="0" lang="en-US" sz="60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3467160"/>
            <a:ext cx="9144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How do you set up CSM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A6D12-CA76-4505-8E40-568CEF5A8219}" type="slidenum">
              <a:t>5</a:t>
            </a:fld>
          </a:p>
        </p:txBody>
      </p:sp>
    </p:spTree>
  </p:cSld>
  <p:transition spd="slow" advTm="0"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304920" y="1536840"/>
            <a:ext cx="37209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ydian"/>
                <a:ea typeface="Arial"/>
              </a:rPr>
              <a:t>Step 2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Discover/Define your no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(i.e. the servers you plan to deploy and manage)</a:t>
            </a:r>
            <a:br>
              <a:rPr sz="24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hwsda, define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54160" y="1523880"/>
            <a:ext cx="372096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ydian"/>
                <a:ea typeface="Arial"/>
              </a:rPr>
              <a:t>Step 3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Deploy your nodes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(i.e. install OS, CSM client, and user applications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csmsetupinstall, installnode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330120" y="1486080"/>
            <a:ext cx="37213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Lydian"/>
                <a:ea typeface="Arial"/>
              </a:rPr>
              <a:t>Step 1</a:t>
            </a:r>
            <a:br>
              <a:rPr sz="3600"/>
            </a:br>
            <a:br>
              <a:rPr sz="20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Install you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CS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Management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Server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install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7112160" y="4813200"/>
            <a:ext cx="914400" cy="12574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7124760" y="2095560"/>
            <a:ext cx="914400" cy="1257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7124760" y="749160"/>
            <a:ext cx="914400" cy="125748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851360" y="2857680"/>
            <a:ext cx="914400" cy="1257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4851360" y="2857680"/>
            <a:ext cx="914400" cy="125712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846320" y="4138560"/>
            <a:ext cx="89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SM 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5499000" y="927000"/>
            <a:ext cx="2070360" cy="1473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5753160" y="2451240"/>
            <a:ext cx="241200" cy="15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5607000" y="2666880"/>
            <a:ext cx="133560" cy="95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5919840" y="1023840"/>
            <a:ext cx="11988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1 = x36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2 = x37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3 = H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4 = J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5" name=""/>
          <p:cNvGrpSpPr/>
          <p:nvPr/>
        </p:nvGrpSpPr>
        <p:grpSpPr>
          <a:xfrm>
            <a:off x="5778360" y="749160"/>
            <a:ext cx="2260800" cy="5321520"/>
            <a:chOff x="5778360" y="749160"/>
            <a:chExt cx="2260800" cy="5321520"/>
          </a:xfrm>
        </p:grpSpPr>
        <p:sp>
          <p:nvSpPr>
            <p:cNvPr id="1066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124760" y="2095560"/>
              <a:ext cx="914400" cy="125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7232760" y="172260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7220160" y="3068640"/>
            <a:ext cx="67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7232760" y="57862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de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5753160" y="1409760"/>
            <a:ext cx="1359000" cy="4127400"/>
            <a:chOff x="5753160" y="1409760"/>
            <a:chExt cx="1359000" cy="4127400"/>
          </a:xfrm>
        </p:grpSpPr>
        <p:sp>
          <p:nvSpPr>
            <p:cNvPr id="1081" name=""/>
            <p:cNvSpPr/>
            <p:nvPr/>
          </p:nvSpPr>
          <p:spPr>
            <a:xfrm>
              <a:off x="5753160" y="3467160"/>
              <a:ext cx="5209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86680" y="1409760"/>
              <a:ext cx="12600" cy="4127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248520" y="1409760"/>
              <a:ext cx="863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11880" y="27432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11880" y="4127400"/>
              <a:ext cx="787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261120" y="5537160"/>
              <a:ext cx="8384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3BF6C-BCC0-4EFA-8719-61798F0AEFFC}" type="slidenum">
              <a:t>6</a:t>
            </a:fld>
          </a:p>
        </p:txBody>
      </p:sp>
    </p:spTree>
  </p:cSld>
  <p:transition spd="slow" advTm="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2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5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3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0" y="1917360"/>
            <a:ext cx="9144000" cy="26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</a:rPr>
              <a:t>Ok, you can deploy new nodes in parallel from a single point of control. Nice.</a:t>
            </a:r>
            <a:endParaRPr b="0" lang="en-US" sz="4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0" y="3184560"/>
            <a:ext cx="91440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hat else can you do with CS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D0A8-E9F5-47FF-BDD0-900A4B06DF57}" type="slidenum">
              <a:t>7</a:t>
            </a:fld>
          </a:p>
        </p:txBody>
      </p:sp>
    </p:spTree>
  </p:cSld>
  <p:transition spd="slow" advTm="0">
    <p:fade thruBlk="true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2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25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"/>
          <p:cNvSpPr/>
          <p:nvPr/>
        </p:nvSpPr>
        <p:spPr>
          <a:xfrm>
            <a:off x="304920" y="2235240"/>
            <a:ext cx="4216320" cy="40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Power on, power off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and reboot nod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(out-of-band)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rpower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093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24760" y="2108160"/>
              <a:ext cx="914400" cy="1257480"/>
            </a:xfrm>
            <a:prstGeom prst="rect">
              <a:avLst/>
            </a:prstGeom>
            <a:solidFill>
              <a:srgbClr val="99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7220160" y="30686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7453440" y="4940280"/>
              <a:ext cx="452160" cy="415440"/>
              <a:chOff x="7453440" y="4940280"/>
              <a:chExt cx="452160" cy="415440"/>
            </a:xfrm>
          </p:grpSpPr>
          <p:sp>
            <p:nvSpPr>
              <p:cNvPr id="1109" name=""/>
              <p:cNvSpPr/>
              <p:nvPr/>
            </p:nvSpPr>
            <p:spPr>
              <a:xfrm flipH="1">
                <a:off x="7542000" y="4940280"/>
                <a:ext cx="144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751520" y="4944960"/>
                <a:ext cx="144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rot="16200000">
                <a:off x="7600680" y="5050800"/>
                <a:ext cx="157320" cy="452160"/>
              </a:xfrm>
              <a:custGeom>
                <a:avLst/>
                <a:gdLst>
                  <a:gd name="textAreaLeft" fmla="*/ 46080 w 157320"/>
                  <a:gd name="textAreaRight" fmla="*/ 157680 w 157320"/>
                  <a:gd name="textAreaTop" fmla="*/ 113040 h 452160"/>
                  <a:gd name="textAreaBottom" fmla="*/ 339120 h 452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7520040" y="851040"/>
              <a:ext cx="452520" cy="415440"/>
              <a:chOff x="7520040" y="851040"/>
              <a:chExt cx="452520" cy="415440"/>
            </a:xfrm>
          </p:grpSpPr>
          <p:sp>
            <p:nvSpPr>
              <p:cNvPr id="1113" name=""/>
              <p:cNvSpPr/>
              <p:nvPr/>
            </p:nvSpPr>
            <p:spPr>
              <a:xfrm flipH="1">
                <a:off x="7608600" y="851040"/>
                <a:ext cx="180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7818120" y="855720"/>
                <a:ext cx="180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rot="16200000">
                <a:off x="7667640" y="961560"/>
                <a:ext cx="157320" cy="452520"/>
              </a:xfrm>
              <a:custGeom>
                <a:avLst/>
                <a:gdLst>
                  <a:gd name="textAreaLeft" fmla="*/ 46080 w 157320"/>
                  <a:gd name="textAreaRight" fmla="*/ 157680 w 157320"/>
                  <a:gd name="textAreaTop" fmla="*/ 113040 h 452520"/>
                  <a:gd name="textAreaBottom" fmla="*/ 339480 h 45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6" name=""/>
            <p:cNvGrpSpPr/>
            <p:nvPr/>
          </p:nvGrpSpPr>
          <p:grpSpPr>
            <a:xfrm>
              <a:off x="7637400" y="2203560"/>
              <a:ext cx="210960" cy="174600"/>
              <a:chOff x="7637400" y="2203560"/>
              <a:chExt cx="210960" cy="174600"/>
            </a:xfrm>
          </p:grpSpPr>
          <p:sp>
            <p:nvSpPr>
              <p:cNvPr id="1117" name=""/>
              <p:cNvSpPr/>
              <p:nvPr/>
            </p:nvSpPr>
            <p:spPr>
              <a:xfrm flipH="1">
                <a:off x="7637400" y="2203560"/>
                <a:ext cx="144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>
                <a:off x="7846920" y="2208240"/>
                <a:ext cx="144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9" name=""/>
            <p:cNvGrpSpPr/>
            <p:nvPr/>
          </p:nvGrpSpPr>
          <p:grpSpPr>
            <a:xfrm>
              <a:off x="7516800" y="2282760"/>
              <a:ext cx="471600" cy="390240"/>
              <a:chOff x="7516800" y="2282760"/>
              <a:chExt cx="471600" cy="390240"/>
            </a:xfrm>
          </p:grpSpPr>
          <p:sp>
            <p:nvSpPr>
              <p:cNvPr id="1120" name=""/>
              <p:cNvSpPr/>
              <p:nvPr/>
            </p:nvSpPr>
            <p:spPr>
              <a:xfrm>
                <a:off x="7557840" y="2282760"/>
                <a:ext cx="169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762680" y="2287440"/>
                <a:ext cx="16992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516800" y="2538360"/>
                <a:ext cx="47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 rot="16200000">
                <a:off x="7778520" y="2558520"/>
                <a:ext cx="127080" cy="101520"/>
              </a:xfrm>
              <a:custGeom>
                <a:avLst/>
                <a:gdLst>
                  <a:gd name="textAreaLeft" fmla="*/ 37440 w 127080"/>
                  <a:gd name="textAreaRight" fmla="*/ 127440 w 127080"/>
                  <a:gd name="textAreaTop" fmla="*/ 25200 h 101520"/>
                  <a:gd name="textAreaBottom" fmla="*/ 76320 h 101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4" name=""/>
          <p:cNvSpPr/>
          <p:nvPr/>
        </p:nvSpPr>
        <p:spPr>
          <a:xfrm>
            <a:off x="5638680" y="2959200"/>
            <a:ext cx="1625760" cy="241200"/>
          </a:xfrm>
          <a:prstGeom prst="rightArrow">
            <a:avLst>
              <a:gd name="adj1" fmla="val 50000"/>
              <a:gd name="adj2" fmla="val 168507"/>
            </a:avLst>
          </a:prstGeom>
          <a:solidFill>
            <a:srgbClr val="cc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832440" y="2247840"/>
            <a:ext cx="1308240" cy="1333440"/>
          </a:xfrm>
          <a:prstGeom prst="irregularSeal1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7124760" y="2108160"/>
            <a:ext cx="914400" cy="1257480"/>
            <a:chOff x="7124760" y="2108160"/>
            <a:chExt cx="914400" cy="1257480"/>
          </a:xfrm>
        </p:grpSpPr>
        <p:sp>
          <p:nvSpPr>
            <p:cNvPr id="1128" name=""/>
            <p:cNvSpPr/>
            <p:nvPr/>
          </p:nvSpPr>
          <p:spPr>
            <a:xfrm>
              <a:off x="7124760" y="2108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9" name=""/>
            <p:cNvGrpSpPr/>
            <p:nvPr/>
          </p:nvGrpSpPr>
          <p:grpSpPr>
            <a:xfrm>
              <a:off x="7466040" y="2235240"/>
              <a:ext cx="452520" cy="415440"/>
              <a:chOff x="7466040" y="2235240"/>
              <a:chExt cx="452520" cy="415440"/>
            </a:xfrm>
          </p:grpSpPr>
          <p:sp>
            <p:nvSpPr>
              <p:cNvPr id="1130" name=""/>
              <p:cNvSpPr/>
              <p:nvPr/>
            </p:nvSpPr>
            <p:spPr>
              <a:xfrm flipH="1">
                <a:off x="7554600" y="2235240"/>
                <a:ext cx="1800" cy="169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7764120" y="2239920"/>
                <a:ext cx="1800" cy="169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rot="16200000">
                <a:off x="7613640" y="2345760"/>
                <a:ext cx="157320" cy="452520"/>
              </a:xfrm>
              <a:custGeom>
                <a:avLst/>
                <a:gdLst>
                  <a:gd name="textAreaLeft" fmla="*/ 46080 w 157320"/>
                  <a:gd name="textAreaRight" fmla="*/ 157680 w 157320"/>
                  <a:gd name="textAreaTop" fmla="*/ 113040 h 452520"/>
                  <a:gd name="textAreaBottom" fmla="*/ 339480 h 452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3" name=""/>
            <p:cNvSpPr/>
            <p:nvPr/>
          </p:nvSpPr>
          <p:spPr>
            <a:xfrm>
              <a:off x="7220160" y="30686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9650-08DE-4C74-B652-80471E1E39AE}" type="slidenum">
              <a:t>8</a:t>
            </a:fld>
          </a:p>
        </p:txBody>
      </p:sp>
    </p:spTree>
  </p:cSld>
  <p:transition spd="slow" advTm="0">
    <p:fade thruBlk="true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1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3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"/>
          <p:cNvSpPr/>
          <p:nvPr/>
        </p:nvSpPr>
        <p:spPr>
          <a:xfrm>
            <a:off x="165240" y="1955880"/>
            <a:ext cx="4190760" cy="42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Open remote consoles to your nod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(out-of-band)!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000000"/>
                </a:solidFill>
                <a:latin typeface="Lydian"/>
                <a:ea typeface="Arial"/>
              </a:rPr>
              <a:t>rconsole</a:t>
            </a:r>
            <a:r>
              <a:rPr b="0" lang="en-US" sz="3600" spc="-1" strike="noStrike">
                <a:solidFill>
                  <a:srgbClr val="000000"/>
                </a:solidFill>
                <a:latin typeface="Lydian"/>
                <a:ea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2654280" y="6743880"/>
            <a:ext cx="3530520" cy="1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165240" y="825480"/>
            <a:ext cx="54226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Lydian"/>
                <a:ea typeface="Arial"/>
              </a:rPr>
              <a:t>With CSM you c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851360" y="749160"/>
            <a:ext cx="3187800" cy="5321520"/>
            <a:chOff x="4851360" y="749160"/>
            <a:chExt cx="3187800" cy="5321520"/>
          </a:xfrm>
        </p:grpSpPr>
        <p:sp>
          <p:nvSpPr>
            <p:cNvPr id="1139" name=""/>
            <p:cNvSpPr/>
            <p:nvPr/>
          </p:nvSpPr>
          <p:spPr>
            <a:xfrm>
              <a:off x="4851360" y="2857680"/>
              <a:ext cx="914400" cy="12571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24760" y="7491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12160" y="481320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778360" y="3467160"/>
              <a:ext cx="52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299280" y="1422360"/>
              <a:ext cx="0" cy="410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99280" y="274320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11880" y="14097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311880" y="412740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11880" y="5537160"/>
              <a:ext cx="80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232760" y="3678120"/>
              <a:ext cx="647640" cy="84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232760" y="172260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232760" y="57862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859280" y="3808440"/>
              <a:ext cx="89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SM 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124760" y="2120760"/>
              <a:ext cx="914400" cy="125748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220160" y="3081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ode 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180920" y="82080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x xx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 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 x xx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167960" y="488484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xxxx xx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xx x 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180920" y="220500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  xxx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 x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4450320" y="1168560"/>
            <a:ext cx="2712600" cy="2091960"/>
            <a:chOff x="4450320" y="1168560"/>
            <a:chExt cx="2712600" cy="2091960"/>
          </a:xfrm>
        </p:grpSpPr>
        <p:sp>
          <p:nvSpPr>
            <p:cNvPr id="1158" name=""/>
            <p:cNvSpPr/>
            <p:nvPr/>
          </p:nvSpPr>
          <p:spPr>
            <a:xfrm>
              <a:off x="4450320" y="2674800"/>
              <a:ext cx="808560" cy="58572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xx xx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xx  xxx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x  x xx   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032520" y="1219320"/>
              <a:ext cx="0" cy="1955520"/>
            </a:xfrm>
            <a:prstGeom prst="line">
              <a:avLst/>
            </a:prstGeom>
            <a:ln w="101520">
              <a:solidFill>
                <a:srgbClr val="7889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981760" y="1168560"/>
              <a:ext cx="1181160" cy="0"/>
            </a:xfrm>
            <a:prstGeom prst="line">
              <a:avLst/>
            </a:prstGeom>
            <a:ln w="101520">
              <a:solidFill>
                <a:srgbClr val="7889f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295960" y="3124080"/>
              <a:ext cx="787320" cy="0"/>
            </a:xfrm>
            <a:prstGeom prst="line">
              <a:avLst/>
            </a:prstGeom>
            <a:ln w="101520">
              <a:solidFill>
                <a:srgbClr val="7889fb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mplate Documentat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ABEA-37FF-427E-87E7-8FD90F14DD96}" type="slidenum">
              <a:t>9</a:t>
            </a:fld>
          </a:p>
        </p:txBody>
      </p:sp>
    </p:spTree>
  </p:cSld>
  <p:transition spd="slow" advTm="0">
    <p:fade thruBlk="true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3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7T21:22:41Z</dcterms:created>
  <dc:creator>Marty Fullam</dc:creator>
  <dc:description/>
  <dc:language>en-US</dc:language>
  <cp:lastModifiedBy>IBM_USER</cp:lastModifiedBy>
  <dcterms:modified xsi:type="dcterms:W3CDTF">2006-10-31T13:18:24Z</dcterms:modified>
  <cp:revision>329</cp:revision>
  <dc:subject/>
  <dc:title>CSM presentation</dc:title>
</cp:coreProperties>
</file>