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8413-0066-49B4-8978-5DCB76C1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BCE7-07AD-4F3A-BA1C-55396F6B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E3EA-7D35-4DCD-BAC6-D9221911D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0ACE-4DDA-4696-A564-50222E3B1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F01D-8970-464F-98F7-51CC5973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92D4-E53E-4532-A5B8-CEFFF7C2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83F6-9691-422F-B0D1-9D60F0EA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11CF-D9DA-4AD5-AB38-84D91376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41B-C5FC-4B9A-B982-958549460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55A5-2F74-42DC-A50C-BAAF61AF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1F6-7894-433D-90AB-D4265310C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8271-4E08-49ED-92AB-619F308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E43A-8747-459E-B0AA-EEF7EF5B6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Welcome To T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19</a:t>
            </a:r>
            <a:r>
              <a:rPr b="0" lang="en-US" sz="44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International Rexx Sympos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RexxLA_Logo" descr=""/>
          <p:cNvPicPr/>
          <p:nvPr/>
        </p:nvPicPr>
        <p:blipFill>
          <a:blip r:embed="rId1"/>
          <a:stretch/>
        </p:blipFill>
        <p:spPr>
          <a:xfrm>
            <a:off x="2057400" y="2286000"/>
            <a:ext cx="5410080" cy="440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Presenters are reminded to provide a digital (PDF if possible) copy of their presentation to Lee as soon as possible – no later than 30 seconds after the presentatio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From%20Object%20REXX%20V3_Page_15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924680" cy="560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m Manfred’s 2005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5:10:33Z</dcterms:created>
  <dc:creator>Lee Peedin</dc:creator>
  <dc:description/>
  <dc:language>en-US</dc:language>
  <cp:lastModifiedBy>Lee Peedin</cp:lastModifiedBy>
  <dcterms:modified xsi:type="dcterms:W3CDTF">2008-04-28T12:16:06Z</dcterms:modified>
  <cp:revision>16</cp:revision>
  <dc:subject/>
  <dc:title>Welcome To The</dc:title>
</cp:coreProperties>
</file>