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77075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381A-55E5-4377-933E-8CF8C94EC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E0B5-803C-4257-A766-2064BE4B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04D6-EC31-4353-A5C9-1C7C8E2E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BF75-FBFE-4CFC-A2E3-92B252CD9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CC46-5BC0-4947-B0FA-F3FF439D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05F0-806F-4171-9773-58F2C150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71A5-673A-42DA-BB13-4B52147C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1F9-896A-4EF1-9998-C8493A05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221-6966-4CF1-ADA8-9749B5C2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9387-29B2-430A-9EF8-05E4CB86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04F2-EBA4-4EF1-89F3-99896063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C87F-2A37-4942-BEEF-96925A0C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2BE9-6EEA-4529-A3DD-F2DDE5670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lee@safedatausa.com" TargetMode="External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3333cc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 International Rexx Symposium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7 April – 1 May, 2008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arion Raleigh Hotel State Capital – Raleigh, NC USA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ponsored By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RexxLA_Logo" descr=""/>
          <p:cNvPicPr/>
          <p:nvPr/>
        </p:nvPicPr>
        <p:blipFill>
          <a:blip r:embed="rId1"/>
          <a:stretch/>
        </p:blipFill>
        <p:spPr>
          <a:xfrm>
            <a:off x="3200400" y="1849320"/>
            <a:ext cx="2971800" cy="24177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4191120"/>
            <a:ext cx="914400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</a:rPr>
              <a:t>Present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Lee Peedin, VP Research &amp; Development</a:t>
            </a:r>
            <a:br>
              <a:rPr sz="2400"/>
            </a:br>
            <a:r>
              <a:rPr b="0" lang="en-US" sz="2400" spc="-1" strike="noStrike">
                <a:solidFill>
                  <a:srgbClr val="cc0066"/>
                </a:solidFill>
                <a:latin typeface="Arial"/>
              </a:rPr>
              <a:t>Safe Data, Inc. Wallace, NC</a:t>
            </a:r>
            <a:br>
              <a:rPr sz="2400"/>
            </a:b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lee@safedataus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371600"/>
            <a:ext cx="91440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pSuffi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pSuffix -- Returns the current suffix for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si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Suffix = ‘ DB’ -- Sets the suffix for a posi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pGroup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pGrouping -- Return either .true or .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Grouping = .true/.false -- Sets the positive grouping to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logical value ind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371600"/>
            <a:ext cx="91440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Prefi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nPrefix -- Returns the current prefix for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Prefix = ‘$’ -- Sets the prefix for a nega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Mas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nMask -- Return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nMask = ‘#,##0.00’ -- Sets only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371600"/>
            <a:ext cx="914400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Mask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nMask -- Return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nMask = ‘,0.00’ -- Sets only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Suffix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nSuffix -- Returns the current suffix for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ega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Suffix = ‘ DB’ -- Sets the suffix for a nega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371600"/>
            <a:ext cx="9144000" cy="48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Grouping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nGrouping -- Return either .true or .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nGrouping = .true/.false -- Sets the negative grouping to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the logical value ind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zPattern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zPattern -- Returns the current pattern for a zero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zPattern = ‘[0]’ -- Sets the pattern for a zero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 – Best Answered With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371600"/>
            <a:ext cx="9144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ing applied (df_slide1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decimal places, if needed (input value is roun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,.##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7)     --&gt; 1,234.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 --&gt; 1,23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7)    --&gt; -1,234.5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 --&gt; -1,234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371600"/>
            <a:ext cx="9144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ing applied (df_slide1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decimal places, even if not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,.00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 --&gt; 1,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)     --&gt; -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 --&gt; -1,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371600"/>
            <a:ext cx="9144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No Grouping (df_slide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leading zero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decimal places, even if not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1 leading zero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0.00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1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 --&gt; 1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3/6)          --&gt; 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)     --&gt; -1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 --&gt; -1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 - (3/6))    --&gt; -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295280"/>
            <a:ext cx="9144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ing (df_slide1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trailing zeros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1 leading zero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US curr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"$",0.00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--&gt; $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--&gt; $1,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3/6)         --&gt; $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)    --&gt; -$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--&gt; -$1,234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 - (3/6))   --&gt; -$0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371600"/>
            <a:ext cx="914400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ing (df_slide1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trailing zeros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1 leading zero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Accoun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,0.00" DB";,0.00" CR"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1,234.56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 --&gt; 1,234.5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3/6)          --&gt; 0.50 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)     --&gt; -1,234.56 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 --&gt; -1,234.50 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 - (3/6))    --&gt; -0.50 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95280"/>
            <a:ext cx="91440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ing (df_slide1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2 trailing zeros, if needed - 1 leading zero,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Euro curr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"€",0.00;"-€"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~groupingSeparator = '.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~decimalSeparator = ',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€1.234,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)       --&gt; €1.234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3/6)          --&gt; €0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6)     --&gt; -€1.234,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.5)      --&gt; -€1.234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 - (3/6))    --&gt; -€0,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91440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decimal format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need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this proposed class come ab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needed to implemen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 methods and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can I get a cop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371600"/>
            <a:ext cx="9144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 positive numbers (df_slide2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No grouping for negative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Return [0] for zero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,0.00;"-"0.00;"[0]"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)        --&gt; -1234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)            --&gt; [0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can be done with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295280"/>
            <a:ext cx="9144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Group all numbers (df_slide2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 Place parentheses around negative nu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 = .decimalFormat~new(',0.00;"("")"'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1234.56)      --&gt; 1,234.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-1234)        --&gt; (1,234.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ay f~format(0)            --&gt; 0.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ere can I get a cop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371600"/>
            <a:ext cx="9144000" cy="31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is the case with several “transition” projects, the “proposed” ooRexx decimal format class is “hatching” in the incubator.  (More on that from Rick on Thursda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ject needs beta testers AND more feedb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enough interest is shown, and the code is deemed “worthy”, it may be added to a future release of ooRex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oorexx.svn.sourceforge.net/viewvc/oorexx/incubator/decimalForma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is a decimal format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371600"/>
            <a:ext cx="91440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ecimal formatter allows easy and repeatable formatting of numeric data beyond what is offered by the ~format()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ould, most often, provide a means to add a “thousands” separator, plus possible character “padding”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“class” file, the programmer only has to “require” it in their code, and create an instance of the “object”.  From there it is simply a matter of setting the desired “attributes” and executing the ~format() “metho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ddition of currency symbols, positive/negative indicators, and international thousands/decimal separators should also be a part of a “good” decimal for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end, a decimal formatter should do much more than simply allow specification of the number of decimal “place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o needs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37160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nkly, if you need it, you need it.  If you don’t, you don’t.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nly “true” way to know if you need “decimal formatting” is to know what one does and then determine if its “finished product” is beneficial to your “cause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How did this proposed class come ab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371600"/>
            <a:ext cx="91440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 ’70s / Early ’80s Hibol programming langu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= source,m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 was a finite set of symbols that would format the sour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.. 339,456.78 = 339456.78,”ZZZ,ZZZ.ZZ” – Crude, but very us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vember ’07 began a discussion thread on the RexxLA 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t lots of feedback and even a few “beta testers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ed at several suggested decimal formatters and decided to “model” this one on the Java decimalFormat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is needed to implemen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37160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ed for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oRexx 3.2 or hig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inimal understanding of “object oriented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71600"/>
            <a:ext cx="91440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 = .decimalFormat~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(optional patter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If pattern is not specified, the default pattern “,.##’ will be us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forma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(numb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Returns a result with “number” formatted according to the set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Returns the current version of the decimalFormat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371600"/>
            <a:ext cx="9144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roupingSize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groupingSize (Default is 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groupingSize = numeric whol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decimalSepa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decimalSeparator (Default is ‘.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decimalSeparator = single length character that is not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duplicate of the groupingSepar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roupingSepa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groupingSeparator (Default is ‘,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groupingSeparator = single length character that is not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duplicate of the decimalSepar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 Proposed Decimal Format Class for ooRe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2193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838080"/>
            <a:ext cx="9144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Times New Roman"/>
              </a:rPr>
              <a:t>What are the methods &amp; attribut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371600"/>
            <a:ext cx="9144000" cy="579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-BoldMT"/>
              </a:rPr>
              <a:t>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patter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pattern (Default is ‘,.##’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attern = a valid pattern as described be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pPrefi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pPrefix -- Returns the current prefix for a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si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Prefix = ‘$’ -- Sets the prefix for a positive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pMas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g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a_result = formatter~pMask -- Returns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si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MT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formatter~pMask = ‘#,##0.00’ -- Sets only the </a:t>
            </a:r>
            <a:r>
              <a:rPr b="0" i="1" lang="en-US" sz="2000" spc="-1" strike="noStrike">
                <a:solidFill>
                  <a:srgbClr val="000000"/>
                </a:solidFill>
                <a:latin typeface="Arial-ItalicMT"/>
              </a:rPr>
              <a:t>mask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rtion of the 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positive patter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3:01:05Z</dcterms:created>
  <dc:creator>Lee Peedin</dc:creator>
  <dc:description/>
  <dc:language>en-US</dc:language>
  <cp:lastModifiedBy>Lee Peedin</cp:lastModifiedBy>
  <dcterms:modified xsi:type="dcterms:W3CDTF">2008-04-28T18:23:41Z</dcterms:modified>
  <cp:revision>88</cp:revision>
  <dc:subject/>
  <dc:title>Rexx/SQL Procedural To Object Oriented</dc:title>
</cp:coreProperties>
</file>