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D94-2185-49DC-AF8B-23FF6D20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36D3-8461-4811-9B59-B5F61A9B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C67B-813D-48C2-8B12-736C79BA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9F2D-1B9D-4E93-910E-6D448D37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86F4-EA57-4F2B-8483-8773963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8F19-1BF9-46C2-8042-72E9B9BA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281D-75B7-4724-B03E-7BEDC66B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4631-DF99-431A-8EBA-0161542A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61C-F126-4DC5-A568-8FD2E1FE1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819A-F4F1-4391-9612-3FE326E2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43F6-5713-4331-8C24-4452AAB5D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FCD-6DCD-4648-9B77-FE92FA9A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8388-F920-48D7-A245-5DFCC6B48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ee@safedatausa.com" TargetMode="External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nternational Rexx Symposiu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7 April – 1 May, 2008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rion Raleigh Hotel State Capital – Raleigh, NC USA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onsored By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xxLA_Logo" descr=""/>
          <p:cNvPicPr/>
          <p:nvPr/>
        </p:nvPicPr>
        <p:blipFill>
          <a:blip r:embed="rId1"/>
          <a:stretch/>
        </p:blipFill>
        <p:spPr>
          <a:xfrm>
            <a:off x="3200400" y="1849320"/>
            <a:ext cx="2971800" cy="241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91120"/>
            <a:ext cx="9144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Lee Peedin, VP Research &amp; Development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Safe Data, Inc. Wallace, NC</a:t>
            </a:r>
            <a:br>
              <a:rPr sz="2400"/>
            </a:b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lee@safedataus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Suf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Grou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Grouping = .true/.false -- Sets the positive grouping to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,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Suffix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1600"/>
            <a:ext cx="91440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Grouping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Grouping = .true/.false -- Sets the negative grouping t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the 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zPattern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zPattern -- Returns the current pattern for a zer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zPattern = ‘[0]’ -- Sets the pattern for a zero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 – Best Answered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if needed (input value is rou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##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7)     --&gt; 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7)    --&gt; -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(df_slide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leading zero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US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$",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--&gt; 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--&gt; 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--&gt; 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--&gt; -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--&gt; -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--&gt; -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" DB";,0.00" CR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 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Euro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€",0.00;"-€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groupingSeparator = '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decimalSeparator = ',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9144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ethods and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positive numbers (df_slide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for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Return [0] for zero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-"0.00;"[0]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-123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95280"/>
            <a:ext cx="9144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all numbers (df_slide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Place parentheses around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("")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(1,234.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91440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s the case with several “transition” projects, the “proposed” ooRexx decimal format class is “hatching” in the incubator.  (More on that from Rick on Thursda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ject needs beta testers AND more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ough interest is shown, and the code is deemed “worthy”, it may be added to a future release of ooRex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oorexx.svn.sourceforge.net/viewvc/oorexx/incubator/decimalForma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mal formatter allows easy and repeatable formatting of numeric data beyond what is offered by the ~format()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, most often, provide a means to add a “thousands” separator, plus possible character “padding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“class” file, the programmer only has to “require” it in their code, and create an instance of the “object”.  From there it is simply a matter of setting the desired “attributes” and executing the ~format() “meth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ition of currency symbols, positive/negative indicators, and international thousands/decimal separators should also be a part of a “good” decimal for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nd, a decimal formatter should do much more than simply allow specification of the number of decimal “plac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y, if you need it, you need it.  If you don’t, you don’t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“true” way to know if you need “decimal formatting” is to know what one does and then determine if its “finished product” is beneficial to your “cau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16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’70s / Early ’80s Hibol programming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= source,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was a finite set of symbols that would format the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.. 339,456.78 = 339456.78,”ZZZ,ZZZ.ZZ” – Crude, but very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’07 began a discussion thread on the RexxL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lots of feedback and even a few “beta test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ed at several suggested decimal formatters and decided to “model” this one on the Java decimalFormat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16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ed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Rexx 3.2 or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imal understanding of “object orie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 = .decimalFormat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optional patte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If pattern is not specified, the default pattern “,.##’ will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a result with “number” formatted according to the set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the current version of the decimalForm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ize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ize (Default is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ize = numeric whol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decimal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decimalSeparator (Default is ‘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decimal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grouping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eparator (Default is ‘,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decimal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attern (Default is ‘,.##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attern = a valid pattern as described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Mask -- Returns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01:05Z</dcterms:created>
  <dc:creator>Lee Peedin</dc:creator>
  <dc:description/>
  <dc:language>en-US</dc:language>
  <cp:lastModifiedBy>Lee Peedin</cp:lastModifiedBy>
  <dcterms:modified xsi:type="dcterms:W3CDTF">2008-04-28T18:23:41Z</dcterms:modified>
  <cp:revision>88</cp:revision>
  <dc:subject/>
  <dc:title>Rexx/SQL Procedural To Object Oriented</dc:title>
</cp:coreProperties>
</file>