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12.jpeg" ContentType="image/jpeg"/>
  <Override PartName="/ppt/media/image11.jpeg" ContentType="image/jpeg"/>
  <Override PartName="/ppt/media/image9.png" ContentType="image/png"/>
  <Override PartName="/ppt/media/image7.png" ContentType="image/png"/>
  <Override PartName="/ppt/media/image1.jpeg" ContentType="image/jpeg"/>
  <Override PartName="/ppt/media/image20.jpeg" ContentType="image/jpeg"/>
  <Override PartName="/ppt/media/image1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dt" idx="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8F6C-A7D1-4BA6-921D-6C0D28D133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replace the title / subtitle with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ck on the title block -&gt; select all the text by pressing Ctrl+A -&gt; press Delete key -&gt; type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AD2B8-6B5D-4ED2-A418-1BFC185B3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A7C96-A0F6-448A-B78C-8CBC9F6865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7EDC2-9E6E-4155-A322-E7F470FB7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8952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640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5228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8952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640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4BAB3-8EF5-47C7-B369-D4FD75FCB5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2280" y="609120"/>
            <a:ext cx="8686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2CAC-6098-45CE-9497-F8C23E298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08952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640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5228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08952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640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C6DF8-C494-47E7-AEF3-0BD11B6779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01256-F8F8-47EA-8BD5-871C23F8216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EEF62-D52D-4672-9800-AB6F74FE0E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39889-76E6-48F8-9AB8-F3C0295E5D4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31677A-129C-410E-8A1A-2259EB77AB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54985-EC75-44AA-8200-4C3F17B13CD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52280" y="609120"/>
            <a:ext cx="8686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6A804-3739-4D05-80F1-55ECC74794C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0C6BC-8F3B-4769-8800-F7061066E9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58BF8-8B7C-436C-9E20-D564AE8F8B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7DD95-581A-4CB8-AD19-ED620E7026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1CE0D-E763-44B5-80EE-0F354E6B87B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21839-2AFE-4190-A99A-FDAEBD66D69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08952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640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15228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08952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640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57970-B22B-47FB-923A-20E2021A02D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2D8231-8102-4964-ACFB-0DF0DB6560B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1E5E74-95B0-4E83-8B44-5C00C37EBC4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246F24-EB23-49AA-85DF-C1C2DA5D1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DAEA-034A-4AE3-8244-8DA0D035D2B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A03C84-6A16-4B4D-9668-03FA4B4269C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B91B78-2A12-48F6-8FF3-EAC6C3EE9A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52280" y="609120"/>
            <a:ext cx="8686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965718-0290-4A63-9C07-2BD64A5CF5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F9154E-84BB-41A4-A858-3A5595D3ED7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ADF055-A131-4725-95D5-68AC7F2B8E1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36F8D0-43E5-4F93-A177-AD3CE1E073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A7749A-80A5-46EF-BB52-DF93689C7EF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78F3F9-8422-40B6-81E9-499D9C142F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08952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640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15228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08952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640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D0A74A-2CDA-4C5D-8AA2-0CD235F7A2E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9E0D7D-4E91-4C97-84B9-FB2B76BF9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40401-0836-458B-9855-EA4C33C3FB4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D9B8E-84F4-43DE-8191-073194EFA01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3BCF9-6463-4B70-A7E2-53A85E33FA7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E348F9-795D-40DF-988E-1E381CD7757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C6D3B7-2730-4667-B509-BF45F880249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52280" y="609120"/>
            <a:ext cx="8686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F0AB1-315A-48CD-BE79-1B6F846756A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51630-B4A3-4F00-95A2-FD8BB543D8E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BF03F1-9F19-4D1A-B96F-4238C7DAA35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CEB56-931F-45C1-BB19-DD714DC559C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0AEE87-963D-4798-840C-D62B71E8887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D16C61-02E1-4887-9EB0-EDE445FBE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609120"/>
            <a:ext cx="8686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F350-9F0A-4194-AE0B-1ECE37F01C0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08952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640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5228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08952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640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10BBB-4146-4B33-BB57-06420A97477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52280" y="609120"/>
            <a:ext cx="868680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9C924-428F-4C5F-82EC-9F08C61AF8E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08952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6400" y="137160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5228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08952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6400" y="3958560"/>
            <a:ext cx="2796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03680" y="395856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3BC7-8C0B-4B0A-9DF7-BE0F7144F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03680" y="1371600"/>
            <a:ext cx="4239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52280" y="3958560"/>
            <a:ext cx="8686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74EE-B3CC-44BA-9E75-2823CB292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938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27010" r="0" b="52127"/>
          <a:stretch/>
        </p:blipFill>
        <p:spPr>
          <a:xfrm>
            <a:off x="1440" y="1440"/>
            <a:ext cx="9144000" cy="3812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81720" y="74520"/>
            <a:ext cx="30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ystems and Technolog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6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052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65946-85D0-4B5B-9426-8C242BCB3C7F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1447560" y="6500520"/>
            <a:ext cx="38113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90720" y="146160"/>
            <a:ext cx="0" cy="23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990720" y="648000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668600"/>
            <a:ext cx="9144000" cy="3565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16420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rcRect l="0" t="0" r="-8246" b="-32877"/>
          <a:stretch/>
        </p:blipFill>
        <p:spPr>
          <a:xfrm>
            <a:off x="7524720" y="687240"/>
            <a:ext cx="1162080" cy="532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M Systems and Technolog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3"/>
          </p:nvPr>
        </p:nvSpPr>
        <p:spPr>
          <a:xfrm>
            <a:off x="761760" y="6221520"/>
            <a:ext cx="362556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CS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181120" y="6221520"/>
            <a:ext cx="2057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September 29,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828800" y="1695600"/>
            <a:ext cx="0" cy="380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28800" y="516204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6248520"/>
            <a:ext cx="164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6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3733920"/>
            <a:ext cx="0" cy="14284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828800" y="137160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-227160" algn="ctr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 algn="ctr">
              <a:spcBef>
                <a:spcPts val="499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687240" algn="ctr"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 algn="ctr">
              <a:spcBef>
                <a:spcPts val="451"/>
              </a:spcBef>
              <a:buClr>
                <a:srgbClr val="2db6b3"/>
              </a:buClr>
              <a:buFont typeface="Arial"/>
              <a:buChar char="&gt;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938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27010" r="0" b="52127"/>
          <a:stretch/>
        </p:blipFill>
        <p:spPr>
          <a:xfrm>
            <a:off x="1440" y="1440"/>
            <a:ext cx="9144000" cy="3812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81720" y="74520"/>
            <a:ext cx="30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ystems and Technolog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6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3"/>
          <p:cNvSpPr>
            <a:spLocks noGrp="1"/>
          </p:cNvSpPr>
          <p:nvPr>
            <p:ph type="sldNum" idx="5"/>
          </p:nvPr>
        </p:nvSpPr>
        <p:spPr>
          <a:xfrm>
            <a:off x="154080" y="650052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8323-A9BD-4139-948D-FA2C6F450F3A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6"/>
          </p:nvPr>
        </p:nvSpPr>
        <p:spPr>
          <a:xfrm>
            <a:off x="1447560" y="6500520"/>
            <a:ext cx="38113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SM       |      IBM 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46160"/>
            <a:ext cx="0" cy="23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648000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938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0" t="27010" r="0" b="52127"/>
          <a:stretch/>
        </p:blipFill>
        <p:spPr>
          <a:xfrm>
            <a:off x="1440" y="1440"/>
            <a:ext cx="9144000" cy="3812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7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DB23-A462-4C9B-AF23-AF8C0BD203B2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-636480"/>
            <a:ext cx="622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3960" y="5256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System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72160" y="6499080"/>
            <a:ext cx="33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2006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647532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167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3260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938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pic>
        <p:nvPicPr>
          <p:cNvPr id="209" name="" descr=""/>
          <p:cNvPicPr/>
          <p:nvPr/>
        </p:nvPicPr>
        <p:blipFill>
          <a:blip r:embed="rId3"/>
          <a:srcRect l="0" t="27010" r="0" b="52127"/>
          <a:stretch/>
        </p:blipFill>
        <p:spPr>
          <a:xfrm>
            <a:off x="1440" y="1440"/>
            <a:ext cx="9144000" cy="3812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8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E873-C8A6-44B9-A019-AED03D587D5E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-636480"/>
            <a:ext cx="622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3960" y="5256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System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72160" y="6499080"/>
            <a:ext cx="33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2006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647532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3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13260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-636480"/>
            <a:ext cx="622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3960" y="5256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ystem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3260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5.jpeg"/><Relationship Id="rId20" Type="http://schemas.openxmlformats.org/officeDocument/2006/relationships/image" Target="../media/image9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1.jpeg"/><Relationship Id="rId26" Type="http://schemas.openxmlformats.org/officeDocument/2006/relationships/image" Target="../media/image15.png"/><Relationship Id="rId27" Type="http://schemas.openxmlformats.org/officeDocument/2006/relationships/image" Target="../media/image11.jpeg"/><Relationship Id="rId28" Type="http://schemas.openxmlformats.org/officeDocument/2006/relationships/image" Target="../media/image15.png"/><Relationship Id="rId29" Type="http://schemas.openxmlformats.org/officeDocument/2006/relationships/image" Target="../media/image11.jpeg"/><Relationship Id="rId3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68280" y="2311560"/>
            <a:ext cx="64771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uster Systems Management (CSM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uster 1350 Release 6b Training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949400" y="4343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b6b3"/>
                </a:solidFill>
                <a:latin typeface="Lydian"/>
              </a:rPr>
              <a:t>Marty Fullam – fullam@us.ibm.com</a:t>
            </a:r>
            <a:endParaRPr b="0" lang="en-US" sz="2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1C92B8E-0C40-4028-A790-6A93ECC7D142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"/>
          <p:cNvSpPr/>
          <p:nvPr/>
        </p:nvSpPr>
        <p:spPr>
          <a:xfrm>
            <a:off x="0" y="2349360"/>
            <a:ext cx="9144000" cy="17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ydian"/>
                <a:ea typeface="Arial"/>
              </a:rPr>
              <a:t>CSM</a:t>
            </a:r>
            <a:r>
              <a:rPr b="1" lang="en-US" sz="3200" spc="-1" strike="noStrike">
                <a:solidFill>
                  <a:srgbClr val="7889fb"/>
                </a:solidFill>
                <a:latin typeface="Lydian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ydian"/>
                <a:ea typeface="Arial"/>
              </a:rPr>
              <a:t>Capabilities</a:t>
            </a:r>
            <a:br>
              <a:rPr sz="3200"/>
            </a:b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Lydian"/>
                <a:ea typeface="Arial"/>
              </a:rPr>
              <a:t>(Not an exhaustive list! There are capabilities beyond those covered in these charts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FEEF3-4A86-4FDB-8C3C-7C3DF64C02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Prereqs to using CSM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97880" cy="41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System p and/or System x hardware, and other supported de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Networks (sugges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Lydian"/>
              </a:rPr>
              <a:t>public VLAN</a:t>
            </a: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 to allow admins and users to connect to the machines comprising the clu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Lydian"/>
              </a:rPr>
              <a:t>cluster VLAN</a:t>
            </a: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 for in-band communication between management server and 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-2350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A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Lydian"/>
              </a:rPr>
              <a:t>management VLAN</a:t>
            </a: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 for out-of-band hardware control of nodes from the management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DNS and DHCP configured appropriate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AIX or Linux installed on the system that will be your CSM management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2F97-88FB-4CA9-BFE0-452CD5DB95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Management Server set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978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Install csm.server software and license, and accept license agreement with commands:  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stallp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Arial"/>
              </a:rPr>
              <a:t>AI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1" i="1" lang="en-US" sz="2000" spc="-1" strike="noStrike">
                <a:solidFill>
                  <a:srgbClr val="7889fb"/>
                </a:solidFill>
                <a:latin typeface="Arial"/>
              </a:rPr>
              <a:t>installms</a:t>
            </a:r>
            <a:r>
              <a:rPr b="1" i="1" lang="en-US" sz="2000" spc="-1" strike="noStrike" baseline="-25000">
                <a:solidFill>
                  <a:srgbClr val="7889fb"/>
                </a:solidFill>
                <a:latin typeface="Arial"/>
              </a:rPr>
              <a:t>Linux</a:t>
            </a:r>
            <a:r>
              <a:rPr b="1" i="1" lang="en-US" sz="2000" spc="-1" strike="noStrike">
                <a:solidFill>
                  <a:srgbClr val="7889fb"/>
                </a:solidFill>
                <a:latin typeface="Arial"/>
              </a:rPr>
              <a:t>,   csmconfi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3708360" y="4584600"/>
            <a:ext cx="1914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Lydian"/>
              </a:rPr>
              <a:t>Management</a:t>
            </a:r>
            <a:r>
              <a:rPr b="1" lang="en-US" sz="1500" spc="-1" strike="noStrike" u="sng">
                <a:solidFill>
                  <a:srgbClr val="000000"/>
                </a:solidFill>
                <a:uFillTx/>
                <a:latin typeface="Lydian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Lydian"/>
              </a:rPr>
              <a:t>Serv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4" name="" descr=""/>
          <p:cNvPicPr/>
          <p:nvPr/>
        </p:nvPicPr>
        <p:blipFill>
          <a:blip r:embed="rId1"/>
          <a:stretch/>
        </p:blipFill>
        <p:spPr>
          <a:xfrm>
            <a:off x="3632040" y="3067200"/>
            <a:ext cx="1702080" cy="130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C62B1-2484-48E3-817A-2EE99126E6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Node and Device Defini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9788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If applicable, discover hardware control points with command:</a:t>
            </a:r>
            <a:br>
              <a:rPr sz="1600"/>
            </a:br>
            <a:r>
              <a:rPr b="1" i="1" lang="en-US" sz="1600" spc="-1" strike="noStrike">
                <a:solidFill>
                  <a:srgbClr val="7889fb"/>
                </a:solidFill>
                <a:latin typeface="Arial"/>
              </a:rPr>
              <a:t>hwsd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If applicable, change and/or record hardware control point userids and passwords with command: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1" i="1" lang="en-US" sz="1600" spc="-1" strike="noStrike">
                <a:solidFill>
                  <a:srgbClr val="7889fb"/>
                </a:solidFill>
                <a:latin typeface="Arial"/>
              </a:rPr>
              <a:t>system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If applicable, discover nodes and devices attached to hardware control points with command:</a:t>
            </a:r>
            <a:br>
              <a:rPr sz="1600"/>
            </a:br>
            <a:r>
              <a:rPr b="1" i="1" lang="en-US" sz="1600" spc="-1" strike="noStrike">
                <a:solidFill>
                  <a:srgbClr val="7889fb"/>
                </a:solidFill>
                <a:latin typeface="Arial"/>
              </a:rPr>
              <a:t>lshdwinf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Define nodes and devices to the management server with commands:</a:t>
            </a:r>
            <a:br>
              <a:rPr sz="2000"/>
            </a:br>
            <a:r>
              <a:rPr b="1" i="1" lang="en-US" sz="1800" spc="-1" strike="noStrike">
                <a:solidFill>
                  <a:srgbClr val="7889fb"/>
                </a:solidFill>
                <a:latin typeface="Arial"/>
              </a:rPr>
              <a:t>definenode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and </a:t>
            </a:r>
            <a:r>
              <a:rPr b="1" i="1" lang="en-US" sz="1800" spc="-1" strike="noStrike">
                <a:solidFill>
                  <a:srgbClr val="7889fb"/>
                </a:solidFill>
                <a:latin typeface="Arial"/>
              </a:rPr>
              <a:t>definehwde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List defined node and device information with commands:</a:t>
            </a:r>
            <a:br>
              <a:rPr sz="1600"/>
            </a:br>
            <a:r>
              <a:rPr b="1" i="1" lang="en-US" sz="1600" spc="-1" strike="noStrike">
                <a:solidFill>
                  <a:srgbClr val="7889fb"/>
                </a:solidFill>
                <a:latin typeface="Arial"/>
              </a:rPr>
              <a:t>lsnode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1" i="1" lang="en-US" sz="1600" spc="-1" strike="noStrike">
                <a:solidFill>
                  <a:srgbClr val="7889fb"/>
                </a:solidFill>
                <a:latin typeface="Arial"/>
              </a:rPr>
              <a:t>lshwdev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Formulate node and device groups, if desired, with command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1" i="1" lang="en-US" sz="1600" spc="-1" strike="noStrike">
                <a:solidFill>
                  <a:srgbClr val="7889fb"/>
                </a:solidFill>
                <a:latin typeface="Arial"/>
              </a:rPr>
              <a:t>nodegrp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1" i="1" lang="en-US" sz="1600" spc="-1" strike="noStrike">
                <a:solidFill>
                  <a:srgbClr val="7889fb"/>
                </a:solidFill>
                <a:latin typeface="Arial"/>
              </a:rPr>
              <a:t>hwdevgr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2041-5944-4ABA-A011-6C8EA30547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Remote Hardware Control and Remote Conso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9788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Power on, power off, reboot, etc. defined nodes and devices out-of-band with command:</a:t>
            </a:r>
            <a:br>
              <a:rPr sz="1600"/>
            </a:br>
            <a:r>
              <a:rPr b="1" i="1" lang="en-US" sz="1600" spc="-1" strike="noStrike">
                <a:solidFill>
                  <a:srgbClr val="7889fb"/>
                </a:solidFill>
                <a:latin typeface="Arial"/>
              </a:rPr>
              <a:t>rpow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</a:rPr>
              <a:t>Open consoles to defined nodes and devices out-of-band with command:</a:t>
            </a:r>
            <a:br>
              <a:rPr sz="1600"/>
            </a:br>
            <a:r>
              <a:rPr b="1" i="1" lang="en-US" sz="1600" spc="-1" strike="noStrike">
                <a:solidFill>
                  <a:srgbClr val="7889fb"/>
                </a:solidFill>
                <a:latin typeface="Arial"/>
              </a:rPr>
              <a:t>rconso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54080" y="3174840"/>
            <a:ext cx="8837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  <a:ea typeface="Arial"/>
              </a:rPr>
              <a:t>BIOS Configuration and Firmware Fla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254160" y="3962520"/>
            <a:ext cx="859788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  <a:ea typeface="Arial"/>
              </a:rPr>
              <a:t>If applicable, and if desired, config BIOS settings with command:</a:t>
            </a:r>
            <a:br>
              <a:rPr sz="1600"/>
            </a:br>
            <a:r>
              <a:rPr b="1" i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rfwcf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ydian"/>
                <a:ea typeface="Arial"/>
              </a:rPr>
              <a:t>If applicable, and if desired, flash firmware on defined nodes with command:</a:t>
            </a:r>
            <a:br>
              <a:rPr sz="1600"/>
            </a:br>
            <a:r>
              <a:rPr b="1" i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rfw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90E98-4F0D-4927-ADB8-6294166ECD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Node Installation and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0080" y="1257480"/>
            <a:ext cx="8699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Install and configure an operating system and/or CSM on managed nodes with commands: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i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A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i="1" lang="en-US" sz="1800" spc="-1" strike="noStrike">
                <a:solidFill>
                  <a:srgbClr val="7889fb"/>
                </a:solidFill>
                <a:latin typeface="Arial"/>
              </a:rPr>
              <a:t>csmsetupinstall</a:t>
            </a:r>
            <a:r>
              <a:rPr b="1" i="1" lang="en-US" sz="1800" spc="-1" strike="noStrike" baseline="-25000">
                <a:solidFill>
                  <a:srgbClr val="7889fb"/>
                </a:solidFill>
                <a:latin typeface="Arial"/>
              </a:rPr>
              <a:t>Linux</a:t>
            </a:r>
            <a:r>
              <a:rPr b="1" i="1" lang="en-US" sz="1800" spc="-1" strike="noStrike">
                <a:solidFill>
                  <a:srgbClr val="7889fb"/>
                </a:solidFill>
                <a:latin typeface="Arial"/>
              </a:rPr>
              <a:t>,   installnode</a:t>
            </a:r>
            <a:r>
              <a:rPr b="1" i="1" lang="en-US" sz="1800" spc="-1" strike="noStrike" baseline="-25000">
                <a:solidFill>
                  <a:srgbClr val="7889fb"/>
                </a:solidFill>
                <a:latin typeface="Arial"/>
              </a:rPr>
              <a:t>Linux</a:t>
            </a:r>
            <a:r>
              <a:rPr b="1" i="1" lang="en-US" sz="1800" spc="-1" strike="noStrike">
                <a:solidFill>
                  <a:srgbClr val="7889fb"/>
                </a:solidFill>
                <a:latin typeface="Arial"/>
              </a:rPr>
              <a:t>,   updaten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788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4475160" y="3308400"/>
            <a:ext cx="0" cy="331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4" name="" descr=""/>
          <p:cNvPicPr/>
          <p:nvPr/>
        </p:nvPicPr>
        <p:blipFill>
          <a:blip r:embed="rId1"/>
          <a:stretch/>
        </p:blipFill>
        <p:spPr>
          <a:xfrm>
            <a:off x="4106880" y="2398680"/>
            <a:ext cx="762120" cy="585720"/>
          </a:xfrm>
          <a:prstGeom prst="rect">
            <a:avLst/>
          </a:prstGeom>
          <a:ln w="0">
            <a:noFill/>
          </a:ln>
        </p:spPr>
      </p:pic>
      <p:sp>
        <p:nvSpPr>
          <p:cNvPr id="1165" name=""/>
          <p:cNvSpPr/>
          <p:nvPr/>
        </p:nvSpPr>
        <p:spPr>
          <a:xfrm>
            <a:off x="3224160" y="3060720"/>
            <a:ext cx="252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Lydian"/>
              </a:rPr>
              <a:t>CSM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nagement</a:t>
            </a:r>
            <a:r>
              <a:rPr b="1" lang="en-US" sz="1500" spc="-1" strike="noStrike">
                <a:solidFill>
                  <a:srgbClr val="000000"/>
                </a:solidFill>
                <a:latin typeface="Lydian"/>
              </a:rPr>
              <a:t> Serv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1400040" y="3745080"/>
            <a:ext cx="6175440" cy="1776240"/>
            <a:chOff x="1400040" y="3745080"/>
            <a:chExt cx="6175440" cy="1776240"/>
          </a:xfrm>
        </p:grpSpPr>
        <p:grpSp>
          <p:nvGrpSpPr>
            <p:cNvPr id="1167" name=""/>
            <p:cNvGrpSpPr/>
            <p:nvPr/>
          </p:nvGrpSpPr>
          <p:grpSpPr>
            <a:xfrm>
              <a:off x="2967120" y="4037040"/>
              <a:ext cx="578880" cy="1123920"/>
              <a:chOff x="2967120" y="4037040"/>
              <a:chExt cx="578880" cy="1123920"/>
            </a:xfrm>
          </p:grpSpPr>
          <p:sp>
            <p:nvSpPr>
              <p:cNvPr id="1168" name=""/>
              <p:cNvSpPr/>
              <p:nvPr/>
            </p:nvSpPr>
            <p:spPr>
              <a:xfrm>
                <a:off x="3427200" y="4040280"/>
                <a:ext cx="118800" cy="1120680"/>
              </a:xfrm>
              <a:custGeom>
                <a:avLst/>
                <a:gdLst/>
                <a:ahLst/>
                <a:rect l="l" t="t" r="r" b="b"/>
                <a:pathLst>
                  <a:path w="83" h="797">
                    <a:moveTo>
                      <a:pt x="0" y="797"/>
                    </a:moveTo>
                    <a:lnTo>
                      <a:pt x="83" y="681"/>
                    </a:lnTo>
                    <a:lnTo>
                      <a:pt x="83" y="64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919191"/>
                  </a:gs>
                </a:gsLst>
                <a:lin ang="10800000"/>
              </a:gradFill>
              <a:ln w="25560">
                <a:solidFill>
                  <a:srgbClr val="a0a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128760" y="4037040"/>
                <a:ext cx="298080" cy="1123920"/>
              </a:xfrm>
              <a:prstGeom prst="rect">
                <a:avLst/>
              </a:prstGeom>
              <a:solidFill>
                <a:srgbClr val="a0a0a0"/>
              </a:solidFill>
              <a:ln w="25560">
                <a:solidFill>
                  <a:srgbClr val="6e6e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190680" y="5061240"/>
                <a:ext cx="222120" cy="58680"/>
              </a:xfrm>
              <a:prstGeom prst="rect">
                <a:avLst/>
              </a:prstGeom>
              <a:gradFill rotWithShape="0">
                <a:gsLst>
                  <a:gs pos="0">
                    <a:srgbClr val="280078"/>
                  </a:gs>
                  <a:gs pos="100000">
                    <a:srgbClr val="d2d2d2"/>
                  </a:gs>
                </a:gsLst>
                <a:lin ang="5400000"/>
              </a:gradFill>
              <a:ln w="25560">
                <a:solidFill>
                  <a:srgbClr val="6e6e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332160" y="5062680"/>
                <a:ext cx="80640" cy="5724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4" y="38"/>
                    </a:moveTo>
                    <a:lnTo>
                      <a:pt x="0" y="0"/>
                    </a:lnTo>
                    <a:lnTo>
                      <a:pt x="56" y="0"/>
                    </a:lnTo>
                    <a:lnTo>
                      <a:pt x="56" y="41"/>
                    </a:lnTo>
                    <a:lnTo>
                      <a:pt x="54" y="38"/>
                    </a:lnTo>
                    <a:close/>
                  </a:path>
                </a:pathLst>
              </a:custGeom>
              <a:solidFill>
                <a:srgbClr val="280078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190680" y="506268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8" h="38">
                    <a:moveTo>
                      <a:pt x="0" y="0"/>
                    </a:moveTo>
                    <a:lnTo>
                      <a:pt x="8" y="0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280078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190680" y="4048200"/>
                <a:ext cx="222120" cy="1014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187440" y="4095720"/>
                <a:ext cx="1173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37"/>
                  </a:spcAft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Garamond"/>
                  </a:rPr>
                  <a:t>IBM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2967120" y="4048200"/>
                <a:ext cx="166320" cy="1112760"/>
              </a:xfrm>
              <a:custGeom>
                <a:avLst/>
                <a:gdLst/>
                <a:ahLst/>
                <a:rect l="l" t="t" r="r" b="b"/>
                <a:pathLst>
                  <a:path w="115" h="791">
                    <a:moveTo>
                      <a:pt x="59" y="791"/>
                    </a:moveTo>
                    <a:lnTo>
                      <a:pt x="0" y="770"/>
                    </a:lnTo>
                    <a:lnTo>
                      <a:pt x="0" y="13"/>
                    </a:lnTo>
                    <a:lnTo>
                      <a:pt x="55" y="8"/>
                    </a:lnTo>
                    <a:lnTo>
                      <a:pt x="115" y="0"/>
                    </a:lnTo>
                    <a:lnTo>
                      <a:pt x="112" y="783"/>
                    </a:lnTo>
                    <a:lnTo>
                      <a:pt x="115" y="783"/>
                    </a:lnTo>
                    <a:close/>
                  </a:path>
                </a:pathLst>
              </a:custGeom>
              <a:solidFill>
                <a:srgbClr val="464646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3105000" y="4062600"/>
                <a:ext cx="29880" cy="1069920"/>
              </a:xfrm>
              <a:custGeom>
                <a:avLst/>
                <a:gdLst/>
                <a:ahLst/>
                <a:rect l="l" t="t" r="r" b="b"/>
                <a:pathLst>
                  <a:path w="21" h="760">
                    <a:moveTo>
                      <a:pt x="0" y="7"/>
                    </a:moveTo>
                    <a:lnTo>
                      <a:pt x="0" y="753"/>
                    </a:lnTo>
                    <a:lnTo>
                      <a:pt x="21" y="760"/>
                    </a:lnTo>
                    <a:lnTo>
                      <a:pt x="21" y="0"/>
                    </a:lnTo>
                    <a:lnTo>
                      <a:pt x="2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46"/>
                  </a:gs>
                  <a:gs pos="50000">
                    <a:srgbClr val="919191"/>
                  </a:gs>
                  <a:gs pos="100000">
                    <a:srgbClr val="464646"/>
                  </a:gs>
                </a:gsLst>
                <a:lin ang="0"/>
              </a:gradFill>
              <a:ln w="25560">
                <a:solidFill>
                  <a:srgbClr val="464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976480" y="4067280"/>
                <a:ext cx="66240" cy="1079640"/>
              </a:xfrm>
              <a:custGeom>
                <a:avLst/>
                <a:gdLst/>
                <a:ahLst/>
                <a:rect l="l" t="t" r="r" b="b"/>
                <a:pathLst>
                  <a:path w="46" h="767">
                    <a:moveTo>
                      <a:pt x="46" y="0"/>
                    </a:moveTo>
                    <a:lnTo>
                      <a:pt x="46" y="767"/>
                    </a:lnTo>
                    <a:lnTo>
                      <a:pt x="0" y="75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4b4b4"/>
                  </a:gs>
                  <a:gs pos="100000">
                    <a:srgbClr val="5a5a5a"/>
                  </a:gs>
                </a:gsLst>
                <a:lin ang="10800000"/>
              </a:gra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063600" y="4062600"/>
                <a:ext cx="28440" cy="1084320"/>
              </a:xfrm>
              <a:custGeom>
                <a:avLst/>
                <a:gdLst/>
                <a:ahLst/>
                <a:rect l="l" t="t" r="r" b="b"/>
                <a:pathLst>
                  <a:path w="19" h="770">
                    <a:moveTo>
                      <a:pt x="19" y="0"/>
                    </a:moveTo>
                    <a:lnTo>
                      <a:pt x="19" y="764"/>
                    </a:lnTo>
                    <a:lnTo>
                      <a:pt x="0" y="77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4b4b4"/>
                  </a:gs>
                  <a:gs pos="100000">
                    <a:srgbClr val="280078"/>
                  </a:gs>
                </a:gsLst>
                <a:lin ang="10800000"/>
              </a:gra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5702400" y="4035600"/>
              <a:ext cx="617400" cy="1112760"/>
              <a:chOff x="5702400" y="4035600"/>
              <a:chExt cx="617400" cy="1112760"/>
            </a:xfrm>
          </p:grpSpPr>
          <p:sp>
            <p:nvSpPr>
              <p:cNvPr id="1180" name=""/>
              <p:cNvSpPr/>
              <p:nvPr/>
            </p:nvSpPr>
            <p:spPr>
              <a:xfrm>
                <a:off x="6237360" y="4035600"/>
                <a:ext cx="82440" cy="1110960"/>
              </a:xfrm>
              <a:custGeom>
                <a:avLst/>
                <a:gdLst/>
                <a:ahLst/>
                <a:rect l="l" t="t" r="r" b="b"/>
                <a:pathLst>
                  <a:path w="57" h="790">
                    <a:moveTo>
                      <a:pt x="0" y="790"/>
                    </a:moveTo>
                    <a:lnTo>
                      <a:pt x="57" y="674"/>
                    </a:lnTo>
                    <a:lnTo>
                      <a:pt x="57" y="6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10800000"/>
              </a:gradFill>
              <a:ln w="25560">
                <a:solidFill>
                  <a:srgbClr val="a0a0a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970600" y="4035600"/>
                <a:ext cx="269640" cy="1112760"/>
              </a:xfrm>
              <a:prstGeom prst="rect">
                <a:avLst/>
              </a:prstGeom>
              <a:solidFill>
                <a:srgbClr val="464646"/>
              </a:solidFill>
              <a:ln w="25560">
                <a:solidFill>
                  <a:srgbClr val="6e6e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954760" y="4037040"/>
                <a:ext cx="15840" cy="1110960"/>
              </a:xfrm>
              <a:custGeom>
                <a:avLst/>
                <a:gdLst/>
                <a:ahLst/>
                <a:rect l="l" t="t" r="r" b="b"/>
                <a:pathLst>
                  <a:path w="10" h="789">
                    <a:moveTo>
                      <a:pt x="0" y="7"/>
                    </a:moveTo>
                    <a:lnTo>
                      <a:pt x="0" y="785"/>
                    </a:lnTo>
                    <a:lnTo>
                      <a:pt x="10" y="789"/>
                    </a:lnTo>
                    <a:lnTo>
                      <a:pt x="10" y="2"/>
                    </a:lnTo>
                    <a:lnTo>
                      <a:pt x="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2d2d2"/>
                  </a:gs>
                  <a:gs pos="100000">
                    <a:srgbClr val="6e6e6e"/>
                  </a:gs>
                </a:gsLst>
                <a:lin ang="10800000"/>
              </a:gradFill>
              <a:ln w="25560">
                <a:solidFill>
                  <a:srgbClr val="6e6e6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832360" y="4035600"/>
                <a:ext cx="141480" cy="1110960"/>
              </a:xfrm>
              <a:custGeom>
                <a:avLst/>
                <a:gdLst/>
                <a:ahLst/>
                <a:rect l="l" t="t" r="r" b="b"/>
                <a:pathLst>
                  <a:path w="98" h="790">
                    <a:moveTo>
                      <a:pt x="0" y="789"/>
                    </a:moveTo>
                    <a:lnTo>
                      <a:pt x="6" y="580"/>
                    </a:lnTo>
                    <a:lnTo>
                      <a:pt x="6" y="229"/>
                    </a:lnTo>
                    <a:lnTo>
                      <a:pt x="60" y="191"/>
                    </a:lnTo>
                    <a:lnTo>
                      <a:pt x="60" y="0"/>
                    </a:lnTo>
                    <a:lnTo>
                      <a:pt x="98" y="4"/>
                    </a:lnTo>
                    <a:lnTo>
                      <a:pt x="95" y="790"/>
                    </a:lnTo>
                    <a:lnTo>
                      <a:pt x="98" y="790"/>
                    </a:lnTo>
                    <a:close/>
                  </a:path>
                </a:pathLst>
              </a:custGeom>
              <a:solidFill>
                <a:srgbClr val="5a5a5a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933880" y="4059360"/>
                <a:ext cx="52560" cy="1071000"/>
              </a:xfrm>
              <a:custGeom>
                <a:avLst/>
                <a:gdLst/>
                <a:ahLst/>
                <a:rect l="l" t="t" r="r" b="b"/>
                <a:pathLst>
                  <a:path w="36" h="762">
                    <a:moveTo>
                      <a:pt x="0" y="0"/>
                    </a:moveTo>
                    <a:lnTo>
                      <a:pt x="0" y="759"/>
                    </a:lnTo>
                    <a:lnTo>
                      <a:pt x="36" y="762"/>
                    </a:lnTo>
                    <a:lnTo>
                      <a:pt x="36" y="0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2900"/>
                  </a:gs>
                  <a:gs pos="50000">
                    <a:srgbClr val="ffad2c"/>
                  </a:gs>
                  <a:gs pos="100000">
                    <a:srgbClr val="722900"/>
                  </a:gs>
                </a:gsLst>
                <a:lin ang="0"/>
              </a:gradFill>
              <a:ln w="25560">
                <a:solidFill>
                  <a:srgbClr val="db7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702400" y="4044960"/>
                <a:ext cx="118800" cy="431280"/>
              </a:xfrm>
              <a:prstGeom prst="rect">
                <a:avLst/>
              </a:prstGeom>
              <a:gradFill rotWithShape="0">
                <a:gsLst>
                  <a:gs pos="0">
                    <a:srgbClr val="919191"/>
                  </a:gs>
                  <a:gs pos="100000">
                    <a:srgbClr val="323232"/>
                  </a:gs>
                </a:gsLst>
                <a:lin ang="10800000"/>
              </a:gra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844960" y="4325760"/>
                <a:ext cx="74880" cy="799920"/>
              </a:xfrm>
              <a:custGeom>
                <a:avLst/>
                <a:gdLst/>
                <a:ahLst/>
                <a:rect l="l" t="t" r="r" b="b"/>
                <a:pathLst>
                  <a:path w="51" h="569">
                    <a:moveTo>
                      <a:pt x="6" y="568"/>
                    </a:moveTo>
                    <a:lnTo>
                      <a:pt x="51" y="564"/>
                    </a:lnTo>
                    <a:lnTo>
                      <a:pt x="51" y="0"/>
                    </a:lnTo>
                    <a:lnTo>
                      <a:pt x="0" y="25"/>
                    </a:lnTo>
                    <a:lnTo>
                      <a:pt x="0" y="569"/>
                    </a:lnTo>
                    <a:lnTo>
                      <a:pt x="3" y="56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9191"/>
                  </a:gs>
                  <a:gs pos="100000">
                    <a:srgbClr val="323232"/>
                  </a:gs>
                </a:gsLst>
                <a:lin ang="10800000"/>
              </a:gra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702400" y="4468680"/>
                <a:ext cx="177480" cy="677520"/>
              </a:xfrm>
              <a:custGeom>
                <a:avLst/>
                <a:gdLst/>
                <a:ahLst/>
                <a:rect l="l" t="t" r="r" b="b"/>
                <a:pathLst>
                  <a:path w="123" h="481">
                    <a:moveTo>
                      <a:pt x="0" y="476"/>
                    </a:moveTo>
                    <a:lnTo>
                      <a:pt x="0" y="0"/>
                    </a:lnTo>
                    <a:lnTo>
                      <a:pt x="119" y="0"/>
                    </a:lnTo>
                    <a:lnTo>
                      <a:pt x="119" y="481"/>
                    </a:lnTo>
                    <a:lnTo>
                      <a:pt x="123" y="48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323232"/>
                  </a:gs>
                </a:gsLst>
                <a:lin ang="10800000"/>
              </a:gradFill>
              <a:ln w="255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794200" y="4035600"/>
                <a:ext cx="125640" cy="398160"/>
              </a:xfrm>
              <a:custGeom>
                <a:avLst/>
                <a:gdLst/>
                <a:ahLst/>
                <a:rect l="l" t="t" r="r" b="b"/>
                <a:pathLst>
                  <a:path w="86" h="284">
                    <a:moveTo>
                      <a:pt x="0" y="8"/>
                    </a:moveTo>
                    <a:lnTo>
                      <a:pt x="86" y="0"/>
                    </a:lnTo>
                    <a:lnTo>
                      <a:pt x="86" y="284"/>
                    </a:lnTo>
                    <a:lnTo>
                      <a:pt x="0" y="2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6e6e"/>
                  </a:gs>
                  <a:gs pos="100000">
                    <a:srgbClr val="000000"/>
                  </a:gs>
                </a:gsLst>
                <a:lin ang="10800000"/>
              </a:gradFill>
              <a:ln w="25560">
                <a:solidFill>
                  <a:srgbClr val="6e6e6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003720" y="4060800"/>
                <a:ext cx="209520" cy="105840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5560">
                <a:solidFill>
                  <a:srgbClr val="464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057720" y="4095720"/>
                <a:ext cx="104760" cy="4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51"/>
                  </a:spcAft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300" spc="-1" strike="noStrike">
                    <a:solidFill>
                      <a:srgbClr val="ffffff"/>
                    </a:solidFill>
                    <a:latin typeface="Garamond"/>
                  </a:rPr>
                  <a:t>IBM</a:t>
                </a:r>
                <a:endParaRPr b="0" lang="en-US" sz="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702400" y="4433760"/>
                <a:ext cx="210960" cy="36360"/>
              </a:xfrm>
              <a:custGeom>
                <a:avLst/>
                <a:gdLst/>
                <a:ahLst/>
                <a:rect l="l" t="t" r="r" b="b"/>
                <a:pathLst>
                  <a:path w="146" h="26">
                    <a:moveTo>
                      <a:pt x="65" y="0"/>
                    </a:moveTo>
                    <a:lnTo>
                      <a:pt x="146" y="0"/>
                    </a:lnTo>
                    <a:lnTo>
                      <a:pt x="119" y="26"/>
                    </a:lnTo>
                    <a:lnTo>
                      <a:pt x="5" y="26"/>
                    </a:lnTo>
                    <a:lnTo>
                      <a:pt x="0" y="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a0a0"/>
                  </a:gs>
                  <a:gs pos="50000">
                    <a:srgbClr val="464646"/>
                  </a:gs>
                  <a:gs pos="100000">
                    <a:srgbClr val="a0a0a0"/>
                  </a:gs>
                </a:gsLst>
                <a:lin ang="8100000"/>
              </a:gradFill>
              <a:ln w="25560">
                <a:solidFill>
                  <a:srgbClr val="6e6e6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732280" y="4365720"/>
                <a:ext cx="38160" cy="565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6e6e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722920" y="4529160"/>
                <a:ext cx="20520" cy="3600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6e6e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892840" y="4457520"/>
                <a:ext cx="14040" cy="677520"/>
              </a:xfrm>
              <a:custGeom>
                <a:avLst/>
                <a:gdLst/>
                <a:ahLst/>
                <a:rect l="l" t="t" r="r" b="b"/>
                <a:pathLst>
                  <a:path w="10" h="481">
                    <a:moveTo>
                      <a:pt x="10" y="0"/>
                    </a:moveTo>
                    <a:lnTo>
                      <a:pt x="10" y="472"/>
                    </a:lnTo>
                    <a:lnTo>
                      <a:pt x="0" y="481"/>
                    </a:lnTo>
                    <a:lnTo>
                      <a:pt x="0" y="15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5" name=""/>
            <p:cNvSpPr/>
            <p:nvPr/>
          </p:nvSpPr>
          <p:spPr>
            <a:xfrm>
              <a:off x="1400040" y="3745080"/>
              <a:ext cx="6175440" cy="177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96" name=""/>
            <p:cNvGraphicFramePr/>
            <p:nvPr/>
          </p:nvGraphicFramePr>
          <p:xfrm>
            <a:off x="1822320" y="4305600"/>
            <a:ext cx="1003320" cy="55404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97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22320" y="4305600"/>
                      <a:ext cx="100332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98" name="" descr=""/>
            <p:cNvPicPr/>
            <p:nvPr/>
          </p:nvPicPr>
          <p:blipFill>
            <a:blip r:embed="rId6"/>
            <a:stretch/>
          </p:blipFill>
          <p:spPr>
            <a:xfrm>
              <a:off x="6661080" y="4221360"/>
              <a:ext cx="46656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" descr=""/>
            <p:cNvPicPr/>
            <p:nvPr/>
          </p:nvPicPr>
          <p:blipFill>
            <a:blip r:embed="rId7"/>
            <a:stretch/>
          </p:blipFill>
          <p:spPr>
            <a:xfrm>
              <a:off x="3879720" y="4000680"/>
              <a:ext cx="1295640" cy="55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0" name="" descr=""/>
            <p:cNvPicPr/>
            <p:nvPr/>
          </p:nvPicPr>
          <p:blipFill>
            <a:blip r:embed="rId8"/>
            <a:stretch/>
          </p:blipFill>
          <p:spPr>
            <a:xfrm>
              <a:off x="3854520" y="4953240"/>
              <a:ext cx="1447560" cy="17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1" name=""/>
          <p:cNvSpPr/>
          <p:nvPr/>
        </p:nvSpPr>
        <p:spPr>
          <a:xfrm>
            <a:off x="2023920" y="5626080"/>
            <a:ext cx="490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Lydian"/>
              </a:rPr>
              <a:t>CSM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naged Nodes and De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8B309-C88B-4499-A95A-504AC0042E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53720" y="571320"/>
            <a:ext cx="5637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Distributed Command Execu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190080" y="1320840"/>
            <a:ext cx="859788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Run commands simultaneously and in parallel on nodes with command:</a:t>
            </a:r>
            <a:br>
              <a:rPr sz="2000"/>
            </a:br>
            <a:r>
              <a:rPr b="1" i="1" lang="en-US" sz="2000" spc="-1" strike="noStrike">
                <a:solidFill>
                  <a:srgbClr val="7889fb"/>
                </a:solidFill>
                <a:latin typeface="Arial"/>
              </a:rPr>
              <a:t>ds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876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54080" y="2400480"/>
            <a:ext cx="5637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  <a:ea typeface="Arial"/>
              </a:rPr>
              <a:t>File Synchro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90440" y="3098880"/>
            <a:ext cx="859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  <a:ea typeface="Arial"/>
              </a:rPr>
              <a:t>Push common files to nodes with command: </a:t>
            </a:r>
            <a:br>
              <a:rPr sz="2000"/>
            </a:br>
            <a:r>
              <a:rPr b="1" i="1" lang="en-US" sz="2000" spc="-1" strike="noStrike">
                <a:solidFill>
                  <a:srgbClr val="7889fb"/>
                </a:solidFill>
                <a:latin typeface="Arial"/>
                <a:ea typeface="Arial"/>
              </a:rPr>
              <a:t>cfmupdatenode </a:t>
            </a:r>
            <a:r>
              <a:rPr b="0" i="1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(or updateno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54080" y="4241880"/>
            <a:ext cx="5637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  <a:ea typeface="Arial"/>
              </a:rPr>
              <a:t>Software Installation and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90440" y="4902120"/>
            <a:ext cx="859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  <a:ea typeface="Arial"/>
              </a:rPr>
              <a:t>Install and maintain software on nodes with command: </a:t>
            </a:r>
            <a:br>
              <a:rPr sz="2000"/>
            </a:br>
            <a:r>
              <a:rPr b="1" i="1" lang="en-US" sz="2000" spc="-1" strike="noStrike">
                <a:solidFill>
                  <a:srgbClr val="7889fb"/>
                </a:solidFill>
                <a:latin typeface="Arial"/>
                <a:ea typeface="Arial"/>
              </a:rPr>
              <a:t>smsupdatenode </a:t>
            </a:r>
            <a:r>
              <a:rPr b="0" i="1" lang="en-US" sz="1400" spc="-1" strike="noStrike">
                <a:solidFill>
                  <a:srgbClr val="7889fb"/>
                </a:solidFill>
                <a:latin typeface="Arial"/>
                <a:ea typeface="Arial"/>
              </a:rPr>
              <a:t>(or updateno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0508-80FD-48B6-90BD-B6ABABDC66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202680" y="596880"/>
            <a:ext cx="8774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Event Monitoring and Automated Respon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315720" y="1282320"/>
            <a:ext cx="859788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Have CSM monitor your nodes for events you deem interesting and initiate automated responses that you’ve specified with commands:  </a:t>
            </a:r>
            <a:br>
              <a:rPr sz="2000"/>
            </a:br>
            <a:r>
              <a:rPr b="1" i="1" lang="en-US" sz="2000" spc="-1" strike="noStrike">
                <a:solidFill>
                  <a:srgbClr val="7889fb"/>
                </a:solidFill>
                <a:latin typeface="Arial"/>
              </a:rPr>
              <a:t>mksensor, mkcondition, mkresponse, startcondresp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203040" y="2806560"/>
            <a:ext cx="5637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  <a:ea typeface="Arial"/>
              </a:rPr>
              <a:t>Diagnostic Pro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316080" y="3441600"/>
            <a:ext cx="85978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  <a:ea typeface="Arial"/>
              </a:rPr>
              <a:t>Determine the root cause of system problems with command: </a:t>
            </a:r>
            <a:br>
              <a:rPr sz="2000"/>
            </a:br>
            <a:r>
              <a:rPr b="1" i="1" lang="en-US" sz="2000" spc="-1" strike="noStrike">
                <a:solidFill>
                  <a:srgbClr val="7889fb"/>
                </a:solidFill>
                <a:latin typeface="Arial"/>
                <a:ea typeface="Arial"/>
              </a:rPr>
              <a:t>probemg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203040" y="4508640"/>
            <a:ext cx="56372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  <a:ea typeface="Arial"/>
              </a:rPr>
              <a:t>Backup and Re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316080" y="5143680"/>
            <a:ext cx="859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  <a:ea typeface="Arial"/>
              </a:rPr>
              <a:t>Backup and restore your CSM configuration with commands: </a:t>
            </a:r>
            <a:br>
              <a:rPr sz="2000"/>
            </a:br>
            <a:r>
              <a:rPr b="1" i="1" lang="en-US" sz="2000" spc="-1" strike="noStrike">
                <a:solidFill>
                  <a:srgbClr val="7889fb"/>
                </a:solidFill>
                <a:latin typeface="Arial"/>
                <a:ea typeface="Arial"/>
              </a:rPr>
              <a:t>csmbackup 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  <a:ea typeface="Arial"/>
              </a:rPr>
              <a:t>and </a:t>
            </a:r>
            <a:r>
              <a:rPr b="1" i="1" lang="en-US" sz="2000" spc="-1" strike="noStrike">
                <a:solidFill>
                  <a:srgbClr val="7889fb"/>
                </a:solidFill>
                <a:latin typeface="Arial"/>
                <a:ea typeface="Arial"/>
              </a:rPr>
              <a:t>csmre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CF96-4D1C-4640-A267-2558A61BD2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6000" y="3048120"/>
            <a:ext cx="8837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ydian"/>
              </a:rPr>
              <a:t>Some</a:t>
            </a:r>
            <a:r>
              <a:rPr b="1" lang="en-US" sz="3200" spc="-1" strike="noStrike">
                <a:solidFill>
                  <a:srgbClr val="7889fb"/>
                </a:solidFill>
                <a:latin typeface="Lydi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ydian"/>
              </a:rPr>
              <a:t>Example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6F46-1AF9-46AF-88CE-4685F649E9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Node inform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228600" y="1345680"/>
            <a:ext cx="868680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What nodes do I have? What attributes do my nodes have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Comm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7889fb"/>
                </a:solidFill>
                <a:latin typeface="Arial"/>
              </a:rPr>
              <a:t>lsn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57200" y="2616120"/>
            <a:ext cx="8153280" cy="30733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ls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1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2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3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4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lsnode -l node1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Hostname = node1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InstallDistributionName = S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InstallDistributionVersion =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ManagementServer = ms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Mode = Mana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9F04-5F46-4FEF-AB87-C726940803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1663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Lydian"/>
              </a:rPr>
              <a:t>Agenda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774880" y="2349000"/>
            <a:ext cx="38988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CSM 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Cap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Some Exa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History, Value, Refere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Q &amp;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30FA-EC20-417C-AFFB-5D72822DF1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"/>
          <p:cNvSpPr/>
          <p:nvPr/>
        </p:nvSpPr>
        <p:spPr>
          <a:xfrm>
            <a:off x="6283440" y="1244520"/>
            <a:ext cx="838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Garamond"/>
                <a:ea typeface="Arial"/>
              </a:rPr>
              <a:t>IB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292720" y="1284120"/>
            <a:ext cx="730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Garamond"/>
                <a:ea typeface="Arial"/>
              </a:rPr>
              <a:t>IB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5538960" y="1365120"/>
            <a:ext cx="7128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Garamond"/>
                <a:ea typeface="Arial"/>
              </a:rPr>
              <a:t>IB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7699320" y="1260360"/>
            <a:ext cx="8244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Garamond"/>
                <a:ea typeface="Arial"/>
              </a:rPr>
              <a:t>IB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7045200" y="1262160"/>
            <a:ext cx="74880" cy="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200" spc="-1" strike="noStrike">
                <a:solidFill>
                  <a:srgbClr val="ffffff"/>
                </a:solidFill>
                <a:latin typeface="Garamond"/>
                <a:ea typeface="Arial"/>
              </a:rPr>
              <a:t>IB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1054080"/>
            <a:ext cx="8292960" cy="27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Node groups can be formed as a management conven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All CSM functions support node group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Static” node groups:  node1, node2, node3, 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Dynamic” groups (based on node attribu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25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Non-node device groups are also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Command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7889fb"/>
                </a:solidFill>
                <a:latin typeface="Arial"/>
              </a:rPr>
              <a:t>nodeg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306360" y="596880"/>
            <a:ext cx="8837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  <a:ea typeface="Arial"/>
              </a:rPr>
              <a:t>Nod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736560" y="4000680"/>
            <a:ext cx="2502000" cy="2082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nodeg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All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Linux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SLES9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nodegrp SLES9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1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2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3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4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3746520" y="4280040"/>
            <a:ext cx="5054760" cy="1574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nodegrp -w “PhysicalLocation like ‘rack1%’” rack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nodegrp rack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1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2.acm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9706F-1585-40D5-9655-EC83EAF809B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Hardware Contro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77840" y="3936960"/>
            <a:ext cx="5664240" cy="37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Power on, off and reboo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Open a remote console to a n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Query hardware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Configure ale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Pluggable library to allow additional hardware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Command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7889fb"/>
                </a:solidFill>
                <a:latin typeface="Arial"/>
              </a:rPr>
              <a:t>rpower, rconsole, lshwstat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4876920" y="3581280"/>
            <a:ext cx="4038480" cy="16765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PU 1 Temperature = 35.0 C (95.0 F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PU 2 Temperature not availab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ard shutdown: 95.0 C (203.0 F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oft shutdown: 90.0 C (194.0 F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arning: 85.0 C (185.0 F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arning reset: 78.0 C (172.4 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0" name=""/>
          <p:cNvGrpSpPr/>
          <p:nvPr/>
        </p:nvGrpSpPr>
        <p:grpSpPr>
          <a:xfrm>
            <a:off x="3003480" y="1328760"/>
            <a:ext cx="501480" cy="926640"/>
            <a:chOff x="3003480" y="1328760"/>
            <a:chExt cx="501480" cy="926640"/>
          </a:xfrm>
        </p:grpSpPr>
        <p:sp>
          <p:nvSpPr>
            <p:cNvPr id="1231" name=""/>
            <p:cNvSpPr/>
            <p:nvPr/>
          </p:nvSpPr>
          <p:spPr>
            <a:xfrm flipH="1">
              <a:off x="3122640" y="1328760"/>
              <a:ext cx="287280" cy="253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3129840" y="1334880"/>
              <a:ext cx="276120" cy="241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147840" y="1352520"/>
              <a:ext cx="238320" cy="206280"/>
            </a:xfrm>
            <a:custGeom>
              <a:avLst/>
              <a:gdLst/>
              <a:ahLst/>
              <a:rect l="l" t="t" r="r" b="b"/>
              <a:pathLst>
                <a:path w="150" h="130">
                  <a:moveTo>
                    <a:pt x="150" y="17"/>
                  </a:moveTo>
                  <a:lnTo>
                    <a:pt x="150" y="113"/>
                  </a:lnTo>
                  <a:lnTo>
                    <a:pt x="149" y="114"/>
                  </a:lnTo>
                  <a:lnTo>
                    <a:pt x="150" y="119"/>
                  </a:lnTo>
                  <a:lnTo>
                    <a:pt x="149" y="123"/>
                  </a:lnTo>
                  <a:lnTo>
                    <a:pt x="147" y="126"/>
                  </a:lnTo>
                  <a:lnTo>
                    <a:pt x="145" y="129"/>
                  </a:lnTo>
                  <a:lnTo>
                    <a:pt x="141" y="130"/>
                  </a:lnTo>
                  <a:lnTo>
                    <a:pt x="137" y="130"/>
                  </a:lnTo>
                  <a:lnTo>
                    <a:pt x="136" y="130"/>
                  </a:lnTo>
                  <a:lnTo>
                    <a:pt x="135" y="130"/>
                  </a:lnTo>
                  <a:lnTo>
                    <a:pt x="12" y="130"/>
                  </a:lnTo>
                  <a:lnTo>
                    <a:pt x="12" y="130"/>
                  </a:lnTo>
                  <a:lnTo>
                    <a:pt x="9" y="130"/>
                  </a:lnTo>
                  <a:lnTo>
                    <a:pt x="6" y="130"/>
                  </a:lnTo>
                  <a:lnTo>
                    <a:pt x="3" y="128"/>
                  </a:lnTo>
                  <a:lnTo>
                    <a:pt x="0" y="124"/>
                  </a:lnTo>
                  <a:lnTo>
                    <a:pt x="0" y="121"/>
                  </a:lnTo>
                  <a:lnTo>
                    <a:pt x="0" y="117"/>
                  </a:lnTo>
                  <a:lnTo>
                    <a:pt x="0" y="114"/>
                  </a:lnTo>
                  <a:lnTo>
                    <a:pt x="0" y="113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9"/>
                  </a:lnTo>
                  <a:lnTo>
                    <a:pt x="0" y="6"/>
                  </a:lnTo>
                  <a:lnTo>
                    <a:pt x="3" y="2"/>
                  </a:lnTo>
                  <a:lnTo>
                    <a:pt x="6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41" y="0"/>
                  </a:lnTo>
                  <a:lnTo>
                    <a:pt x="145" y="0"/>
                  </a:lnTo>
                  <a:lnTo>
                    <a:pt x="147" y="4"/>
                  </a:lnTo>
                  <a:lnTo>
                    <a:pt x="149" y="8"/>
                  </a:lnTo>
                  <a:lnTo>
                    <a:pt x="150" y="12"/>
                  </a:lnTo>
                  <a:lnTo>
                    <a:pt x="149" y="16"/>
                  </a:lnTo>
                  <a:lnTo>
                    <a:pt x="150" y="17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3180600" y="1582560"/>
              <a:ext cx="176040" cy="11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 flipH="1">
              <a:off x="3174840" y="1612800"/>
              <a:ext cx="192240" cy="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>
              <a:off x="3106800" y="1627200"/>
              <a:ext cx="311040" cy="9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195720" y="1593720"/>
              <a:ext cx="29880" cy="2232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12"/>
                  </a:moveTo>
                  <a:cubicBezTo>
                    <a:pt x="13" y="14"/>
                    <a:pt x="4" y="9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305160" y="1592280"/>
              <a:ext cx="33120" cy="21960"/>
            </a:xfrm>
            <a:custGeom>
              <a:avLst/>
              <a:gdLst/>
              <a:ahLst/>
              <a:rect l="l" t="t" r="r" b="b"/>
              <a:pathLst>
                <a:path w="21" h="14">
                  <a:moveTo>
                    <a:pt x="21" y="0"/>
                  </a:moveTo>
                  <a:cubicBezTo>
                    <a:pt x="17" y="10"/>
                    <a:pt x="8" y="14"/>
                    <a:pt x="0" y="1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3112920" y="1635120"/>
              <a:ext cx="23760" cy="4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3117600" y="1646280"/>
              <a:ext cx="12960" cy="19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3166200" y="1635120"/>
              <a:ext cx="96840" cy="41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3175920" y="1652400"/>
              <a:ext cx="82440" cy="6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H="1">
              <a:off x="3193200" y="1643040"/>
              <a:ext cx="42840" cy="27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H="1">
              <a:off x="3249360" y="1639800"/>
              <a:ext cx="6480" cy="6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>
              <a:off x="3171600" y="1665360"/>
              <a:ext cx="15840" cy="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>
              <a:off x="3274200" y="1635120"/>
              <a:ext cx="106200" cy="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>
              <a:off x="3384360" y="1635120"/>
              <a:ext cx="14400" cy="46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311616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V="1">
              <a:off x="312876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314316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V="1">
              <a:off x="315576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316692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318132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V="1">
              <a:off x="319392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320652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321768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323208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324648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325908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327024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328608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V="1">
              <a:off x="329868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331128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332424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 flipV="1">
              <a:off x="333828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 flipV="1">
              <a:off x="334944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336240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337500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V="1">
              <a:off x="338760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3400200" y="1692360"/>
              <a:ext cx="0" cy="3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003480" y="1725480"/>
              <a:ext cx="245880" cy="103320"/>
            </a:xfrm>
            <a:custGeom>
              <a:avLst/>
              <a:gdLst/>
              <a:ahLst/>
              <a:rect l="l" t="t" r="r" b="b"/>
              <a:pathLst>
                <a:path w="155" h="65">
                  <a:moveTo>
                    <a:pt x="63" y="0"/>
                  </a:moveTo>
                  <a:lnTo>
                    <a:pt x="46" y="0"/>
                  </a:lnTo>
                  <a:lnTo>
                    <a:pt x="0" y="48"/>
                  </a:lnTo>
                  <a:lnTo>
                    <a:pt x="0" y="54"/>
                  </a:lnTo>
                  <a:lnTo>
                    <a:pt x="0" y="61"/>
                  </a:lnTo>
                  <a:lnTo>
                    <a:pt x="3" y="65"/>
                  </a:lnTo>
                  <a:lnTo>
                    <a:pt x="10" y="65"/>
                  </a:lnTo>
                  <a:lnTo>
                    <a:pt x="155" y="6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031920" y="1735200"/>
              <a:ext cx="217440" cy="63360"/>
            </a:xfrm>
            <a:custGeom>
              <a:avLst/>
              <a:gdLst/>
              <a:ahLst/>
              <a:rect l="l" t="t" r="r" b="b"/>
              <a:pathLst>
                <a:path w="137" h="40">
                  <a:moveTo>
                    <a:pt x="137" y="40"/>
                  </a:moveTo>
                  <a:lnTo>
                    <a:pt x="0" y="40"/>
                  </a:lnTo>
                  <a:lnTo>
                    <a:pt x="3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141720" y="1785960"/>
              <a:ext cx="107640" cy="12600"/>
            </a:xfrm>
            <a:custGeom>
              <a:avLst/>
              <a:gdLst/>
              <a:ahLst/>
              <a:rect l="l" t="t" r="r" b="b"/>
              <a:pathLst>
                <a:path w="68" h="8">
                  <a:moveTo>
                    <a:pt x="0" y="8"/>
                  </a:moveTo>
                  <a:lnTo>
                    <a:pt x="5" y="0"/>
                  </a:lnTo>
                  <a:lnTo>
                    <a:pt x="68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>
              <a:off x="3060720" y="1766880"/>
              <a:ext cx="18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047760" y="1779480"/>
              <a:ext cx="88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076560" y="17492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085920" y="1735200"/>
              <a:ext cx="16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252600" y="1725480"/>
              <a:ext cx="252360" cy="103320"/>
            </a:xfrm>
            <a:custGeom>
              <a:avLst/>
              <a:gdLst/>
              <a:ahLst/>
              <a:rect l="l" t="t" r="r" b="b"/>
              <a:pathLst>
                <a:path w="159" h="65">
                  <a:moveTo>
                    <a:pt x="92" y="0"/>
                  </a:moveTo>
                  <a:lnTo>
                    <a:pt x="109" y="0"/>
                  </a:lnTo>
                  <a:lnTo>
                    <a:pt x="154" y="48"/>
                  </a:lnTo>
                  <a:lnTo>
                    <a:pt x="159" y="54"/>
                  </a:lnTo>
                  <a:lnTo>
                    <a:pt x="157" y="61"/>
                  </a:lnTo>
                  <a:lnTo>
                    <a:pt x="152" y="65"/>
                  </a:lnTo>
                  <a:lnTo>
                    <a:pt x="145" y="65"/>
                  </a:lnTo>
                  <a:lnTo>
                    <a:pt x="0" y="6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252600" y="1735200"/>
              <a:ext cx="217440" cy="63360"/>
            </a:xfrm>
            <a:custGeom>
              <a:avLst/>
              <a:gdLst/>
              <a:ahLst/>
              <a:rect l="l" t="t" r="r" b="b"/>
              <a:pathLst>
                <a:path w="137" h="40">
                  <a:moveTo>
                    <a:pt x="0" y="40"/>
                  </a:moveTo>
                  <a:lnTo>
                    <a:pt x="137" y="40"/>
                  </a:lnTo>
                  <a:lnTo>
                    <a:pt x="10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252600" y="1785960"/>
              <a:ext cx="109800" cy="12600"/>
            </a:xfrm>
            <a:custGeom>
              <a:avLst/>
              <a:gdLst/>
              <a:ahLst/>
              <a:rect l="l" t="t" r="r" b="b"/>
              <a:pathLst>
                <a:path w="69" h="8">
                  <a:moveTo>
                    <a:pt x="69" y="8"/>
                  </a:moveTo>
                  <a:lnTo>
                    <a:pt x="64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252600" y="1766880"/>
              <a:ext cx="187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>
              <a:off x="3364920" y="1779480"/>
              <a:ext cx="87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3249360" y="1749240"/>
              <a:ext cx="176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 flipH="1">
              <a:off x="3252600" y="1735200"/>
              <a:ext cx="16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398760" y="1738080"/>
              <a:ext cx="4608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370320" y="1735200"/>
              <a:ext cx="3636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>
              <a:off x="3057120" y="1735200"/>
              <a:ext cx="4932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>
              <a:off x="3099960" y="1738080"/>
              <a:ext cx="28440" cy="5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3130560" y="1738080"/>
              <a:ext cx="2376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>
              <a:off x="3170160" y="1738080"/>
              <a:ext cx="9360" cy="4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3363840" y="1643040"/>
              <a:ext cx="7920" cy="9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 flipH="1">
              <a:off x="3363840" y="1665360"/>
              <a:ext cx="7920" cy="10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106800" y="1859040"/>
              <a:ext cx="3603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3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Lydian"/>
                </a:rPr>
                <a:t>HM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4" name=""/>
          <p:cNvSpPr/>
          <p:nvPr/>
        </p:nvSpPr>
        <p:spPr>
          <a:xfrm flipH="1">
            <a:off x="2818800" y="1068480"/>
            <a:ext cx="6159240" cy="2284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3758760" y="1263600"/>
            <a:ext cx="813240" cy="1098720"/>
            <a:chOff x="3758760" y="1263600"/>
            <a:chExt cx="813240" cy="1098720"/>
          </a:xfrm>
        </p:grpSpPr>
        <p:sp>
          <p:nvSpPr>
            <p:cNvPr id="1296" name=""/>
            <p:cNvSpPr/>
            <p:nvPr/>
          </p:nvSpPr>
          <p:spPr>
            <a:xfrm>
              <a:off x="4464000" y="1263600"/>
              <a:ext cx="108000" cy="1093680"/>
            </a:xfrm>
            <a:custGeom>
              <a:avLst/>
              <a:gdLst/>
              <a:ahLst/>
              <a:rect l="l" t="t" r="r" b="b"/>
              <a:pathLst>
                <a:path w="68" h="689">
                  <a:moveTo>
                    <a:pt x="0" y="689"/>
                  </a:moveTo>
                  <a:lnTo>
                    <a:pt x="68" y="589"/>
                  </a:lnTo>
                  <a:lnTo>
                    <a:pt x="68" y="5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4113000" y="1263600"/>
              <a:ext cx="354240" cy="1098720"/>
            </a:xfrm>
            <a:prstGeom prst="rect">
              <a:avLst/>
            </a:prstGeom>
            <a:solidFill>
              <a:srgbClr val="464646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092480" y="1266840"/>
              <a:ext cx="20520" cy="1092240"/>
            </a:xfrm>
            <a:custGeom>
              <a:avLst/>
              <a:gdLst/>
              <a:ahLst/>
              <a:rect l="l" t="t" r="r" b="b"/>
              <a:pathLst>
                <a:path w="13" h="688">
                  <a:moveTo>
                    <a:pt x="0" y="6"/>
                  </a:moveTo>
                  <a:lnTo>
                    <a:pt x="0" y="685"/>
                  </a:lnTo>
                  <a:lnTo>
                    <a:pt x="13" y="688"/>
                  </a:lnTo>
                  <a:lnTo>
                    <a:pt x="13" y="1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930480" y="1263600"/>
              <a:ext cx="187200" cy="1093680"/>
            </a:xfrm>
            <a:custGeom>
              <a:avLst/>
              <a:gdLst/>
              <a:ahLst/>
              <a:rect l="l" t="t" r="r" b="b"/>
              <a:pathLst>
                <a:path w="118" h="689">
                  <a:moveTo>
                    <a:pt x="0" y="689"/>
                  </a:moveTo>
                  <a:lnTo>
                    <a:pt x="8" y="507"/>
                  </a:lnTo>
                  <a:lnTo>
                    <a:pt x="8" y="200"/>
                  </a:lnTo>
                  <a:lnTo>
                    <a:pt x="72" y="167"/>
                  </a:lnTo>
                  <a:lnTo>
                    <a:pt x="72" y="0"/>
                  </a:lnTo>
                  <a:lnTo>
                    <a:pt x="118" y="3"/>
                  </a:lnTo>
                  <a:lnTo>
                    <a:pt x="115" y="689"/>
                  </a:lnTo>
                  <a:lnTo>
                    <a:pt x="118" y="689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065480" y="1287360"/>
              <a:ext cx="65160" cy="1059120"/>
            </a:xfrm>
            <a:custGeom>
              <a:avLst/>
              <a:gdLst/>
              <a:ahLst/>
              <a:rect l="l" t="t" r="r" b="b"/>
              <a:pathLst>
                <a:path w="41" h="667">
                  <a:moveTo>
                    <a:pt x="0" y="0"/>
                  </a:moveTo>
                  <a:lnTo>
                    <a:pt x="0" y="662"/>
                  </a:lnTo>
                  <a:lnTo>
                    <a:pt x="41" y="667"/>
                  </a:lnTo>
                  <a:lnTo>
                    <a:pt x="41" y="0"/>
                  </a:lnTo>
                  <a:lnTo>
                    <a:pt x="39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ffad2c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 flipH="1">
              <a:off x="3758400" y="1271520"/>
              <a:ext cx="158760" cy="42552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948120" y="1549440"/>
              <a:ext cx="96840" cy="789120"/>
            </a:xfrm>
            <a:custGeom>
              <a:avLst/>
              <a:gdLst/>
              <a:ahLst/>
              <a:rect l="l" t="t" r="r" b="b"/>
              <a:pathLst>
                <a:path w="61" h="497">
                  <a:moveTo>
                    <a:pt x="8" y="496"/>
                  </a:moveTo>
                  <a:lnTo>
                    <a:pt x="61" y="493"/>
                  </a:lnTo>
                  <a:lnTo>
                    <a:pt x="61" y="0"/>
                  </a:lnTo>
                  <a:lnTo>
                    <a:pt x="0" y="23"/>
                  </a:lnTo>
                  <a:lnTo>
                    <a:pt x="0" y="497"/>
                  </a:lnTo>
                  <a:lnTo>
                    <a:pt x="4" y="497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3759120" y="1692360"/>
              <a:ext cx="233280" cy="664920"/>
            </a:xfrm>
            <a:custGeom>
              <a:avLst/>
              <a:gdLst/>
              <a:ahLst/>
              <a:rect l="l" t="t" r="r" b="b"/>
              <a:pathLst>
                <a:path w="147" h="419">
                  <a:moveTo>
                    <a:pt x="0" y="417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44" y="419"/>
                  </a:lnTo>
                  <a:lnTo>
                    <a:pt x="147" y="419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879720" y="1263600"/>
              <a:ext cx="165240" cy="393840"/>
            </a:xfrm>
            <a:custGeom>
              <a:avLst/>
              <a:gdLst/>
              <a:ahLst/>
              <a:rect l="l" t="t" r="r" b="b"/>
              <a:pathLst>
                <a:path w="104" h="248">
                  <a:moveTo>
                    <a:pt x="0" y="6"/>
                  </a:moveTo>
                  <a:lnTo>
                    <a:pt x="104" y="0"/>
                  </a:lnTo>
                  <a:lnTo>
                    <a:pt x="104" y="248"/>
                  </a:lnTo>
                  <a:lnTo>
                    <a:pt x="0" y="248"/>
                  </a:lnTo>
                  <a:close/>
                </a:path>
              </a:pathLst>
            </a:custGeom>
            <a:gradFill rotWithShape="0">
              <a:gsLst>
                <a:gs pos="0">
                  <a:srgbClr val="6e6e6e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4157640" y="1289160"/>
              <a:ext cx="272880" cy="10429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225680" y="1322280"/>
              <a:ext cx="139680" cy="6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759120" y="1657440"/>
              <a:ext cx="279360" cy="36360"/>
            </a:xfrm>
            <a:custGeom>
              <a:avLst/>
              <a:gdLst/>
              <a:ahLst/>
              <a:rect l="l" t="t" r="r" b="b"/>
              <a:pathLst>
                <a:path w="176" h="23">
                  <a:moveTo>
                    <a:pt x="78" y="0"/>
                  </a:moveTo>
                  <a:lnTo>
                    <a:pt x="176" y="0"/>
                  </a:lnTo>
                  <a:lnTo>
                    <a:pt x="144" y="23"/>
                  </a:lnTo>
                  <a:lnTo>
                    <a:pt x="5" y="23"/>
                  </a:lnTo>
                  <a:lnTo>
                    <a:pt x="0" y="23"/>
                  </a:lnTo>
                  <a:close/>
                </a:path>
              </a:pathLst>
            </a:custGeom>
            <a:gradFill rotWithShape="0">
              <a:gsLst>
                <a:gs pos="0">
                  <a:srgbClr val="a0a0a0"/>
                </a:gs>
                <a:gs pos="50000">
                  <a:srgbClr val="464646"/>
                </a:gs>
                <a:gs pos="100000">
                  <a:srgbClr val="a0a0a0"/>
                </a:gs>
              </a:gsLst>
              <a:lin ang="81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H="1">
              <a:off x="3798000" y="1589040"/>
              <a:ext cx="50760" cy="572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 flipH="1">
              <a:off x="3785400" y="1749600"/>
              <a:ext cx="27000" cy="378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010040" y="1681200"/>
              <a:ext cx="20520" cy="666720"/>
            </a:xfrm>
            <a:custGeom>
              <a:avLst/>
              <a:gdLst/>
              <a:ahLst/>
              <a:rect l="l" t="t" r="r" b="b"/>
              <a:pathLst>
                <a:path w="13" h="420">
                  <a:moveTo>
                    <a:pt x="13" y="0"/>
                  </a:moveTo>
                  <a:lnTo>
                    <a:pt x="13" y="413"/>
                  </a:lnTo>
                  <a:lnTo>
                    <a:pt x="0" y="420"/>
                  </a:lnTo>
                  <a:lnTo>
                    <a:pt x="0" y="1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1" name=""/>
          <p:cNvSpPr/>
          <p:nvPr/>
        </p:nvSpPr>
        <p:spPr>
          <a:xfrm>
            <a:off x="5349960" y="2567160"/>
            <a:ext cx="137952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ydian"/>
              </a:rPr>
              <a:t>xSeries Nodes i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ydian"/>
              </a:rPr>
              <a:t>a rack wi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ydian"/>
              </a:rPr>
              <a:t>Service Processo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"/>
          <p:cNvSpPr/>
          <p:nvPr/>
        </p:nvSpPr>
        <p:spPr>
          <a:xfrm>
            <a:off x="3557520" y="2544840"/>
            <a:ext cx="147168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ydian"/>
              </a:rPr>
              <a:t>p690 with LPAR'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ydian"/>
              </a:rPr>
              <a:t>controlled by an HM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" descr=""/>
          <p:cNvPicPr/>
          <p:nvPr/>
        </p:nvPicPr>
        <p:blipFill>
          <a:blip r:embed="rId2"/>
          <a:stretch/>
        </p:blipFill>
        <p:spPr>
          <a:xfrm>
            <a:off x="5468760" y="1125360"/>
            <a:ext cx="865440" cy="1390680"/>
          </a:xfrm>
          <a:prstGeom prst="rect">
            <a:avLst/>
          </a:prstGeom>
          <a:ln w="0">
            <a:noFill/>
          </a:ln>
        </p:spPr>
      </p:pic>
      <p:pic>
        <p:nvPicPr>
          <p:cNvPr id="1314" name="" descr=""/>
          <p:cNvPicPr/>
          <p:nvPr/>
        </p:nvPicPr>
        <p:blipFill>
          <a:blip r:embed="rId3"/>
          <a:stretch/>
        </p:blipFill>
        <p:spPr>
          <a:xfrm>
            <a:off x="6721560" y="1244520"/>
            <a:ext cx="1747800" cy="362160"/>
          </a:xfrm>
          <a:prstGeom prst="rect">
            <a:avLst/>
          </a:prstGeom>
          <a:ln w="0">
            <a:noFill/>
          </a:ln>
        </p:spPr>
      </p:pic>
      <p:pic>
        <p:nvPicPr>
          <p:cNvPr id="1315" name="" descr=""/>
          <p:cNvPicPr/>
          <p:nvPr/>
        </p:nvPicPr>
        <p:blipFill>
          <a:blip r:embed="rId4"/>
          <a:stretch/>
        </p:blipFill>
        <p:spPr>
          <a:xfrm>
            <a:off x="6856560" y="2081160"/>
            <a:ext cx="1793880" cy="804960"/>
          </a:xfrm>
          <a:prstGeom prst="rect">
            <a:avLst/>
          </a:prstGeom>
          <a:ln w="0">
            <a:noFill/>
          </a:ln>
        </p:spPr>
      </p:pic>
      <p:sp>
        <p:nvSpPr>
          <p:cNvPr id="1316" name=""/>
          <p:cNvSpPr/>
          <p:nvPr/>
        </p:nvSpPr>
        <p:spPr>
          <a:xfrm>
            <a:off x="6831000" y="1697040"/>
            <a:ext cx="1789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ydian"/>
              </a:rPr>
              <a:t>e325 with BMC processo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959520" y="2857680"/>
            <a:ext cx="1801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ydian"/>
              </a:rPr>
              <a:t>BladeCenter with Management Modu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"/>
          <p:cNvSpPr/>
          <p:nvPr/>
        </p:nvSpPr>
        <p:spPr>
          <a:xfrm>
            <a:off x="3386160" y="1442880"/>
            <a:ext cx="347760" cy="50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9" name="" descr=""/>
          <p:cNvPicPr/>
          <p:nvPr/>
        </p:nvPicPr>
        <p:blipFill>
          <a:blip r:embed="rId5"/>
          <a:stretch/>
        </p:blipFill>
        <p:spPr>
          <a:xfrm>
            <a:off x="343080" y="1631880"/>
            <a:ext cx="1701720" cy="1308240"/>
          </a:xfrm>
          <a:prstGeom prst="rect">
            <a:avLst/>
          </a:prstGeom>
          <a:ln w="0">
            <a:noFill/>
          </a:ln>
        </p:spPr>
      </p:pic>
      <p:sp>
        <p:nvSpPr>
          <p:cNvPr id="1320" name=""/>
          <p:cNvSpPr/>
          <p:nvPr/>
        </p:nvSpPr>
        <p:spPr>
          <a:xfrm rot="5400000">
            <a:off x="2018880" y="2031840"/>
            <a:ext cx="838080" cy="5331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A68C-57AB-4515-B520-8990119395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153720" y="571320"/>
            <a:ext cx="5637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Distributed Command Execu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22" name=""/>
          <p:cNvSpPr/>
          <p:nvPr/>
        </p:nvSpPr>
        <p:spPr>
          <a:xfrm>
            <a:off x="609480" y="3479760"/>
            <a:ext cx="3048120" cy="18288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sh –n node02,node03 "df –k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02: File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02: /dev/hd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02: /dev/hd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02: 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03: File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03: /dev/hd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03: /dev/hda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node03: n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"/>
          <p:cNvSpPr/>
          <p:nvPr/>
        </p:nvSpPr>
        <p:spPr>
          <a:xfrm>
            <a:off x="241200" y="1257480"/>
            <a:ext cx="86360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Run commands in parallel across nodes or nod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Configure to use rsh or s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Flexible fan out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Group output by hostname &amp; collapse identical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Command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7889fb"/>
                </a:solidFill>
                <a:latin typeface="Arial"/>
              </a:rPr>
              <a:t>dsh, dshbak, dcp, d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63B3D-5857-46D2-9EEC-0175BE61554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File Synchroniz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177840" y="124416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Store and edit common files on your management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Push them out to your managed nodes manually or automatical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Only transfers what has chang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Distribute to all nodes, group of nodes, single no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Support for user defined pre and post scrip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Example:  /cfmroot/etc/inetd.conf.p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Supports a few of meta variables for substit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hostname and 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Uses open source rsync or rdist for file trans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Sample scripts to set up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NTP, automounter, DNS and AIX network tuning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Command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7889fb"/>
                </a:solidFill>
                <a:latin typeface="Arial"/>
              </a:rPr>
              <a:t>cfmupdateno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61D4E-8B50-49EA-875A-34A0EC1998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File Synchroniz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ydian"/>
              </a:rPr>
              <a:t>Comm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7889fb"/>
                </a:solidFill>
                <a:latin typeface="Arial"/>
              </a:rPr>
              <a:t>cfmupdaten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5051520" y="4191120"/>
            <a:ext cx="636480" cy="1269720"/>
            <a:chOff x="5051520" y="4191120"/>
            <a:chExt cx="636480" cy="1269720"/>
          </a:xfrm>
        </p:grpSpPr>
        <p:sp>
          <p:nvSpPr>
            <p:cNvPr id="1329" name=""/>
            <p:cNvSpPr/>
            <p:nvPr/>
          </p:nvSpPr>
          <p:spPr>
            <a:xfrm>
              <a:off x="5556240" y="4195800"/>
              <a:ext cx="131760" cy="1264680"/>
            </a:xfrm>
            <a:custGeom>
              <a:avLst/>
              <a:gdLst/>
              <a:ahLst/>
              <a:rect l="l" t="t" r="r" b="b"/>
              <a:pathLst>
                <a:path w="83" h="797">
                  <a:moveTo>
                    <a:pt x="0" y="797"/>
                  </a:moveTo>
                  <a:lnTo>
                    <a:pt x="83" y="681"/>
                  </a:lnTo>
                  <a:lnTo>
                    <a:pt x="83" y="6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229360" y="4191120"/>
              <a:ext cx="326880" cy="12697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295960" y="5346720"/>
              <a:ext cx="244440" cy="66240"/>
            </a:xfrm>
            <a:prstGeom prst="rect">
              <a:avLst/>
            </a:prstGeom>
            <a:gradFill rotWithShape="0">
              <a:gsLst>
                <a:gs pos="0">
                  <a:srgbClr val="280078"/>
                </a:gs>
                <a:gs pos="100000">
                  <a:srgbClr val="d2d2d2"/>
                </a:gs>
              </a:gsLst>
              <a:lin ang="5400000"/>
            </a:gra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451480" y="5348160"/>
              <a:ext cx="88920" cy="64800"/>
            </a:xfrm>
            <a:custGeom>
              <a:avLst/>
              <a:gdLst/>
              <a:ahLst/>
              <a:rect l="l" t="t" r="r" b="b"/>
              <a:pathLst>
                <a:path w="56" h="41">
                  <a:moveTo>
                    <a:pt x="54" y="38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41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295960" y="5348160"/>
              <a:ext cx="12600" cy="60120"/>
            </a:xfrm>
            <a:custGeom>
              <a:avLst/>
              <a:gdLst/>
              <a:ahLst/>
              <a:rect l="l" t="t" r="r" b="b"/>
              <a:pathLst>
                <a:path w="8" h="38">
                  <a:moveTo>
                    <a:pt x="0" y="0"/>
                  </a:moveTo>
                  <a:lnTo>
                    <a:pt x="8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295960" y="4205160"/>
              <a:ext cx="244440" cy="1142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292720" y="4257720"/>
              <a:ext cx="1303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51520" y="4205160"/>
              <a:ext cx="182520" cy="1255320"/>
            </a:xfrm>
            <a:custGeom>
              <a:avLst/>
              <a:gdLst/>
              <a:ahLst/>
              <a:rect l="l" t="t" r="r" b="b"/>
              <a:pathLst>
                <a:path w="115" h="791">
                  <a:moveTo>
                    <a:pt x="59" y="791"/>
                  </a:moveTo>
                  <a:lnTo>
                    <a:pt x="0" y="770"/>
                  </a:lnTo>
                  <a:lnTo>
                    <a:pt x="0" y="13"/>
                  </a:lnTo>
                  <a:lnTo>
                    <a:pt x="55" y="8"/>
                  </a:lnTo>
                  <a:lnTo>
                    <a:pt x="115" y="0"/>
                  </a:lnTo>
                  <a:lnTo>
                    <a:pt x="112" y="783"/>
                  </a:lnTo>
                  <a:lnTo>
                    <a:pt x="115" y="783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202360" y="4221000"/>
              <a:ext cx="33120" cy="1206360"/>
            </a:xfrm>
            <a:custGeom>
              <a:avLst/>
              <a:gdLst/>
              <a:ahLst/>
              <a:rect l="l" t="t" r="r" b="b"/>
              <a:pathLst>
                <a:path w="21" h="760">
                  <a:moveTo>
                    <a:pt x="0" y="7"/>
                  </a:moveTo>
                  <a:lnTo>
                    <a:pt x="0" y="753"/>
                  </a:lnTo>
                  <a:lnTo>
                    <a:pt x="21" y="76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464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60880" y="4225680"/>
              <a:ext cx="73080" cy="1217520"/>
            </a:xfrm>
            <a:custGeom>
              <a:avLst/>
              <a:gdLst/>
              <a:ahLst/>
              <a:rect l="l" t="t" r="r" b="b"/>
              <a:pathLst>
                <a:path w="46" h="767">
                  <a:moveTo>
                    <a:pt x="46" y="0"/>
                  </a:moveTo>
                  <a:lnTo>
                    <a:pt x="46" y="767"/>
                  </a:lnTo>
                  <a:lnTo>
                    <a:pt x="0" y="750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57720" y="4221000"/>
              <a:ext cx="30240" cy="1222200"/>
            </a:xfrm>
            <a:custGeom>
              <a:avLst/>
              <a:gdLst/>
              <a:ahLst/>
              <a:rect l="l" t="t" r="r" b="b"/>
              <a:pathLst>
                <a:path w="19" h="770">
                  <a:moveTo>
                    <a:pt x="19" y="0"/>
                  </a:moveTo>
                  <a:lnTo>
                    <a:pt x="19" y="764"/>
                  </a:lnTo>
                  <a:lnTo>
                    <a:pt x="0" y="77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280078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0" name=""/>
          <p:cNvGrpSpPr/>
          <p:nvPr/>
        </p:nvGrpSpPr>
        <p:grpSpPr>
          <a:xfrm>
            <a:off x="3733920" y="4295880"/>
            <a:ext cx="907920" cy="1098360"/>
            <a:chOff x="3733920" y="4295880"/>
            <a:chExt cx="907920" cy="1098360"/>
          </a:xfrm>
        </p:grpSpPr>
        <p:sp>
          <p:nvSpPr>
            <p:cNvPr id="1341" name=""/>
            <p:cNvSpPr/>
            <p:nvPr/>
          </p:nvSpPr>
          <p:spPr>
            <a:xfrm>
              <a:off x="4502160" y="4905360"/>
              <a:ext cx="1126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118040" y="4295880"/>
              <a:ext cx="101520" cy="1091880"/>
            </a:xfrm>
            <a:custGeom>
              <a:avLst/>
              <a:gdLst/>
              <a:ahLst/>
              <a:rect l="l" t="t" r="r" b="b"/>
              <a:pathLst>
                <a:path w="64" h="688">
                  <a:moveTo>
                    <a:pt x="0" y="688"/>
                  </a:moveTo>
                  <a:lnTo>
                    <a:pt x="64" y="591"/>
                  </a:lnTo>
                  <a:lnTo>
                    <a:pt x="64" y="5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873600" y="4295880"/>
              <a:ext cx="244440" cy="1098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903840" y="4319640"/>
              <a:ext cx="187200" cy="1042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736800" y="4300560"/>
              <a:ext cx="136800" cy="1093320"/>
            </a:xfrm>
            <a:custGeom>
              <a:avLst/>
              <a:gdLst/>
              <a:ahLst/>
              <a:rect l="l" t="t" r="r" b="b"/>
              <a:pathLst>
                <a:path w="86" h="689">
                  <a:moveTo>
                    <a:pt x="45" y="689"/>
                  </a:moveTo>
                  <a:lnTo>
                    <a:pt x="0" y="666"/>
                  </a:lnTo>
                  <a:lnTo>
                    <a:pt x="0" y="14"/>
                  </a:lnTo>
                  <a:lnTo>
                    <a:pt x="42" y="8"/>
                  </a:lnTo>
                  <a:lnTo>
                    <a:pt x="86" y="0"/>
                  </a:lnTo>
                  <a:lnTo>
                    <a:pt x="86" y="681"/>
                  </a:lnTo>
                  <a:lnTo>
                    <a:pt x="86" y="681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849840" y="4319640"/>
              <a:ext cx="23760" cy="1037520"/>
            </a:xfrm>
            <a:custGeom>
              <a:avLst/>
              <a:gdLst/>
              <a:ahLst/>
              <a:rect l="l" t="t" r="r" b="b"/>
              <a:pathLst>
                <a:path w="15" h="654">
                  <a:moveTo>
                    <a:pt x="0" y="3"/>
                  </a:moveTo>
                  <a:lnTo>
                    <a:pt x="0" y="653"/>
                  </a:lnTo>
                  <a:lnTo>
                    <a:pt x="15" y="65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746520" y="4322520"/>
              <a:ext cx="52200" cy="1056960"/>
            </a:xfrm>
            <a:custGeom>
              <a:avLst/>
              <a:gdLst/>
              <a:ahLst/>
              <a:rect l="l" t="t" r="r" b="b"/>
              <a:pathLst>
                <a:path w="33" h="666">
                  <a:moveTo>
                    <a:pt x="33" y="0"/>
                  </a:moveTo>
                  <a:lnTo>
                    <a:pt x="33" y="666"/>
                  </a:lnTo>
                  <a:lnTo>
                    <a:pt x="0" y="651"/>
                  </a:lnTo>
                  <a:lnTo>
                    <a:pt x="0" y="5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813120" y="4319640"/>
              <a:ext cx="20520" cy="1053720"/>
            </a:xfrm>
            <a:custGeom>
              <a:avLst/>
              <a:gdLst/>
              <a:ahLst/>
              <a:rect l="l" t="t" r="r" b="b"/>
              <a:pathLst>
                <a:path w="13" h="664">
                  <a:moveTo>
                    <a:pt x="13" y="0"/>
                  </a:moveTo>
                  <a:lnTo>
                    <a:pt x="13" y="661"/>
                  </a:lnTo>
                  <a:lnTo>
                    <a:pt x="2" y="664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733920" y="4322520"/>
              <a:ext cx="1159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124160" y="4451400"/>
              <a:ext cx="69840" cy="269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464646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540320" y="4437000"/>
              <a:ext cx="101520" cy="950400"/>
            </a:xfrm>
            <a:custGeom>
              <a:avLst/>
              <a:gdLst/>
              <a:ahLst/>
              <a:rect l="l" t="t" r="r" b="b"/>
              <a:pathLst>
                <a:path w="64" h="599">
                  <a:moveTo>
                    <a:pt x="0" y="599"/>
                  </a:moveTo>
                  <a:lnTo>
                    <a:pt x="64" y="511"/>
                  </a:lnTo>
                  <a:lnTo>
                    <a:pt x="64" y="49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294080" y="4437000"/>
              <a:ext cx="246240" cy="95040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317840" y="4917960"/>
              <a:ext cx="196920" cy="450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4276800" y="4437000"/>
              <a:ext cx="17280" cy="950400"/>
            </a:xfrm>
            <a:custGeom>
              <a:avLst/>
              <a:gdLst/>
              <a:ahLst/>
              <a:rect l="l" t="t" r="r" b="b"/>
              <a:pathLst>
                <a:path w="11" h="599">
                  <a:moveTo>
                    <a:pt x="0" y="7"/>
                  </a:moveTo>
                  <a:lnTo>
                    <a:pt x="0" y="594"/>
                  </a:lnTo>
                  <a:lnTo>
                    <a:pt x="11" y="599"/>
                  </a:lnTo>
                  <a:lnTo>
                    <a:pt x="11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199040" y="4441680"/>
              <a:ext cx="77760" cy="945720"/>
            </a:xfrm>
            <a:custGeom>
              <a:avLst/>
              <a:gdLst/>
              <a:ahLst/>
              <a:rect l="l" t="t" r="r" b="b"/>
              <a:pathLst>
                <a:path w="49" h="596">
                  <a:moveTo>
                    <a:pt x="0" y="596"/>
                  </a:moveTo>
                  <a:lnTo>
                    <a:pt x="0" y="432"/>
                  </a:lnTo>
                  <a:lnTo>
                    <a:pt x="0" y="172"/>
                  </a:lnTo>
                  <a:lnTo>
                    <a:pt x="34" y="142"/>
                  </a:lnTo>
                  <a:lnTo>
                    <a:pt x="34" y="0"/>
                  </a:lnTo>
                  <a:lnTo>
                    <a:pt x="49" y="4"/>
                  </a:lnTo>
                  <a:lnTo>
                    <a:pt x="49" y="591"/>
                  </a:lnTo>
                  <a:lnTo>
                    <a:pt x="49" y="591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268880" y="4452840"/>
              <a:ext cx="25200" cy="915480"/>
            </a:xfrm>
            <a:custGeom>
              <a:avLst/>
              <a:gdLst/>
              <a:ahLst/>
              <a:rect l="l" t="t" r="r" b="b"/>
              <a:pathLst>
                <a:path w="16" h="577">
                  <a:moveTo>
                    <a:pt x="0" y="5"/>
                  </a:moveTo>
                  <a:lnTo>
                    <a:pt x="0" y="573"/>
                  </a:lnTo>
                  <a:lnTo>
                    <a:pt x="16" y="57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db7d00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222800" y="4687920"/>
              <a:ext cx="30240" cy="680400"/>
            </a:xfrm>
            <a:custGeom>
              <a:avLst/>
              <a:gdLst/>
              <a:ahLst/>
              <a:rect l="l" t="t" r="r" b="b"/>
              <a:pathLst>
                <a:path w="19" h="429">
                  <a:moveTo>
                    <a:pt x="1" y="425"/>
                  </a:moveTo>
                  <a:lnTo>
                    <a:pt x="19" y="422"/>
                  </a:lnTo>
                  <a:lnTo>
                    <a:pt x="19" y="0"/>
                  </a:lnTo>
                  <a:lnTo>
                    <a:pt x="0" y="19"/>
                  </a:lnTo>
                  <a:lnTo>
                    <a:pt x="0" y="429"/>
                  </a:lnTo>
                  <a:lnTo>
                    <a:pt x="1" y="426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124160" y="4717800"/>
              <a:ext cx="84240" cy="669600"/>
            </a:xfrm>
            <a:custGeom>
              <a:avLst/>
              <a:gdLst/>
              <a:ahLst/>
              <a:rect l="l" t="t" r="r" b="b"/>
              <a:pathLst>
                <a:path w="53" h="422">
                  <a:moveTo>
                    <a:pt x="0" y="417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422"/>
                  </a:lnTo>
                  <a:lnTo>
                    <a:pt x="53" y="422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124160" y="4668840"/>
              <a:ext cx="128880" cy="4860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53" y="31"/>
                  </a:moveTo>
                  <a:lnTo>
                    <a:pt x="0" y="31"/>
                  </a:lnTo>
                  <a:lnTo>
                    <a:pt x="44" y="0"/>
                  </a:lnTo>
                  <a:lnTo>
                    <a:pt x="81" y="0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50000">
                  <a:srgbClr val="808080"/>
                </a:gs>
                <a:gs pos="100000">
                  <a:srgbClr val="d2d2d2"/>
                </a:gs>
              </a:gsLst>
              <a:lin ang="81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194000" y="4441680"/>
              <a:ext cx="59040" cy="226800"/>
            </a:xfrm>
            <a:custGeom>
              <a:avLst/>
              <a:gdLst/>
              <a:ahLst/>
              <a:rect l="l" t="t" r="r" b="b"/>
              <a:pathLst>
                <a:path w="37" h="143">
                  <a:moveTo>
                    <a:pt x="0" y="6"/>
                  </a:moveTo>
                  <a:lnTo>
                    <a:pt x="37" y="0"/>
                  </a:lnTo>
                  <a:lnTo>
                    <a:pt x="37" y="143"/>
                  </a:lnTo>
                  <a:lnTo>
                    <a:pt x="0" y="1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0a0a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317840" y="4456080"/>
              <a:ext cx="196920" cy="234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319640" y="4717800"/>
              <a:ext cx="198360" cy="18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89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3" name=""/>
          <p:cNvGrpSpPr/>
          <p:nvPr/>
        </p:nvGrpSpPr>
        <p:grpSpPr>
          <a:xfrm>
            <a:off x="7278840" y="4214880"/>
            <a:ext cx="636480" cy="1271520"/>
            <a:chOff x="7278840" y="4214880"/>
            <a:chExt cx="636480" cy="1271520"/>
          </a:xfrm>
        </p:grpSpPr>
        <p:sp>
          <p:nvSpPr>
            <p:cNvPr id="1364" name=""/>
            <p:cNvSpPr/>
            <p:nvPr/>
          </p:nvSpPr>
          <p:spPr>
            <a:xfrm>
              <a:off x="7783560" y="4221000"/>
              <a:ext cx="131760" cy="1265040"/>
            </a:xfrm>
            <a:custGeom>
              <a:avLst/>
              <a:gdLst/>
              <a:ahLst/>
              <a:rect l="l" t="t" r="r" b="b"/>
              <a:pathLst>
                <a:path w="83" h="797">
                  <a:moveTo>
                    <a:pt x="0" y="797"/>
                  </a:moveTo>
                  <a:lnTo>
                    <a:pt x="83" y="680"/>
                  </a:lnTo>
                  <a:lnTo>
                    <a:pt x="83" y="6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58120" y="4214880"/>
              <a:ext cx="325440" cy="12715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7523280" y="5371920"/>
              <a:ext cx="242640" cy="61560"/>
            </a:xfrm>
            <a:prstGeom prst="rect">
              <a:avLst/>
            </a:prstGeom>
            <a:gradFill rotWithShape="0">
              <a:gsLst>
                <a:gs pos="0">
                  <a:srgbClr val="280078"/>
                </a:gs>
                <a:gs pos="100000">
                  <a:srgbClr val="d2d2d2"/>
                </a:gs>
              </a:gsLst>
              <a:lin ang="5400000"/>
            </a:gra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677000" y="5373720"/>
              <a:ext cx="88920" cy="5976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7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38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523280" y="5373720"/>
              <a:ext cx="12600" cy="5832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0" y="0"/>
                  </a:moveTo>
                  <a:lnTo>
                    <a:pt x="8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523280" y="4228920"/>
              <a:ext cx="242640" cy="1144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520040" y="4282920"/>
              <a:ext cx="1299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278840" y="4228920"/>
              <a:ext cx="182520" cy="1257120"/>
            </a:xfrm>
            <a:custGeom>
              <a:avLst/>
              <a:gdLst/>
              <a:ahLst/>
              <a:rect l="l" t="t" r="r" b="b"/>
              <a:pathLst>
                <a:path w="115" h="792">
                  <a:moveTo>
                    <a:pt x="59" y="792"/>
                  </a:moveTo>
                  <a:lnTo>
                    <a:pt x="0" y="772"/>
                  </a:lnTo>
                  <a:lnTo>
                    <a:pt x="0" y="14"/>
                  </a:lnTo>
                  <a:lnTo>
                    <a:pt x="54" y="7"/>
                  </a:lnTo>
                  <a:lnTo>
                    <a:pt x="115" y="0"/>
                  </a:lnTo>
                  <a:lnTo>
                    <a:pt x="113" y="782"/>
                  </a:lnTo>
                  <a:lnTo>
                    <a:pt x="115" y="782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429680" y="4246560"/>
              <a:ext cx="34920" cy="1207440"/>
            </a:xfrm>
            <a:custGeom>
              <a:avLst/>
              <a:gdLst/>
              <a:ahLst/>
              <a:rect l="l" t="t" r="r" b="b"/>
              <a:pathLst>
                <a:path w="22" h="761">
                  <a:moveTo>
                    <a:pt x="0" y="5"/>
                  </a:moveTo>
                  <a:lnTo>
                    <a:pt x="0" y="752"/>
                  </a:lnTo>
                  <a:lnTo>
                    <a:pt x="22" y="761"/>
                  </a:lnTo>
                  <a:lnTo>
                    <a:pt x="22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464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288200" y="4251240"/>
              <a:ext cx="74520" cy="1217160"/>
            </a:xfrm>
            <a:custGeom>
              <a:avLst/>
              <a:gdLst/>
              <a:ahLst/>
              <a:rect l="l" t="t" r="r" b="b"/>
              <a:pathLst>
                <a:path w="47" h="767">
                  <a:moveTo>
                    <a:pt x="47" y="0"/>
                  </a:moveTo>
                  <a:lnTo>
                    <a:pt x="47" y="767"/>
                  </a:lnTo>
                  <a:lnTo>
                    <a:pt x="0" y="749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7385040" y="4246560"/>
              <a:ext cx="30240" cy="1221840"/>
            </a:xfrm>
            <a:custGeom>
              <a:avLst/>
              <a:gdLst/>
              <a:ahLst/>
              <a:rect l="l" t="t" r="r" b="b"/>
              <a:pathLst>
                <a:path w="19" h="770">
                  <a:moveTo>
                    <a:pt x="19" y="0"/>
                  </a:moveTo>
                  <a:lnTo>
                    <a:pt x="19" y="763"/>
                  </a:lnTo>
                  <a:lnTo>
                    <a:pt x="0" y="77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280078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5" name=""/>
          <p:cNvGrpSpPr/>
          <p:nvPr/>
        </p:nvGrpSpPr>
        <p:grpSpPr>
          <a:xfrm>
            <a:off x="6102360" y="4218120"/>
            <a:ext cx="677880" cy="1257120"/>
            <a:chOff x="6102360" y="4218120"/>
            <a:chExt cx="677880" cy="1257120"/>
          </a:xfrm>
        </p:grpSpPr>
        <p:sp>
          <p:nvSpPr>
            <p:cNvPr id="1376" name=""/>
            <p:cNvSpPr/>
            <p:nvPr/>
          </p:nvSpPr>
          <p:spPr>
            <a:xfrm>
              <a:off x="6689880" y="4218120"/>
              <a:ext cx="90360" cy="1253880"/>
            </a:xfrm>
            <a:custGeom>
              <a:avLst/>
              <a:gdLst/>
              <a:ahLst/>
              <a:rect l="l" t="t" r="r" b="b"/>
              <a:pathLst>
                <a:path w="57" h="790">
                  <a:moveTo>
                    <a:pt x="0" y="790"/>
                  </a:moveTo>
                  <a:lnTo>
                    <a:pt x="57" y="674"/>
                  </a:lnTo>
                  <a:lnTo>
                    <a:pt x="57" y="6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396120" y="4218120"/>
              <a:ext cx="296640" cy="1257120"/>
            </a:xfrm>
            <a:prstGeom prst="rect">
              <a:avLst/>
            </a:prstGeom>
            <a:solidFill>
              <a:srgbClr val="464646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380280" y="4221000"/>
              <a:ext cx="15840" cy="1252080"/>
            </a:xfrm>
            <a:custGeom>
              <a:avLst/>
              <a:gdLst/>
              <a:ahLst/>
              <a:rect l="l" t="t" r="r" b="b"/>
              <a:pathLst>
                <a:path w="10" h="789">
                  <a:moveTo>
                    <a:pt x="0" y="7"/>
                  </a:moveTo>
                  <a:lnTo>
                    <a:pt x="0" y="785"/>
                  </a:lnTo>
                  <a:lnTo>
                    <a:pt x="10" y="789"/>
                  </a:lnTo>
                  <a:lnTo>
                    <a:pt x="10" y="2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245280" y="4218120"/>
              <a:ext cx="155520" cy="1253880"/>
            </a:xfrm>
            <a:custGeom>
              <a:avLst/>
              <a:gdLst/>
              <a:ahLst/>
              <a:rect l="l" t="t" r="r" b="b"/>
              <a:pathLst>
                <a:path w="98" h="790">
                  <a:moveTo>
                    <a:pt x="0" y="789"/>
                  </a:moveTo>
                  <a:lnTo>
                    <a:pt x="6" y="580"/>
                  </a:lnTo>
                  <a:lnTo>
                    <a:pt x="6" y="229"/>
                  </a:lnTo>
                  <a:lnTo>
                    <a:pt x="60" y="191"/>
                  </a:lnTo>
                  <a:lnTo>
                    <a:pt x="60" y="0"/>
                  </a:lnTo>
                  <a:lnTo>
                    <a:pt x="98" y="4"/>
                  </a:lnTo>
                  <a:lnTo>
                    <a:pt x="95" y="790"/>
                  </a:lnTo>
                  <a:lnTo>
                    <a:pt x="98" y="790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356520" y="4244760"/>
              <a:ext cx="56880" cy="1209240"/>
            </a:xfrm>
            <a:custGeom>
              <a:avLst/>
              <a:gdLst/>
              <a:ahLst/>
              <a:rect l="l" t="t" r="r" b="b"/>
              <a:pathLst>
                <a:path w="36" h="762">
                  <a:moveTo>
                    <a:pt x="0" y="0"/>
                  </a:moveTo>
                  <a:lnTo>
                    <a:pt x="0" y="759"/>
                  </a:lnTo>
                  <a:lnTo>
                    <a:pt x="36" y="762"/>
                  </a:lnTo>
                  <a:lnTo>
                    <a:pt x="36" y="0"/>
                  </a:lnTo>
                  <a:lnTo>
                    <a:pt x="32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ffad2c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102360" y="4228920"/>
              <a:ext cx="130320" cy="4870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259680" y="4546440"/>
              <a:ext cx="80640" cy="902880"/>
            </a:xfrm>
            <a:custGeom>
              <a:avLst/>
              <a:gdLst/>
              <a:ahLst/>
              <a:rect l="l" t="t" r="r" b="b"/>
              <a:pathLst>
                <a:path w="51" h="569">
                  <a:moveTo>
                    <a:pt x="6" y="568"/>
                  </a:moveTo>
                  <a:lnTo>
                    <a:pt x="51" y="564"/>
                  </a:lnTo>
                  <a:lnTo>
                    <a:pt x="51" y="0"/>
                  </a:lnTo>
                  <a:lnTo>
                    <a:pt x="0" y="25"/>
                  </a:lnTo>
                  <a:lnTo>
                    <a:pt x="0" y="569"/>
                  </a:lnTo>
                  <a:lnTo>
                    <a:pt x="3" y="569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102360" y="4708440"/>
              <a:ext cx="195120" cy="763200"/>
            </a:xfrm>
            <a:custGeom>
              <a:avLst/>
              <a:gdLst/>
              <a:ahLst/>
              <a:rect l="l" t="t" r="r" b="b"/>
              <a:pathLst>
                <a:path w="123" h="481">
                  <a:moveTo>
                    <a:pt x="0" y="476"/>
                  </a:moveTo>
                  <a:lnTo>
                    <a:pt x="0" y="0"/>
                  </a:lnTo>
                  <a:lnTo>
                    <a:pt x="119" y="0"/>
                  </a:lnTo>
                  <a:lnTo>
                    <a:pt x="119" y="481"/>
                  </a:lnTo>
                  <a:lnTo>
                    <a:pt x="123" y="481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203880" y="4218120"/>
              <a:ext cx="136440" cy="450720"/>
            </a:xfrm>
            <a:custGeom>
              <a:avLst/>
              <a:gdLst/>
              <a:ahLst/>
              <a:rect l="l" t="t" r="r" b="b"/>
              <a:pathLst>
                <a:path w="86" h="284">
                  <a:moveTo>
                    <a:pt x="0" y="8"/>
                  </a:moveTo>
                  <a:lnTo>
                    <a:pt x="86" y="0"/>
                  </a:lnTo>
                  <a:lnTo>
                    <a:pt x="86" y="284"/>
                  </a:lnTo>
                  <a:lnTo>
                    <a:pt x="0" y="284"/>
                  </a:lnTo>
                  <a:close/>
                </a:path>
              </a:pathLst>
            </a:custGeom>
            <a:gradFill rotWithShape="0">
              <a:gsLst>
                <a:gs pos="0">
                  <a:srgbClr val="6e6e6e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434280" y="4248000"/>
              <a:ext cx="228600" cy="1193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492960" y="4286160"/>
              <a:ext cx="114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102360" y="4668840"/>
              <a:ext cx="231840" cy="40680"/>
            </a:xfrm>
            <a:custGeom>
              <a:avLst/>
              <a:gdLst/>
              <a:ahLst/>
              <a:rect l="l" t="t" r="r" b="b"/>
              <a:pathLst>
                <a:path w="146" h="26">
                  <a:moveTo>
                    <a:pt x="65" y="0"/>
                  </a:moveTo>
                  <a:lnTo>
                    <a:pt x="146" y="0"/>
                  </a:lnTo>
                  <a:lnTo>
                    <a:pt x="119" y="26"/>
                  </a:lnTo>
                  <a:lnTo>
                    <a:pt x="5" y="26"/>
                  </a:lnTo>
                  <a:lnTo>
                    <a:pt x="0" y="26"/>
                  </a:lnTo>
                  <a:close/>
                </a:path>
              </a:pathLst>
            </a:custGeom>
            <a:gradFill rotWithShape="0">
              <a:gsLst>
                <a:gs pos="0">
                  <a:srgbClr val="a0a0a0"/>
                </a:gs>
                <a:gs pos="50000">
                  <a:srgbClr val="464646"/>
                </a:gs>
                <a:gs pos="100000">
                  <a:srgbClr val="a0a0a0"/>
                </a:gs>
              </a:gsLst>
              <a:lin ang="81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135840" y="4591080"/>
              <a:ext cx="41040" cy="64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124680" y="4775040"/>
              <a:ext cx="21960" cy="410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311880" y="4695840"/>
              <a:ext cx="15840" cy="763200"/>
            </a:xfrm>
            <a:custGeom>
              <a:avLst/>
              <a:gdLst/>
              <a:ahLst/>
              <a:rect l="l" t="t" r="r" b="b"/>
              <a:pathLst>
                <a:path w="10" h="481">
                  <a:moveTo>
                    <a:pt x="10" y="0"/>
                  </a:moveTo>
                  <a:lnTo>
                    <a:pt x="10" y="472"/>
                  </a:lnTo>
                  <a:lnTo>
                    <a:pt x="0" y="481"/>
                  </a:lnTo>
                  <a:lnTo>
                    <a:pt x="0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1" name=""/>
          <p:cNvSpPr/>
          <p:nvPr/>
        </p:nvSpPr>
        <p:spPr>
          <a:xfrm>
            <a:off x="3429000" y="3886200"/>
            <a:ext cx="4724280" cy="18288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rot="5400000">
            <a:off x="2286000" y="4419720"/>
            <a:ext cx="83808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5943600" y="4038480"/>
            <a:ext cx="2057400" cy="1600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3657600" y="4114800"/>
            <a:ext cx="2184480" cy="14479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270320" y="350532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deGrou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5946840" y="350532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odeGrou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380880" y="2362320"/>
            <a:ext cx="2210040" cy="1752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ls /cfmroot/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urier New"/>
              </a:rPr>
              <a:t>hosts._NodeGrou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assw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had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cfmupdatenode –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3352680" y="2438280"/>
            <a:ext cx="1828800" cy="838440"/>
          </a:xfrm>
          <a:prstGeom prst="wedgeRectCallout">
            <a:avLst>
              <a:gd name="adj1" fmla="val -19009"/>
              <a:gd name="adj2" fmla="val 152652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etc/h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etc/passw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etc/sha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"/>
          <p:cNvSpPr/>
          <p:nvPr/>
        </p:nvSpPr>
        <p:spPr>
          <a:xfrm>
            <a:off x="6248520" y="2438280"/>
            <a:ext cx="1828800" cy="838440"/>
          </a:xfrm>
          <a:prstGeom prst="wedgeRectCallout">
            <a:avLst>
              <a:gd name="adj1" fmla="val 37240"/>
              <a:gd name="adj2" fmla="val 14071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etc/passw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etc/shad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0" name="" descr=""/>
          <p:cNvPicPr/>
          <p:nvPr/>
        </p:nvPicPr>
        <p:blipFill>
          <a:blip r:embed="rId7"/>
          <a:stretch/>
        </p:blipFill>
        <p:spPr>
          <a:xfrm>
            <a:off x="736560" y="4349880"/>
            <a:ext cx="1371600" cy="105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A22F-8840-4437-85B7-6E96D1ACC41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Software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177840" y="124416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Store common rpms on your management server (under /csminstal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Install/update them on your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Lydian"/>
              </a:rPr>
              <a:t>Linux</a:t>
            </a: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 n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Only install or update what’s needed, where it’s nee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Target all nodes, group of nodes, single no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Supports rpm query and delete to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Uses open source autoupd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Command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7889fb"/>
                </a:solidFill>
                <a:latin typeface="Arial"/>
              </a:rPr>
              <a:t>smsupdaten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0DF89-0830-4F7E-B750-3EB265FBFBF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Software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228240" y="1231560"/>
            <a:ext cx="426708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876"/>
              </a:spcBef>
              <a:spcAft>
                <a:spcPts val="37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Lydian"/>
              </a:rPr>
              <a:t>Command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7889fb"/>
                </a:solidFill>
                <a:latin typeface="Arial"/>
              </a:rPr>
              <a:t>smsupdaten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4987800" y="4483080"/>
            <a:ext cx="636480" cy="1270080"/>
            <a:chOff x="4987800" y="4483080"/>
            <a:chExt cx="636480" cy="1270080"/>
          </a:xfrm>
        </p:grpSpPr>
        <p:sp>
          <p:nvSpPr>
            <p:cNvPr id="1406" name=""/>
            <p:cNvSpPr/>
            <p:nvPr/>
          </p:nvSpPr>
          <p:spPr>
            <a:xfrm>
              <a:off x="5492520" y="4488120"/>
              <a:ext cx="131760" cy="1265040"/>
            </a:xfrm>
            <a:custGeom>
              <a:avLst/>
              <a:gdLst/>
              <a:ahLst/>
              <a:rect l="l" t="t" r="r" b="b"/>
              <a:pathLst>
                <a:path w="83" h="797">
                  <a:moveTo>
                    <a:pt x="0" y="797"/>
                  </a:moveTo>
                  <a:lnTo>
                    <a:pt x="83" y="681"/>
                  </a:lnTo>
                  <a:lnTo>
                    <a:pt x="83" y="6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165640" y="4483080"/>
              <a:ext cx="326880" cy="127008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232240" y="5639040"/>
              <a:ext cx="244440" cy="66600"/>
            </a:xfrm>
            <a:prstGeom prst="rect">
              <a:avLst/>
            </a:prstGeom>
            <a:gradFill rotWithShape="0">
              <a:gsLst>
                <a:gs pos="0">
                  <a:srgbClr val="280078"/>
                </a:gs>
                <a:gs pos="100000">
                  <a:srgbClr val="d2d2d2"/>
                </a:gs>
              </a:gsLst>
              <a:lin ang="5400000"/>
            </a:gra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387760" y="5640480"/>
              <a:ext cx="88920" cy="65160"/>
            </a:xfrm>
            <a:custGeom>
              <a:avLst/>
              <a:gdLst/>
              <a:ahLst/>
              <a:rect l="l" t="t" r="r" b="b"/>
              <a:pathLst>
                <a:path w="56" h="41">
                  <a:moveTo>
                    <a:pt x="54" y="38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41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232240" y="5640480"/>
              <a:ext cx="12600" cy="60480"/>
            </a:xfrm>
            <a:custGeom>
              <a:avLst/>
              <a:gdLst/>
              <a:ahLst/>
              <a:rect l="l" t="t" r="r" b="b"/>
              <a:pathLst>
                <a:path w="8" h="38">
                  <a:moveTo>
                    <a:pt x="0" y="0"/>
                  </a:moveTo>
                  <a:lnTo>
                    <a:pt x="8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232240" y="4497480"/>
              <a:ext cx="244440" cy="11430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229000" y="4550040"/>
              <a:ext cx="1303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4987800" y="4497480"/>
              <a:ext cx="182520" cy="1255680"/>
            </a:xfrm>
            <a:custGeom>
              <a:avLst/>
              <a:gdLst/>
              <a:ahLst/>
              <a:rect l="l" t="t" r="r" b="b"/>
              <a:pathLst>
                <a:path w="115" h="791">
                  <a:moveTo>
                    <a:pt x="59" y="791"/>
                  </a:moveTo>
                  <a:lnTo>
                    <a:pt x="0" y="770"/>
                  </a:lnTo>
                  <a:lnTo>
                    <a:pt x="0" y="13"/>
                  </a:lnTo>
                  <a:lnTo>
                    <a:pt x="55" y="8"/>
                  </a:lnTo>
                  <a:lnTo>
                    <a:pt x="115" y="0"/>
                  </a:lnTo>
                  <a:lnTo>
                    <a:pt x="112" y="783"/>
                  </a:lnTo>
                  <a:lnTo>
                    <a:pt x="115" y="783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138640" y="4513320"/>
              <a:ext cx="33120" cy="1206720"/>
            </a:xfrm>
            <a:custGeom>
              <a:avLst/>
              <a:gdLst/>
              <a:ahLst/>
              <a:rect l="l" t="t" r="r" b="b"/>
              <a:pathLst>
                <a:path w="21" h="760">
                  <a:moveTo>
                    <a:pt x="0" y="7"/>
                  </a:moveTo>
                  <a:lnTo>
                    <a:pt x="0" y="753"/>
                  </a:lnTo>
                  <a:lnTo>
                    <a:pt x="21" y="76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464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4997160" y="4518000"/>
              <a:ext cx="73080" cy="1217880"/>
            </a:xfrm>
            <a:custGeom>
              <a:avLst/>
              <a:gdLst/>
              <a:ahLst/>
              <a:rect l="l" t="t" r="r" b="b"/>
              <a:pathLst>
                <a:path w="46" h="767">
                  <a:moveTo>
                    <a:pt x="46" y="0"/>
                  </a:moveTo>
                  <a:lnTo>
                    <a:pt x="46" y="767"/>
                  </a:lnTo>
                  <a:lnTo>
                    <a:pt x="0" y="750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094000" y="4513320"/>
              <a:ext cx="30240" cy="1222560"/>
            </a:xfrm>
            <a:custGeom>
              <a:avLst/>
              <a:gdLst/>
              <a:ahLst/>
              <a:rect l="l" t="t" r="r" b="b"/>
              <a:pathLst>
                <a:path w="19" h="770">
                  <a:moveTo>
                    <a:pt x="19" y="0"/>
                  </a:moveTo>
                  <a:lnTo>
                    <a:pt x="19" y="764"/>
                  </a:lnTo>
                  <a:lnTo>
                    <a:pt x="0" y="77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280078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"/>
          <p:cNvGrpSpPr/>
          <p:nvPr/>
        </p:nvGrpSpPr>
        <p:grpSpPr>
          <a:xfrm>
            <a:off x="3759120" y="4638600"/>
            <a:ext cx="907920" cy="1098720"/>
            <a:chOff x="3759120" y="4638600"/>
            <a:chExt cx="907920" cy="1098720"/>
          </a:xfrm>
        </p:grpSpPr>
        <p:sp>
          <p:nvSpPr>
            <p:cNvPr id="1418" name=""/>
            <p:cNvSpPr/>
            <p:nvPr/>
          </p:nvSpPr>
          <p:spPr>
            <a:xfrm>
              <a:off x="4527360" y="5248440"/>
              <a:ext cx="1126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143240" y="4638600"/>
              <a:ext cx="101520" cy="1092240"/>
            </a:xfrm>
            <a:custGeom>
              <a:avLst/>
              <a:gdLst/>
              <a:ahLst/>
              <a:rect l="l" t="t" r="r" b="b"/>
              <a:pathLst>
                <a:path w="64" h="688">
                  <a:moveTo>
                    <a:pt x="0" y="688"/>
                  </a:moveTo>
                  <a:lnTo>
                    <a:pt x="64" y="591"/>
                  </a:lnTo>
                  <a:lnTo>
                    <a:pt x="64" y="5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898800" y="4638600"/>
              <a:ext cx="244440" cy="109872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929040" y="4662720"/>
              <a:ext cx="187200" cy="1042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762000" y="4643640"/>
              <a:ext cx="136800" cy="1093680"/>
            </a:xfrm>
            <a:custGeom>
              <a:avLst/>
              <a:gdLst/>
              <a:ahLst/>
              <a:rect l="l" t="t" r="r" b="b"/>
              <a:pathLst>
                <a:path w="86" h="689">
                  <a:moveTo>
                    <a:pt x="45" y="689"/>
                  </a:moveTo>
                  <a:lnTo>
                    <a:pt x="0" y="666"/>
                  </a:lnTo>
                  <a:lnTo>
                    <a:pt x="0" y="14"/>
                  </a:lnTo>
                  <a:lnTo>
                    <a:pt x="42" y="8"/>
                  </a:lnTo>
                  <a:lnTo>
                    <a:pt x="86" y="0"/>
                  </a:lnTo>
                  <a:lnTo>
                    <a:pt x="86" y="681"/>
                  </a:lnTo>
                  <a:lnTo>
                    <a:pt x="86" y="681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875040" y="4662720"/>
              <a:ext cx="23760" cy="1037880"/>
            </a:xfrm>
            <a:custGeom>
              <a:avLst/>
              <a:gdLst/>
              <a:ahLst/>
              <a:rect l="l" t="t" r="r" b="b"/>
              <a:pathLst>
                <a:path w="15" h="654">
                  <a:moveTo>
                    <a:pt x="0" y="3"/>
                  </a:moveTo>
                  <a:lnTo>
                    <a:pt x="0" y="653"/>
                  </a:lnTo>
                  <a:lnTo>
                    <a:pt x="15" y="65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771720" y="4665600"/>
              <a:ext cx="52200" cy="1057320"/>
            </a:xfrm>
            <a:custGeom>
              <a:avLst/>
              <a:gdLst/>
              <a:ahLst/>
              <a:rect l="l" t="t" r="r" b="b"/>
              <a:pathLst>
                <a:path w="33" h="666">
                  <a:moveTo>
                    <a:pt x="33" y="0"/>
                  </a:moveTo>
                  <a:lnTo>
                    <a:pt x="33" y="666"/>
                  </a:lnTo>
                  <a:lnTo>
                    <a:pt x="0" y="651"/>
                  </a:lnTo>
                  <a:lnTo>
                    <a:pt x="0" y="5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838320" y="4662720"/>
              <a:ext cx="20520" cy="1054080"/>
            </a:xfrm>
            <a:custGeom>
              <a:avLst/>
              <a:gdLst/>
              <a:ahLst/>
              <a:rect l="l" t="t" r="r" b="b"/>
              <a:pathLst>
                <a:path w="13" h="664">
                  <a:moveTo>
                    <a:pt x="13" y="0"/>
                  </a:moveTo>
                  <a:lnTo>
                    <a:pt x="13" y="661"/>
                  </a:lnTo>
                  <a:lnTo>
                    <a:pt x="2" y="664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759120" y="4665600"/>
              <a:ext cx="1159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149360" y="4794480"/>
              <a:ext cx="69840" cy="269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464646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565520" y="4780080"/>
              <a:ext cx="101520" cy="950760"/>
            </a:xfrm>
            <a:custGeom>
              <a:avLst/>
              <a:gdLst/>
              <a:ahLst/>
              <a:rect l="l" t="t" r="r" b="b"/>
              <a:pathLst>
                <a:path w="64" h="599">
                  <a:moveTo>
                    <a:pt x="0" y="599"/>
                  </a:moveTo>
                  <a:lnTo>
                    <a:pt x="64" y="511"/>
                  </a:lnTo>
                  <a:lnTo>
                    <a:pt x="64" y="49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319280" y="4780080"/>
              <a:ext cx="246240" cy="9507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343040" y="5261040"/>
              <a:ext cx="196920" cy="4507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302000" y="4780080"/>
              <a:ext cx="17280" cy="950760"/>
            </a:xfrm>
            <a:custGeom>
              <a:avLst/>
              <a:gdLst/>
              <a:ahLst/>
              <a:rect l="l" t="t" r="r" b="b"/>
              <a:pathLst>
                <a:path w="11" h="599">
                  <a:moveTo>
                    <a:pt x="0" y="7"/>
                  </a:moveTo>
                  <a:lnTo>
                    <a:pt x="0" y="594"/>
                  </a:lnTo>
                  <a:lnTo>
                    <a:pt x="11" y="599"/>
                  </a:lnTo>
                  <a:lnTo>
                    <a:pt x="11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224240" y="4784760"/>
              <a:ext cx="77760" cy="946080"/>
            </a:xfrm>
            <a:custGeom>
              <a:avLst/>
              <a:gdLst/>
              <a:ahLst/>
              <a:rect l="l" t="t" r="r" b="b"/>
              <a:pathLst>
                <a:path w="49" h="596">
                  <a:moveTo>
                    <a:pt x="0" y="596"/>
                  </a:moveTo>
                  <a:lnTo>
                    <a:pt x="0" y="432"/>
                  </a:lnTo>
                  <a:lnTo>
                    <a:pt x="0" y="172"/>
                  </a:lnTo>
                  <a:lnTo>
                    <a:pt x="34" y="142"/>
                  </a:lnTo>
                  <a:lnTo>
                    <a:pt x="34" y="0"/>
                  </a:lnTo>
                  <a:lnTo>
                    <a:pt x="49" y="4"/>
                  </a:lnTo>
                  <a:lnTo>
                    <a:pt x="49" y="591"/>
                  </a:lnTo>
                  <a:lnTo>
                    <a:pt x="49" y="591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294080" y="4795920"/>
              <a:ext cx="25200" cy="915840"/>
            </a:xfrm>
            <a:custGeom>
              <a:avLst/>
              <a:gdLst/>
              <a:ahLst/>
              <a:rect l="l" t="t" r="r" b="b"/>
              <a:pathLst>
                <a:path w="16" h="577">
                  <a:moveTo>
                    <a:pt x="0" y="5"/>
                  </a:moveTo>
                  <a:lnTo>
                    <a:pt x="0" y="573"/>
                  </a:lnTo>
                  <a:lnTo>
                    <a:pt x="16" y="57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db7d00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248000" y="5031000"/>
              <a:ext cx="30240" cy="680760"/>
            </a:xfrm>
            <a:custGeom>
              <a:avLst/>
              <a:gdLst/>
              <a:ahLst/>
              <a:rect l="l" t="t" r="r" b="b"/>
              <a:pathLst>
                <a:path w="19" h="429">
                  <a:moveTo>
                    <a:pt x="1" y="425"/>
                  </a:moveTo>
                  <a:lnTo>
                    <a:pt x="19" y="422"/>
                  </a:lnTo>
                  <a:lnTo>
                    <a:pt x="19" y="0"/>
                  </a:lnTo>
                  <a:lnTo>
                    <a:pt x="0" y="19"/>
                  </a:lnTo>
                  <a:lnTo>
                    <a:pt x="0" y="429"/>
                  </a:lnTo>
                  <a:lnTo>
                    <a:pt x="1" y="426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149360" y="5060880"/>
              <a:ext cx="84240" cy="669960"/>
            </a:xfrm>
            <a:custGeom>
              <a:avLst/>
              <a:gdLst/>
              <a:ahLst/>
              <a:rect l="l" t="t" r="r" b="b"/>
              <a:pathLst>
                <a:path w="53" h="422">
                  <a:moveTo>
                    <a:pt x="0" y="417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422"/>
                  </a:lnTo>
                  <a:lnTo>
                    <a:pt x="53" y="422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149360" y="5011920"/>
              <a:ext cx="128880" cy="4896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53" y="31"/>
                  </a:moveTo>
                  <a:lnTo>
                    <a:pt x="0" y="31"/>
                  </a:lnTo>
                  <a:lnTo>
                    <a:pt x="44" y="0"/>
                  </a:lnTo>
                  <a:lnTo>
                    <a:pt x="81" y="0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50000">
                  <a:srgbClr val="808080"/>
                </a:gs>
                <a:gs pos="100000">
                  <a:srgbClr val="d2d2d2"/>
                </a:gs>
              </a:gsLst>
              <a:lin ang="81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219200" y="4784760"/>
              <a:ext cx="59040" cy="227160"/>
            </a:xfrm>
            <a:custGeom>
              <a:avLst/>
              <a:gdLst/>
              <a:ahLst/>
              <a:rect l="l" t="t" r="r" b="b"/>
              <a:pathLst>
                <a:path w="37" h="143">
                  <a:moveTo>
                    <a:pt x="0" y="6"/>
                  </a:moveTo>
                  <a:lnTo>
                    <a:pt x="37" y="0"/>
                  </a:lnTo>
                  <a:lnTo>
                    <a:pt x="37" y="143"/>
                  </a:lnTo>
                  <a:lnTo>
                    <a:pt x="0" y="1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0a0a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343040" y="4799160"/>
              <a:ext cx="196920" cy="234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344840" y="5060880"/>
              <a:ext cx="198360" cy="181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89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0" name=""/>
          <p:cNvGrpSpPr/>
          <p:nvPr/>
        </p:nvGrpSpPr>
        <p:grpSpPr>
          <a:xfrm>
            <a:off x="7227720" y="4519440"/>
            <a:ext cx="636480" cy="1271880"/>
            <a:chOff x="7227720" y="4519440"/>
            <a:chExt cx="636480" cy="1271880"/>
          </a:xfrm>
        </p:grpSpPr>
        <p:sp>
          <p:nvSpPr>
            <p:cNvPr id="1441" name=""/>
            <p:cNvSpPr/>
            <p:nvPr/>
          </p:nvSpPr>
          <p:spPr>
            <a:xfrm>
              <a:off x="7732440" y="4525920"/>
              <a:ext cx="131760" cy="1265400"/>
            </a:xfrm>
            <a:custGeom>
              <a:avLst/>
              <a:gdLst/>
              <a:ahLst/>
              <a:rect l="l" t="t" r="r" b="b"/>
              <a:pathLst>
                <a:path w="83" h="797">
                  <a:moveTo>
                    <a:pt x="0" y="797"/>
                  </a:moveTo>
                  <a:lnTo>
                    <a:pt x="83" y="680"/>
                  </a:lnTo>
                  <a:lnTo>
                    <a:pt x="83" y="6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407000" y="4519440"/>
              <a:ext cx="325440" cy="127188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472160" y="5676840"/>
              <a:ext cx="242640" cy="61920"/>
            </a:xfrm>
            <a:prstGeom prst="rect">
              <a:avLst/>
            </a:prstGeom>
            <a:gradFill rotWithShape="0">
              <a:gsLst>
                <a:gs pos="0">
                  <a:srgbClr val="280078"/>
                </a:gs>
                <a:gs pos="100000">
                  <a:srgbClr val="d2d2d2"/>
                </a:gs>
              </a:gsLst>
              <a:lin ang="5400000"/>
            </a:gra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625880" y="567864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7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38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7472160" y="5678640"/>
              <a:ext cx="12600" cy="5868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0" y="0"/>
                  </a:moveTo>
                  <a:lnTo>
                    <a:pt x="8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7472160" y="4533840"/>
              <a:ext cx="242640" cy="11448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7468920" y="4587840"/>
              <a:ext cx="1299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227720" y="4533840"/>
              <a:ext cx="182520" cy="1257480"/>
            </a:xfrm>
            <a:custGeom>
              <a:avLst/>
              <a:gdLst/>
              <a:ahLst/>
              <a:rect l="l" t="t" r="r" b="b"/>
              <a:pathLst>
                <a:path w="115" h="792">
                  <a:moveTo>
                    <a:pt x="59" y="792"/>
                  </a:moveTo>
                  <a:lnTo>
                    <a:pt x="0" y="772"/>
                  </a:lnTo>
                  <a:lnTo>
                    <a:pt x="0" y="14"/>
                  </a:lnTo>
                  <a:lnTo>
                    <a:pt x="54" y="7"/>
                  </a:lnTo>
                  <a:lnTo>
                    <a:pt x="115" y="0"/>
                  </a:lnTo>
                  <a:lnTo>
                    <a:pt x="113" y="782"/>
                  </a:lnTo>
                  <a:lnTo>
                    <a:pt x="115" y="782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378560" y="4551480"/>
              <a:ext cx="34920" cy="1207800"/>
            </a:xfrm>
            <a:custGeom>
              <a:avLst/>
              <a:gdLst/>
              <a:ahLst/>
              <a:rect l="l" t="t" r="r" b="b"/>
              <a:pathLst>
                <a:path w="22" h="761">
                  <a:moveTo>
                    <a:pt x="0" y="5"/>
                  </a:moveTo>
                  <a:lnTo>
                    <a:pt x="0" y="752"/>
                  </a:lnTo>
                  <a:lnTo>
                    <a:pt x="22" y="761"/>
                  </a:lnTo>
                  <a:lnTo>
                    <a:pt x="22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464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237080" y="4556160"/>
              <a:ext cx="74520" cy="1217520"/>
            </a:xfrm>
            <a:custGeom>
              <a:avLst/>
              <a:gdLst/>
              <a:ahLst/>
              <a:rect l="l" t="t" r="r" b="b"/>
              <a:pathLst>
                <a:path w="47" h="767">
                  <a:moveTo>
                    <a:pt x="47" y="0"/>
                  </a:moveTo>
                  <a:lnTo>
                    <a:pt x="47" y="767"/>
                  </a:lnTo>
                  <a:lnTo>
                    <a:pt x="0" y="749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7333920" y="4551480"/>
              <a:ext cx="30240" cy="1222200"/>
            </a:xfrm>
            <a:custGeom>
              <a:avLst/>
              <a:gdLst/>
              <a:ahLst/>
              <a:rect l="l" t="t" r="r" b="b"/>
              <a:pathLst>
                <a:path w="19" h="770">
                  <a:moveTo>
                    <a:pt x="19" y="0"/>
                  </a:moveTo>
                  <a:lnTo>
                    <a:pt x="19" y="763"/>
                  </a:lnTo>
                  <a:lnTo>
                    <a:pt x="0" y="77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280078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6102360" y="4484520"/>
            <a:ext cx="677880" cy="1257480"/>
            <a:chOff x="6102360" y="4484520"/>
            <a:chExt cx="677880" cy="1257480"/>
          </a:xfrm>
        </p:grpSpPr>
        <p:sp>
          <p:nvSpPr>
            <p:cNvPr id="1453" name=""/>
            <p:cNvSpPr/>
            <p:nvPr/>
          </p:nvSpPr>
          <p:spPr>
            <a:xfrm>
              <a:off x="6689880" y="4484520"/>
              <a:ext cx="90360" cy="1254240"/>
            </a:xfrm>
            <a:custGeom>
              <a:avLst/>
              <a:gdLst/>
              <a:ahLst/>
              <a:rect l="l" t="t" r="r" b="b"/>
              <a:pathLst>
                <a:path w="57" h="790">
                  <a:moveTo>
                    <a:pt x="0" y="790"/>
                  </a:moveTo>
                  <a:lnTo>
                    <a:pt x="57" y="674"/>
                  </a:lnTo>
                  <a:lnTo>
                    <a:pt x="57" y="6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6396120" y="4484520"/>
              <a:ext cx="296640" cy="1257480"/>
            </a:xfrm>
            <a:prstGeom prst="rect">
              <a:avLst/>
            </a:prstGeom>
            <a:solidFill>
              <a:srgbClr val="464646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380280" y="4487760"/>
              <a:ext cx="15840" cy="1252440"/>
            </a:xfrm>
            <a:custGeom>
              <a:avLst/>
              <a:gdLst/>
              <a:ahLst/>
              <a:rect l="l" t="t" r="r" b="b"/>
              <a:pathLst>
                <a:path w="10" h="789">
                  <a:moveTo>
                    <a:pt x="0" y="7"/>
                  </a:moveTo>
                  <a:lnTo>
                    <a:pt x="0" y="785"/>
                  </a:lnTo>
                  <a:lnTo>
                    <a:pt x="10" y="789"/>
                  </a:lnTo>
                  <a:lnTo>
                    <a:pt x="10" y="2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45280" y="4484520"/>
              <a:ext cx="155520" cy="1254240"/>
            </a:xfrm>
            <a:custGeom>
              <a:avLst/>
              <a:gdLst/>
              <a:ahLst/>
              <a:rect l="l" t="t" r="r" b="b"/>
              <a:pathLst>
                <a:path w="98" h="790">
                  <a:moveTo>
                    <a:pt x="0" y="789"/>
                  </a:moveTo>
                  <a:lnTo>
                    <a:pt x="6" y="580"/>
                  </a:lnTo>
                  <a:lnTo>
                    <a:pt x="6" y="229"/>
                  </a:lnTo>
                  <a:lnTo>
                    <a:pt x="60" y="191"/>
                  </a:lnTo>
                  <a:lnTo>
                    <a:pt x="60" y="0"/>
                  </a:lnTo>
                  <a:lnTo>
                    <a:pt x="98" y="4"/>
                  </a:lnTo>
                  <a:lnTo>
                    <a:pt x="95" y="790"/>
                  </a:lnTo>
                  <a:lnTo>
                    <a:pt x="98" y="790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356520" y="4511520"/>
              <a:ext cx="56880" cy="1209600"/>
            </a:xfrm>
            <a:custGeom>
              <a:avLst/>
              <a:gdLst/>
              <a:ahLst/>
              <a:rect l="l" t="t" r="r" b="b"/>
              <a:pathLst>
                <a:path w="36" h="762">
                  <a:moveTo>
                    <a:pt x="0" y="0"/>
                  </a:moveTo>
                  <a:lnTo>
                    <a:pt x="0" y="759"/>
                  </a:lnTo>
                  <a:lnTo>
                    <a:pt x="36" y="762"/>
                  </a:lnTo>
                  <a:lnTo>
                    <a:pt x="36" y="0"/>
                  </a:lnTo>
                  <a:lnTo>
                    <a:pt x="32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ffad2c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102360" y="4495680"/>
              <a:ext cx="130320" cy="48744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59680" y="4813200"/>
              <a:ext cx="80640" cy="903240"/>
            </a:xfrm>
            <a:custGeom>
              <a:avLst/>
              <a:gdLst/>
              <a:ahLst/>
              <a:rect l="l" t="t" r="r" b="b"/>
              <a:pathLst>
                <a:path w="51" h="569">
                  <a:moveTo>
                    <a:pt x="6" y="568"/>
                  </a:moveTo>
                  <a:lnTo>
                    <a:pt x="51" y="564"/>
                  </a:lnTo>
                  <a:lnTo>
                    <a:pt x="51" y="0"/>
                  </a:lnTo>
                  <a:lnTo>
                    <a:pt x="0" y="25"/>
                  </a:lnTo>
                  <a:lnTo>
                    <a:pt x="0" y="569"/>
                  </a:lnTo>
                  <a:lnTo>
                    <a:pt x="3" y="569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102360" y="4975200"/>
              <a:ext cx="195120" cy="763560"/>
            </a:xfrm>
            <a:custGeom>
              <a:avLst/>
              <a:gdLst/>
              <a:ahLst/>
              <a:rect l="l" t="t" r="r" b="b"/>
              <a:pathLst>
                <a:path w="123" h="481">
                  <a:moveTo>
                    <a:pt x="0" y="476"/>
                  </a:moveTo>
                  <a:lnTo>
                    <a:pt x="0" y="0"/>
                  </a:lnTo>
                  <a:lnTo>
                    <a:pt x="119" y="0"/>
                  </a:lnTo>
                  <a:lnTo>
                    <a:pt x="119" y="481"/>
                  </a:lnTo>
                  <a:lnTo>
                    <a:pt x="123" y="481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03880" y="4484520"/>
              <a:ext cx="136440" cy="451080"/>
            </a:xfrm>
            <a:custGeom>
              <a:avLst/>
              <a:gdLst/>
              <a:ahLst/>
              <a:rect l="l" t="t" r="r" b="b"/>
              <a:pathLst>
                <a:path w="86" h="284">
                  <a:moveTo>
                    <a:pt x="0" y="8"/>
                  </a:moveTo>
                  <a:lnTo>
                    <a:pt x="86" y="0"/>
                  </a:lnTo>
                  <a:lnTo>
                    <a:pt x="86" y="284"/>
                  </a:lnTo>
                  <a:lnTo>
                    <a:pt x="0" y="284"/>
                  </a:lnTo>
                  <a:close/>
                </a:path>
              </a:pathLst>
            </a:custGeom>
            <a:gradFill rotWithShape="0">
              <a:gsLst>
                <a:gs pos="0">
                  <a:srgbClr val="6e6e6e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434280" y="4514760"/>
              <a:ext cx="228600" cy="1193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492960" y="4552920"/>
              <a:ext cx="114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102360" y="4935600"/>
              <a:ext cx="231840" cy="41040"/>
            </a:xfrm>
            <a:custGeom>
              <a:avLst/>
              <a:gdLst/>
              <a:ahLst/>
              <a:rect l="l" t="t" r="r" b="b"/>
              <a:pathLst>
                <a:path w="146" h="26">
                  <a:moveTo>
                    <a:pt x="65" y="0"/>
                  </a:moveTo>
                  <a:lnTo>
                    <a:pt x="146" y="0"/>
                  </a:lnTo>
                  <a:lnTo>
                    <a:pt x="119" y="26"/>
                  </a:lnTo>
                  <a:lnTo>
                    <a:pt x="5" y="26"/>
                  </a:lnTo>
                  <a:lnTo>
                    <a:pt x="0" y="26"/>
                  </a:lnTo>
                  <a:close/>
                </a:path>
              </a:pathLst>
            </a:custGeom>
            <a:gradFill rotWithShape="0">
              <a:gsLst>
                <a:gs pos="0">
                  <a:srgbClr val="a0a0a0"/>
                </a:gs>
                <a:gs pos="50000">
                  <a:srgbClr val="464646"/>
                </a:gs>
                <a:gs pos="100000">
                  <a:srgbClr val="a0a0a0"/>
                </a:gs>
              </a:gsLst>
              <a:lin ang="81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135840" y="4857840"/>
              <a:ext cx="41040" cy="648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124680" y="5041800"/>
              <a:ext cx="21960" cy="41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311880" y="4962600"/>
              <a:ext cx="15840" cy="763560"/>
            </a:xfrm>
            <a:custGeom>
              <a:avLst/>
              <a:gdLst/>
              <a:ahLst/>
              <a:rect l="l" t="t" r="r" b="b"/>
              <a:pathLst>
                <a:path w="10" h="481">
                  <a:moveTo>
                    <a:pt x="10" y="0"/>
                  </a:moveTo>
                  <a:lnTo>
                    <a:pt x="10" y="472"/>
                  </a:lnTo>
                  <a:lnTo>
                    <a:pt x="0" y="481"/>
                  </a:lnTo>
                  <a:lnTo>
                    <a:pt x="0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8" name=""/>
          <p:cNvSpPr/>
          <p:nvPr/>
        </p:nvSpPr>
        <p:spPr>
          <a:xfrm>
            <a:off x="3416400" y="4140360"/>
            <a:ext cx="4724280" cy="18288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"/>
          <p:cNvSpPr/>
          <p:nvPr/>
        </p:nvSpPr>
        <p:spPr>
          <a:xfrm rot="5400000">
            <a:off x="2413080" y="4508640"/>
            <a:ext cx="83808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5931000" y="4280040"/>
            <a:ext cx="2057400" cy="1600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3645000" y="4381560"/>
            <a:ext cx="2146320" cy="144792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3660840" y="59436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odeGrou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5934240" y="5956200"/>
            <a:ext cx="140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NodeGrou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457200" y="1752480"/>
            <a:ext cx="8102520" cy="1702080"/>
          </a:xfrm>
          <a:prstGeom prst="roundRect">
            <a:avLst>
              <a:gd name="adj" fmla="val 1611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ls /csminstall/Linux/SLES/9/x86_64/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dq.8.5-22.x86_64.r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yz.1.0-0.x86_64.r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ls /csminstall/Linux/SLES/9/x86_64/updates/NodeGrou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dq.9.5-47.x86_64.r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msupdatenode –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4775040" y="3543480"/>
            <a:ext cx="1828800" cy="431640"/>
          </a:xfrm>
          <a:prstGeom prst="wedgeRectCallout">
            <a:avLst>
              <a:gd name="adj1" fmla="val -51648"/>
              <a:gd name="adj2" fmla="val 196689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q.8.5-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6730920" y="3543480"/>
            <a:ext cx="1828800" cy="431640"/>
          </a:xfrm>
          <a:prstGeom prst="wedgeRectCallout">
            <a:avLst>
              <a:gd name="adj1" fmla="val -34981"/>
              <a:gd name="adj2" fmla="val 181986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dq.9.5-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2819520" y="3530520"/>
            <a:ext cx="1828800" cy="432000"/>
          </a:xfrm>
          <a:prstGeom prst="wedgeRectCallout">
            <a:avLst>
              <a:gd name="adj1" fmla="val -9981"/>
              <a:gd name="adj2" fmla="val 120222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yz.1.0-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8" name="" descr=""/>
          <p:cNvPicPr/>
          <p:nvPr/>
        </p:nvPicPr>
        <p:blipFill>
          <a:blip r:embed="rId7"/>
          <a:stretch/>
        </p:blipFill>
        <p:spPr>
          <a:xfrm>
            <a:off x="520560" y="4362480"/>
            <a:ext cx="1702080" cy="130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FCAE2-6FD7-4CDA-B303-C94B8BA921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153720" y="533520"/>
            <a:ext cx="8837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Node Monitor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190440" y="11552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Monitor nodes for conditions of intere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9480" indent="-21348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Network reachability, power status, CPU and file system utilization, Error log/syslog, custom condi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Set up automated respon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29480" indent="-21348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ydian"/>
              </a:rPr>
              <a:t>Corrective scripts, e-mail, paging, SNMP traps, custom respons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Conditions can "rearm" after re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Monitoring subsystem can be extended by writing your own sen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Events for when nodes are added, node groups change, updatenode fails, etc., make it possible for customers’ own tools to react to changes in the cluster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Command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7889fb"/>
                </a:solidFill>
                <a:latin typeface="Arial"/>
              </a:rPr>
              <a:t>mkcondition, mkresponse, startcondresp, etc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52FB-4687-446A-B0D1-745EF2E2CF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Node Monitor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4594320" y="1676520"/>
            <a:ext cx="636480" cy="1269720"/>
            <a:chOff x="4594320" y="1676520"/>
            <a:chExt cx="636480" cy="1269720"/>
          </a:xfrm>
        </p:grpSpPr>
        <p:sp>
          <p:nvSpPr>
            <p:cNvPr id="1483" name=""/>
            <p:cNvSpPr/>
            <p:nvPr/>
          </p:nvSpPr>
          <p:spPr>
            <a:xfrm>
              <a:off x="5099040" y="1681200"/>
              <a:ext cx="131760" cy="1264680"/>
            </a:xfrm>
            <a:custGeom>
              <a:avLst/>
              <a:gdLst/>
              <a:ahLst/>
              <a:rect l="l" t="t" r="r" b="b"/>
              <a:pathLst>
                <a:path w="83" h="797">
                  <a:moveTo>
                    <a:pt x="0" y="797"/>
                  </a:moveTo>
                  <a:lnTo>
                    <a:pt x="83" y="681"/>
                  </a:lnTo>
                  <a:lnTo>
                    <a:pt x="83" y="6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72160" y="1676520"/>
              <a:ext cx="326880" cy="12697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838760" y="2832120"/>
              <a:ext cx="244440" cy="66240"/>
            </a:xfrm>
            <a:prstGeom prst="rect">
              <a:avLst/>
            </a:prstGeom>
            <a:gradFill rotWithShape="0">
              <a:gsLst>
                <a:gs pos="0">
                  <a:srgbClr val="280078"/>
                </a:gs>
                <a:gs pos="100000">
                  <a:srgbClr val="d2d2d2"/>
                </a:gs>
              </a:gsLst>
              <a:lin ang="5400000"/>
            </a:gra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994280" y="2833560"/>
              <a:ext cx="88920" cy="64800"/>
            </a:xfrm>
            <a:custGeom>
              <a:avLst/>
              <a:gdLst/>
              <a:ahLst/>
              <a:rect l="l" t="t" r="r" b="b"/>
              <a:pathLst>
                <a:path w="56" h="41">
                  <a:moveTo>
                    <a:pt x="54" y="38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41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838760" y="2833560"/>
              <a:ext cx="12600" cy="60120"/>
            </a:xfrm>
            <a:custGeom>
              <a:avLst/>
              <a:gdLst/>
              <a:ahLst/>
              <a:rect l="l" t="t" r="r" b="b"/>
              <a:pathLst>
                <a:path w="8" h="38">
                  <a:moveTo>
                    <a:pt x="0" y="0"/>
                  </a:moveTo>
                  <a:lnTo>
                    <a:pt x="8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838760" y="1690560"/>
              <a:ext cx="244440" cy="1142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835520" y="1743120"/>
              <a:ext cx="1303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594320" y="1690560"/>
              <a:ext cx="182520" cy="1255320"/>
            </a:xfrm>
            <a:custGeom>
              <a:avLst/>
              <a:gdLst/>
              <a:ahLst/>
              <a:rect l="l" t="t" r="r" b="b"/>
              <a:pathLst>
                <a:path w="115" h="791">
                  <a:moveTo>
                    <a:pt x="59" y="791"/>
                  </a:moveTo>
                  <a:lnTo>
                    <a:pt x="0" y="770"/>
                  </a:lnTo>
                  <a:lnTo>
                    <a:pt x="0" y="13"/>
                  </a:lnTo>
                  <a:lnTo>
                    <a:pt x="55" y="8"/>
                  </a:lnTo>
                  <a:lnTo>
                    <a:pt x="115" y="0"/>
                  </a:lnTo>
                  <a:lnTo>
                    <a:pt x="112" y="783"/>
                  </a:lnTo>
                  <a:lnTo>
                    <a:pt x="115" y="783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745160" y="1706400"/>
              <a:ext cx="33120" cy="1206360"/>
            </a:xfrm>
            <a:custGeom>
              <a:avLst/>
              <a:gdLst/>
              <a:ahLst/>
              <a:rect l="l" t="t" r="r" b="b"/>
              <a:pathLst>
                <a:path w="21" h="760">
                  <a:moveTo>
                    <a:pt x="0" y="7"/>
                  </a:moveTo>
                  <a:lnTo>
                    <a:pt x="0" y="753"/>
                  </a:lnTo>
                  <a:lnTo>
                    <a:pt x="21" y="76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464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603680" y="1711080"/>
              <a:ext cx="73080" cy="1217520"/>
            </a:xfrm>
            <a:custGeom>
              <a:avLst/>
              <a:gdLst/>
              <a:ahLst/>
              <a:rect l="l" t="t" r="r" b="b"/>
              <a:pathLst>
                <a:path w="46" h="767">
                  <a:moveTo>
                    <a:pt x="46" y="0"/>
                  </a:moveTo>
                  <a:lnTo>
                    <a:pt x="46" y="767"/>
                  </a:lnTo>
                  <a:lnTo>
                    <a:pt x="0" y="750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700520" y="1706400"/>
              <a:ext cx="30240" cy="1222200"/>
            </a:xfrm>
            <a:custGeom>
              <a:avLst/>
              <a:gdLst/>
              <a:ahLst/>
              <a:rect l="l" t="t" r="r" b="b"/>
              <a:pathLst>
                <a:path w="19" h="770">
                  <a:moveTo>
                    <a:pt x="19" y="0"/>
                  </a:moveTo>
                  <a:lnTo>
                    <a:pt x="19" y="764"/>
                  </a:lnTo>
                  <a:lnTo>
                    <a:pt x="0" y="77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280078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4" name=""/>
          <p:cNvGrpSpPr/>
          <p:nvPr/>
        </p:nvGrpSpPr>
        <p:grpSpPr>
          <a:xfrm>
            <a:off x="3276720" y="1781280"/>
            <a:ext cx="907920" cy="1098360"/>
            <a:chOff x="3276720" y="1781280"/>
            <a:chExt cx="907920" cy="1098360"/>
          </a:xfrm>
        </p:grpSpPr>
        <p:sp>
          <p:nvSpPr>
            <p:cNvPr id="1495" name=""/>
            <p:cNvSpPr/>
            <p:nvPr/>
          </p:nvSpPr>
          <p:spPr>
            <a:xfrm>
              <a:off x="4044960" y="2390760"/>
              <a:ext cx="1126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660840" y="1781280"/>
              <a:ext cx="101520" cy="1091880"/>
            </a:xfrm>
            <a:custGeom>
              <a:avLst/>
              <a:gdLst/>
              <a:ahLst/>
              <a:rect l="l" t="t" r="r" b="b"/>
              <a:pathLst>
                <a:path w="64" h="688">
                  <a:moveTo>
                    <a:pt x="0" y="688"/>
                  </a:moveTo>
                  <a:lnTo>
                    <a:pt x="64" y="591"/>
                  </a:lnTo>
                  <a:lnTo>
                    <a:pt x="64" y="5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416400" y="1781280"/>
              <a:ext cx="244440" cy="10983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446640" y="1805040"/>
              <a:ext cx="187200" cy="1042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279600" y="1785960"/>
              <a:ext cx="136800" cy="1093320"/>
            </a:xfrm>
            <a:custGeom>
              <a:avLst/>
              <a:gdLst/>
              <a:ahLst/>
              <a:rect l="l" t="t" r="r" b="b"/>
              <a:pathLst>
                <a:path w="86" h="689">
                  <a:moveTo>
                    <a:pt x="45" y="689"/>
                  </a:moveTo>
                  <a:lnTo>
                    <a:pt x="0" y="666"/>
                  </a:lnTo>
                  <a:lnTo>
                    <a:pt x="0" y="14"/>
                  </a:lnTo>
                  <a:lnTo>
                    <a:pt x="42" y="8"/>
                  </a:lnTo>
                  <a:lnTo>
                    <a:pt x="86" y="0"/>
                  </a:lnTo>
                  <a:lnTo>
                    <a:pt x="86" y="681"/>
                  </a:lnTo>
                  <a:lnTo>
                    <a:pt x="86" y="681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392640" y="1805040"/>
              <a:ext cx="23760" cy="1037520"/>
            </a:xfrm>
            <a:custGeom>
              <a:avLst/>
              <a:gdLst/>
              <a:ahLst/>
              <a:rect l="l" t="t" r="r" b="b"/>
              <a:pathLst>
                <a:path w="15" h="654">
                  <a:moveTo>
                    <a:pt x="0" y="3"/>
                  </a:moveTo>
                  <a:lnTo>
                    <a:pt x="0" y="653"/>
                  </a:lnTo>
                  <a:lnTo>
                    <a:pt x="15" y="65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289320" y="1807920"/>
              <a:ext cx="52200" cy="1056960"/>
            </a:xfrm>
            <a:custGeom>
              <a:avLst/>
              <a:gdLst/>
              <a:ahLst/>
              <a:rect l="l" t="t" r="r" b="b"/>
              <a:pathLst>
                <a:path w="33" h="666">
                  <a:moveTo>
                    <a:pt x="33" y="0"/>
                  </a:moveTo>
                  <a:lnTo>
                    <a:pt x="33" y="666"/>
                  </a:lnTo>
                  <a:lnTo>
                    <a:pt x="0" y="651"/>
                  </a:lnTo>
                  <a:lnTo>
                    <a:pt x="0" y="5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355920" y="1805040"/>
              <a:ext cx="20520" cy="1053720"/>
            </a:xfrm>
            <a:custGeom>
              <a:avLst/>
              <a:gdLst/>
              <a:ahLst/>
              <a:rect l="l" t="t" r="r" b="b"/>
              <a:pathLst>
                <a:path w="13" h="664">
                  <a:moveTo>
                    <a:pt x="13" y="0"/>
                  </a:moveTo>
                  <a:lnTo>
                    <a:pt x="13" y="661"/>
                  </a:lnTo>
                  <a:lnTo>
                    <a:pt x="2" y="664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276720" y="1807920"/>
              <a:ext cx="1159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666960" y="1936800"/>
              <a:ext cx="69840" cy="269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464646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083120" y="1922400"/>
              <a:ext cx="101520" cy="950400"/>
            </a:xfrm>
            <a:custGeom>
              <a:avLst/>
              <a:gdLst/>
              <a:ahLst/>
              <a:rect l="l" t="t" r="r" b="b"/>
              <a:pathLst>
                <a:path w="64" h="599">
                  <a:moveTo>
                    <a:pt x="0" y="599"/>
                  </a:moveTo>
                  <a:lnTo>
                    <a:pt x="64" y="511"/>
                  </a:lnTo>
                  <a:lnTo>
                    <a:pt x="64" y="49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836880" y="1922400"/>
              <a:ext cx="246240" cy="95040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860640" y="2403360"/>
              <a:ext cx="196920" cy="4503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819600" y="1922400"/>
              <a:ext cx="17280" cy="950400"/>
            </a:xfrm>
            <a:custGeom>
              <a:avLst/>
              <a:gdLst/>
              <a:ahLst/>
              <a:rect l="l" t="t" r="r" b="b"/>
              <a:pathLst>
                <a:path w="11" h="599">
                  <a:moveTo>
                    <a:pt x="0" y="7"/>
                  </a:moveTo>
                  <a:lnTo>
                    <a:pt x="0" y="594"/>
                  </a:lnTo>
                  <a:lnTo>
                    <a:pt x="11" y="599"/>
                  </a:lnTo>
                  <a:lnTo>
                    <a:pt x="11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741840" y="1927080"/>
              <a:ext cx="77760" cy="945720"/>
            </a:xfrm>
            <a:custGeom>
              <a:avLst/>
              <a:gdLst/>
              <a:ahLst/>
              <a:rect l="l" t="t" r="r" b="b"/>
              <a:pathLst>
                <a:path w="49" h="596">
                  <a:moveTo>
                    <a:pt x="0" y="596"/>
                  </a:moveTo>
                  <a:lnTo>
                    <a:pt x="0" y="432"/>
                  </a:lnTo>
                  <a:lnTo>
                    <a:pt x="0" y="172"/>
                  </a:lnTo>
                  <a:lnTo>
                    <a:pt x="34" y="142"/>
                  </a:lnTo>
                  <a:lnTo>
                    <a:pt x="34" y="0"/>
                  </a:lnTo>
                  <a:lnTo>
                    <a:pt x="49" y="4"/>
                  </a:lnTo>
                  <a:lnTo>
                    <a:pt x="49" y="591"/>
                  </a:lnTo>
                  <a:lnTo>
                    <a:pt x="49" y="591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811680" y="1938240"/>
              <a:ext cx="25200" cy="915480"/>
            </a:xfrm>
            <a:custGeom>
              <a:avLst/>
              <a:gdLst/>
              <a:ahLst/>
              <a:rect l="l" t="t" r="r" b="b"/>
              <a:pathLst>
                <a:path w="16" h="577">
                  <a:moveTo>
                    <a:pt x="0" y="5"/>
                  </a:moveTo>
                  <a:lnTo>
                    <a:pt x="0" y="573"/>
                  </a:lnTo>
                  <a:lnTo>
                    <a:pt x="16" y="57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db7d00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765600" y="2173320"/>
              <a:ext cx="30240" cy="680400"/>
            </a:xfrm>
            <a:custGeom>
              <a:avLst/>
              <a:gdLst/>
              <a:ahLst/>
              <a:rect l="l" t="t" r="r" b="b"/>
              <a:pathLst>
                <a:path w="19" h="429">
                  <a:moveTo>
                    <a:pt x="1" y="425"/>
                  </a:moveTo>
                  <a:lnTo>
                    <a:pt x="19" y="422"/>
                  </a:lnTo>
                  <a:lnTo>
                    <a:pt x="19" y="0"/>
                  </a:lnTo>
                  <a:lnTo>
                    <a:pt x="0" y="19"/>
                  </a:lnTo>
                  <a:lnTo>
                    <a:pt x="0" y="429"/>
                  </a:lnTo>
                  <a:lnTo>
                    <a:pt x="1" y="426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666960" y="2203200"/>
              <a:ext cx="84240" cy="669600"/>
            </a:xfrm>
            <a:custGeom>
              <a:avLst/>
              <a:gdLst/>
              <a:ahLst/>
              <a:rect l="l" t="t" r="r" b="b"/>
              <a:pathLst>
                <a:path w="53" h="422">
                  <a:moveTo>
                    <a:pt x="0" y="417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422"/>
                  </a:lnTo>
                  <a:lnTo>
                    <a:pt x="53" y="422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666960" y="2154240"/>
              <a:ext cx="128880" cy="4860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53" y="31"/>
                  </a:moveTo>
                  <a:lnTo>
                    <a:pt x="0" y="31"/>
                  </a:lnTo>
                  <a:lnTo>
                    <a:pt x="44" y="0"/>
                  </a:lnTo>
                  <a:lnTo>
                    <a:pt x="81" y="0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50000">
                  <a:srgbClr val="808080"/>
                </a:gs>
                <a:gs pos="100000">
                  <a:srgbClr val="d2d2d2"/>
                </a:gs>
              </a:gsLst>
              <a:lin ang="81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736800" y="1927080"/>
              <a:ext cx="59040" cy="226800"/>
            </a:xfrm>
            <a:custGeom>
              <a:avLst/>
              <a:gdLst/>
              <a:ahLst/>
              <a:rect l="l" t="t" r="r" b="b"/>
              <a:pathLst>
                <a:path w="37" h="143">
                  <a:moveTo>
                    <a:pt x="0" y="6"/>
                  </a:moveTo>
                  <a:lnTo>
                    <a:pt x="37" y="0"/>
                  </a:lnTo>
                  <a:lnTo>
                    <a:pt x="37" y="143"/>
                  </a:lnTo>
                  <a:lnTo>
                    <a:pt x="0" y="1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0a0a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860640" y="1941480"/>
              <a:ext cx="196920" cy="2343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862440" y="2203200"/>
              <a:ext cx="198360" cy="18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89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6821640" y="1700280"/>
            <a:ext cx="636480" cy="1271520"/>
            <a:chOff x="6821640" y="1700280"/>
            <a:chExt cx="636480" cy="1271520"/>
          </a:xfrm>
        </p:grpSpPr>
        <p:sp>
          <p:nvSpPr>
            <p:cNvPr id="1518" name=""/>
            <p:cNvSpPr/>
            <p:nvPr/>
          </p:nvSpPr>
          <p:spPr>
            <a:xfrm>
              <a:off x="7326360" y="1706400"/>
              <a:ext cx="131760" cy="1265040"/>
            </a:xfrm>
            <a:custGeom>
              <a:avLst/>
              <a:gdLst/>
              <a:ahLst/>
              <a:rect l="l" t="t" r="r" b="b"/>
              <a:pathLst>
                <a:path w="83" h="797">
                  <a:moveTo>
                    <a:pt x="0" y="797"/>
                  </a:moveTo>
                  <a:lnTo>
                    <a:pt x="83" y="680"/>
                  </a:lnTo>
                  <a:lnTo>
                    <a:pt x="83" y="6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000920" y="1700280"/>
              <a:ext cx="325440" cy="127152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066080" y="2857320"/>
              <a:ext cx="242640" cy="61560"/>
            </a:xfrm>
            <a:prstGeom prst="rect">
              <a:avLst/>
            </a:prstGeom>
            <a:gradFill rotWithShape="0">
              <a:gsLst>
                <a:gs pos="0">
                  <a:srgbClr val="280078"/>
                </a:gs>
                <a:gs pos="100000">
                  <a:srgbClr val="d2d2d2"/>
                </a:gs>
              </a:gsLst>
              <a:lin ang="5400000"/>
            </a:gra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219800" y="2859120"/>
              <a:ext cx="88920" cy="5976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7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38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066080" y="2859120"/>
              <a:ext cx="12600" cy="5832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0" y="0"/>
                  </a:moveTo>
                  <a:lnTo>
                    <a:pt x="8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7066080" y="1714320"/>
              <a:ext cx="242640" cy="11444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7062840" y="1768320"/>
              <a:ext cx="1299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821640" y="1714320"/>
              <a:ext cx="182520" cy="1257120"/>
            </a:xfrm>
            <a:custGeom>
              <a:avLst/>
              <a:gdLst/>
              <a:ahLst/>
              <a:rect l="l" t="t" r="r" b="b"/>
              <a:pathLst>
                <a:path w="115" h="792">
                  <a:moveTo>
                    <a:pt x="59" y="792"/>
                  </a:moveTo>
                  <a:lnTo>
                    <a:pt x="0" y="772"/>
                  </a:lnTo>
                  <a:lnTo>
                    <a:pt x="0" y="14"/>
                  </a:lnTo>
                  <a:lnTo>
                    <a:pt x="54" y="7"/>
                  </a:lnTo>
                  <a:lnTo>
                    <a:pt x="115" y="0"/>
                  </a:lnTo>
                  <a:lnTo>
                    <a:pt x="113" y="782"/>
                  </a:lnTo>
                  <a:lnTo>
                    <a:pt x="115" y="782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972480" y="1731960"/>
              <a:ext cx="34920" cy="1207440"/>
            </a:xfrm>
            <a:custGeom>
              <a:avLst/>
              <a:gdLst/>
              <a:ahLst/>
              <a:rect l="l" t="t" r="r" b="b"/>
              <a:pathLst>
                <a:path w="22" h="761">
                  <a:moveTo>
                    <a:pt x="0" y="5"/>
                  </a:moveTo>
                  <a:lnTo>
                    <a:pt x="0" y="752"/>
                  </a:lnTo>
                  <a:lnTo>
                    <a:pt x="22" y="761"/>
                  </a:lnTo>
                  <a:lnTo>
                    <a:pt x="22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464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831000" y="1736640"/>
              <a:ext cx="74520" cy="1217160"/>
            </a:xfrm>
            <a:custGeom>
              <a:avLst/>
              <a:gdLst/>
              <a:ahLst/>
              <a:rect l="l" t="t" r="r" b="b"/>
              <a:pathLst>
                <a:path w="47" h="767">
                  <a:moveTo>
                    <a:pt x="47" y="0"/>
                  </a:moveTo>
                  <a:lnTo>
                    <a:pt x="47" y="767"/>
                  </a:lnTo>
                  <a:lnTo>
                    <a:pt x="0" y="749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927840" y="1731960"/>
              <a:ext cx="30240" cy="1221840"/>
            </a:xfrm>
            <a:custGeom>
              <a:avLst/>
              <a:gdLst/>
              <a:ahLst/>
              <a:rect l="l" t="t" r="r" b="b"/>
              <a:pathLst>
                <a:path w="19" h="770">
                  <a:moveTo>
                    <a:pt x="19" y="0"/>
                  </a:moveTo>
                  <a:lnTo>
                    <a:pt x="19" y="763"/>
                  </a:lnTo>
                  <a:lnTo>
                    <a:pt x="0" y="77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280078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5645160" y="1703520"/>
            <a:ext cx="677880" cy="1257120"/>
            <a:chOff x="5645160" y="1703520"/>
            <a:chExt cx="677880" cy="1257120"/>
          </a:xfrm>
        </p:grpSpPr>
        <p:sp>
          <p:nvSpPr>
            <p:cNvPr id="1530" name=""/>
            <p:cNvSpPr/>
            <p:nvPr/>
          </p:nvSpPr>
          <p:spPr>
            <a:xfrm>
              <a:off x="6232680" y="1703520"/>
              <a:ext cx="90360" cy="1253880"/>
            </a:xfrm>
            <a:custGeom>
              <a:avLst/>
              <a:gdLst/>
              <a:ahLst/>
              <a:rect l="l" t="t" r="r" b="b"/>
              <a:pathLst>
                <a:path w="57" h="790">
                  <a:moveTo>
                    <a:pt x="0" y="790"/>
                  </a:moveTo>
                  <a:lnTo>
                    <a:pt x="57" y="674"/>
                  </a:lnTo>
                  <a:lnTo>
                    <a:pt x="57" y="6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938920" y="1703520"/>
              <a:ext cx="296640" cy="1257120"/>
            </a:xfrm>
            <a:prstGeom prst="rect">
              <a:avLst/>
            </a:prstGeom>
            <a:solidFill>
              <a:srgbClr val="464646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923080" y="1706400"/>
              <a:ext cx="15840" cy="1252080"/>
            </a:xfrm>
            <a:custGeom>
              <a:avLst/>
              <a:gdLst/>
              <a:ahLst/>
              <a:rect l="l" t="t" r="r" b="b"/>
              <a:pathLst>
                <a:path w="10" h="789">
                  <a:moveTo>
                    <a:pt x="0" y="7"/>
                  </a:moveTo>
                  <a:lnTo>
                    <a:pt x="0" y="785"/>
                  </a:lnTo>
                  <a:lnTo>
                    <a:pt x="10" y="789"/>
                  </a:lnTo>
                  <a:lnTo>
                    <a:pt x="10" y="2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788080" y="1703520"/>
              <a:ext cx="155520" cy="1253880"/>
            </a:xfrm>
            <a:custGeom>
              <a:avLst/>
              <a:gdLst/>
              <a:ahLst/>
              <a:rect l="l" t="t" r="r" b="b"/>
              <a:pathLst>
                <a:path w="98" h="790">
                  <a:moveTo>
                    <a:pt x="0" y="789"/>
                  </a:moveTo>
                  <a:lnTo>
                    <a:pt x="6" y="580"/>
                  </a:lnTo>
                  <a:lnTo>
                    <a:pt x="6" y="229"/>
                  </a:lnTo>
                  <a:lnTo>
                    <a:pt x="60" y="191"/>
                  </a:lnTo>
                  <a:lnTo>
                    <a:pt x="60" y="0"/>
                  </a:lnTo>
                  <a:lnTo>
                    <a:pt x="98" y="4"/>
                  </a:lnTo>
                  <a:lnTo>
                    <a:pt x="95" y="790"/>
                  </a:lnTo>
                  <a:lnTo>
                    <a:pt x="98" y="790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899320" y="1730160"/>
              <a:ext cx="56880" cy="1209240"/>
            </a:xfrm>
            <a:custGeom>
              <a:avLst/>
              <a:gdLst/>
              <a:ahLst/>
              <a:rect l="l" t="t" r="r" b="b"/>
              <a:pathLst>
                <a:path w="36" h="762">
                  <a:moveTo>
                    <a:pt x="0" y="0"/>
                  </a:moveTo>
                  <a:lnTo>
                    <a:pt x="0" y="759"/>
                  </a:lnTo>
                  <a:lnTo>
                    <a:pt x="36" y="762"/>
                  </a:lnTo>
                  <a:lnTo>
                    <a:pt x="36" y="0"/>
                  </a:lnTo>
                  <a:lnTo>
                    <a:pt x="32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ffad2c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645160" y="1714320"/>
              <a:ext cx="130320" cy="4870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5802480" y="2031840"/>
              <a:ext cx="80640" cy="902880"/>
            </a:xfrm>
            <a:custGeom>
              <a:avLst/>
              <a:gdLst/>
              <a:ahLst/>
              <a:rect l="l" t="t" r="r" b="b"/>
              <a:pathLst>
                <a:path w="51" h="569">
                  <a:moveTo>
                    <a:pt x="6" y="568"/>
                  </a:moveTo>
                  <a:lnTo>
                    <a:pt x="51" y="564"/>
                  </a:lnTo>
                  <a:lnTo>
                    <a:pt x="51" y="0"/>
                  </a:lnTo>
                  <a:lnTo>
                    <a:pt x="0" y="25"/>
                  </a:lnTo>
                  <a:lnTo>
                    <a:pt x="0" y="569"/>
                  </a:lnTo>
                  <a:lnTo>
                    <a:pt x="3" y="569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645160" y="2193840"/>
              <a:ext cx="195120" cy="763200"/>
            </a:xfrm>
            <a:custGeom>
              <a:avLst/>
              <a:gdLst/>
              <a:ahLst/>
              <a:rect l="l" t="t" r="r" b="b"/>
              <a:pathLst>
                <a:path w="123" h="481">
                  <a:moveTo>
                    <a:pt x="0" y="476"/>
                  </a:moveTo>
                  <a:lnTo>
                    <a:pt x="0" y="0"/>
                  </a:lnTo>
                  <a:lnTo>
                    <a:pt x="119" y="0"/>
                  </a:lnTo>
                  <a:lnTo>
                    <a:pt x="119" y="481"/>
                  </a:lnTo>
                  <a:lnTo>
                    <a:pt x="123" y="481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746680" y="1703520"/>
              <a:ext cx="136440" cy="450720"/>
            </a:xfrm>
            <a:custGeom>
              <a:avLst/>
              <a:gdLst/>
              <a:ahLst/>
              <a:rect l="l" t="t" r="r" b="b"/>
              <a:pathLst>
                <a:path w="86" h="284">
                  <a:moveTo>
                    <a:pt x="0" y="8"/>
                  </a:moveTo>
                  <a:lnTo>
                    <a:pt x="86" y="0"/>
                  </a:lnTo>
                  <a:lnTo>
                    <a:pt x="86" y="284"/>
                  </a:lnTo>
                  <a:lnTo>
                    <a:pt x="0" y="284"/>
                  </a:lnTo>
                  <a:close/>
                </a:path>
              </a:pathLst>
            </a:custGeom>
            <a:gradFill rotWithShape="0">
              <a:gsLst>
                <a:gs pos="0">
                  <a:srgbClr val="6e6e6e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977080" y="1733400"/>
              <a:ext cx="228600" cy="11934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035760" y="1771560"/>
              <a:ext cx="114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5645160" y="2154240"/>
              <a:ext cx="231840" cy="40680"/>
            </a:xfrm>
            <a:custGeom>
              <a:avLst/>
              <a:gdLst/>
              <a:ahLst/>
              <a:rect l="l" t="t" r="r" b="b"/>
              <a:pathLst>
                <a:path w="146" h="26">
                  <a:moveTo>
                    <a:pt x="65" y="0"/>
                  </a:moveTo>
                  <a:lnTo>
                    <a:pt x="146" y="0"/>
                  </a:lnTo>
                  <a:lnTo>
                    <a:pt x="119" y="26"/>
                  </a:lnTo>
                  <a:lnTo>
                    <a:pt x="5" y="26"/>
                  </a:lnTo>
                  <a:lnTo>
                    <a:pt x="0" y="26"/>
                  </a:lnTo>
                  <a:close/>
                </a:path>
              </a:pathLst>
            </a:custGeom>
            <a:gradFill rotWithShape="0">
              <a:gsLst>
                <a:gs pos="0">
                  <a:srgbClr val="a0a0a0"/>
                </a:gs>
                <a:gs pos="50000">
                  <a:srgbClr val="464646"/>
                </a:gs>
                <a:gs pos="100000">
                  <a:srgbClr val="a0a0a0"/>
                </a:gs>
              </a:gsLst>
              <a:lin ang="81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678640" y="2076480"/>
              <a:ext cx="41040" cy="64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5667480" y="2260440"/>
              <a:ext cx="21960" cy="410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5854680" y="2181240"/>
              <a:ext cx="15840" cy="763200"/>
            </a:xfrm>
            <a:custGeom>
              <a:avLst/>
              <a:gdLst/>
              <a:ahLst/>
              <a:rect l="l" t="t" r="r" b="b"/>
              <a:pathLst>
                <a:path w="10" h="481">
                  <a:moveTo>
                    <a:pt x="10" y="0"/>
                  </a:moveTo>
                  <a:lnTo>
                    <a:pt x="10" y="472"/>
                  </a:lnTo>
                  <a:lnTo>
                    <a:pt x="0" y="481"/>
                  </a:lnTo>
                  <a:lnTo>
                    <a:pt x="0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5" name=""/>
          <p:cNvSpPr/>
          <p:nvPr/>
        </p:nvSpPr>
        <p:spPr>
          <a:xfrm>
            <a:off x="2971800" y="1523880"/>
            <a:ext cx="4724280" cy="160020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 rot="5400000">
            <a:off x="2107800" y="2044440"/>
            <a:ext cx="8384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1447920" y="3505320"/>
            <a:ext cx="6172200" cy="2590560"/>
          </a:xfrm>
          <a:prstGeom prst="wedgeRectCallout">
            <a:avLst>
              <a:gd name="adj1" fmla="val 24486"/>
              <a:gd name="adj2" fmla="val -82902"/>
            </a:avLst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1676520" y="3581280"/>
            <a:ext cx="1523880" cy="99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tmp &gt; 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1523880" y="5029200"/>
            <a:ext cx="1828800" cy="99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arm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log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3886200" y="3581280"/>
            <a:ext cx="990720" cy="9907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3886200" y="5029200"/>
            <a:ext cx="990720" cy="990720"/>
          </a:xfrm>
          <a:prstGeom prst="ellipse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5681520" y="3581280"/>
            <a:ext cx="1676520" cy="99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op log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m /tmp/*.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5715000" y="5029200"/>
            <a:ext cx="1600200" cy="99072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earm Con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tmp &lt; 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4" name=""/>
          <p:cNvCxnSpPr>
            <a:stCxn id="1548" idx="3"/>
            <a:endCxn id="1550" idx="2"/>
          </p:cNvCxnSpPr>
          <p:nvPr/>
        </p:nvCxnSpPr>
        <p:spPr>
          <a:xfrm>
            <a:off x="3200040" y="4076280"/>
            <a:ext cx="6865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55" name=""/>
          <p:cNvCxnSpPr>
            <a:stCxn id="1550" idx="6"/>
            <a:endCxn id="1552" idx="1"/>
          </p:cNvCxnSpPr>
          <p:nvPr/>
        </p:nvCxnSpPr>
        <p:spPr>
          <a:xfrm>
            <a:off x="4876560" y="4076280"/>
            <a:ext cx="8053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56" name=""/>
          <p:cNvCxnSpPr>
            <a:stCxn id="1551" idx="2"/>
            <a:endCxn id="1549" idx="3"/>
          </p:cNvCxnSpPr>
          <p:nvPr/>
        </p:nvCxnSpPr>
        <p:spPr>
          <a:xfrm flipH="1">
            <a:off x="3352320" y="5524200"/>
            <a:ext cx="5342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1557" name=""/>
          <p:cNvCxnSpPr>
            <a:stCxn id="1553" idx="1"/>
            <a:endCxn id="1551" idx="6"/>
          </p:cNvCxnSpPr>
          <p:nvPr/>
        </p:nvCxnSpPr>
        <p:spPr>
          <a:xfrm flipH="1">
            <a:off x="4876560" y="5524200"/>
            <a:ext cx="8388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</p:cxnSp>
      <p:pic>
        <p:nvPicPr>
          <p:cNvPr id="1558" name="" descr=""/>
          <p:cNvPicPr/>
          <p:nvPr/>
        </p:nvPicPr>
        <p:blipFill>
          <a:blip r:embed="rId7"/>
          <a:stretch/>
        </p:blipFill>
        <p:spPr>
          <a:xfrm>
            <a:off x="419040" y="1708200"/>
            <a:ext cx="1701720" cy="130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64CDA-8B1C-480E-B105-E0D441D783E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Backup and Resto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Backs up all CSM data and saves it for a rainy 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ydian"/>
              </a:rPr>
              <a:t>recommended prior to a management server upgr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ydian"/>
              </a:rPr>
              <a:t>good idea to do routinely ‘just in case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Restore CSM to a previous, known, working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Command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7889fb"/>
                </a:solidFill>
                <a:latin typeface="Arial"/>
              </a:rPr>
              <a:t>csmbackup, csmresto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2AF4F-4655-43F0-A08F-0887140E6A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06000" y="3048120"/>
            <a:ext cx="8837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ydian"/>
              </a:rPr>
              <a:t>CSM</a:t>
            </a:r>
            <a:r>
              <a:rPr b="1" lang="en-US" sz="3200" spc="-1" strike="noStrike">
                <a:solidFill>
                  <a:srgbClr val="7889fb"/>
                </a:solidFill>
                <a:latin typeface="Lydi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Lydian"/>
              </a:rPr>
              <a:t>Overview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BABE-B5C1-4EF7-8A89-755C4B206A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Diagnostic Prob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Run probes to do a “health check” of your clu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System is checked out from the bottom up, much like an experienced administrator woul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Current probes include network connectivity, NFS health, CSM daemon status, node install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Extend with custom probes to check out your own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Command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7889fb"/>
                </a:solidFill>
                <a:latin typeface="Arial"/>
              </a:rPr>
              <a:t>probemg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03058-6F93-4E0D-ACDE-41CDBEE3F2F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Securi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RSCT &amp; monitoring security based on public/private key configur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(Public keys exchanged automatically between management server and nodes during node install/updat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Command execution - dsh, cfmupdatenode, smsupdatenode, etc. - security based on ssh, rsh, or kerberos (ssh is automatically set up as default between management server and nodes during node install/update; rsh or kerberos can be configured instead if desir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ssh/rsh access between nodes can optionally be set 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Managed nodes do not have access to resources on management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07CC9-C574-4F6E-9BB0-FD9F3E122C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High Availability Management Server (optional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Define a backup management server in the clu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Failover to backup in event of err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00000"/>
              </a:lnSpc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ydian"/>
              </a:rPr>
              <a:t>Operating system crash, power failure, network adapter failure, failure of any CSM/RSCT daem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7" name="" descr=""/>
          <p:cNvPicPr/>
          <p:nvPr/>
        </p:nvPicPr>
        <p:blipFill>
          <a:blip r:embed="rId1"/>
          <a:stretch/>
        </p:blipFill>
        <p:spPr>
          <a:xfrm>
            <a:off x="1143000" y="3733920"/>
            <a:ext cx="838080" cy="588960"/>
          </a:xfrm>
          <a:prstGeom prst="rect">
            <a:avLst/>
          </a:prstGeom>
          <a:ln w="0">
            <a:noFill/>
          </a:ln>
        </p:spPr>
      </p:pic>
      <p:pic>
        <p:nvPicPr>
          <p:cNvPr id="1568" name="" descr=""/>
          <p:cNvPicPr/>
          <p:nvPr/>
        </p:nvPicPr>
        <p:blipFill>
          <a:blip r:embed="rId2"/>
          <a:stretch/>
        </p:blipFill>
        <p:spPr>
          <a:xfrm>
            <a:off x="1066680" y="5257800"/>
            <a:ext cx="990720" cy="609480"/>
          </a:xfrm>
          <a:prstGeom prst="rect">
            <a:avLst/>
          </a:prstGeom>
          <a:ln w="0">
            <a:noFill/>
          </a:ln>
        </p:spPr>
      </p:pic>
      <p:sp>
        <p:nvSpPr>
          <p:cNvPr id="1569" name=""/>
          <p:cNvSpPr/>
          <p:nvPr/>
        </p:nvSpPr>
        <p:spPr>
          <a:xfrm>
            <a:off x="685800" y="4419720"/>
            <a:ext cx="380880" cy="68580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0" name=""/>
          <p:cNvCxnSpPr>
            <a:stCxn id="1569" idx="3"/>
            <a:endCxn id="1568" idx="1"/>
          </p:cNvCxnSpPr>
          <p:nvPr/>
        </p:nvCxnSpPr>
        <p:spPr>
          <a:xfrm flipH="1" rot="16200000">
            <a:off x="741960" y="5238720"/>
            <a:ext cx="457920" cy="191160"/>
          </a:xfrm>
          <a:prstGeom prst="bentConnector2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1571" name=""/>
          <p:cNvCxnSpPr>
            <a:stCxn id="1569" idx="1"/>
            <a:endCxn id="1567" idx="1"/>
          </p:cNvCxnSpPr>
          <p:nvPr/>
        </p:nvCxnSpPr>
        <p:spPr>
          <a:xfrm flipH="1" flipV="1" rot="5400000">
            <a:off x="813600" y="4090680"/>
            <a:ext cx="391320" cy="267120"/>
          </a:xfrm>
          <a:prstGeom prst="bentConnector2">
            <a:avLst/>
          </a:prstGeom>
          <a:ln w="31680">
            <a:solidFill>
              <a:srgbClr val="000000"/>
            </a:solidFill>
            <a:miter/>
          </a:ln>
        </p:spPr>
      </p:cxnSp>
      <p:sp>
        <p:nvSpPr>
          <p:cNvPr id="1572" name=""/>
          <p:cNvSpPr/>
          <p:nvPr/>
        </p:nvSpPr>
        <p:spPr>
          <a:xfrm>
            <a:off x="457200" y="3657600"/>
            <a:ext cx="1828800" cy="22860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86000"/>
              <a:gd name="textAreaBottom" fmla="*/ 2196720 h 2286000"/>
            </a:gdLst>
            <a:ahLst/>
            <a:rect l="textAreaLeft" t="textAreaTop" r="textAreaRight" b="textAreaBottom"/>
            <a:pathLst>
              <a:path w="21600" h="26999">
                <a:moveTo>
                  <a:pt x="3600" y="0"/>
                </a:moveTo>
                <a:arcTo wR="3600" hR="3600" stAng="16200000" swAng="-5400000"/>
                <a:lnTo>
                  <a:pt x="0" y="23399"/>
                </a:lnTo>
                <a:arcTo wR="3600" hR="3600" stAng="10800000" swAng="-5400000"/>
                <a:lnTo>
                  <a:pt x="18000" y="26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4975200" y="4162320"/>
            <a:ext cx="636480" cy="1270080"/>
            <a:chOff x="4975200" y="4162320"/>
            <a:chExt cx="636480" cy="1270080"/>
          </a:xfrm>
        </p:grpSpPr>
        <p:sp>
          <p:nvSpPr>
            <p:cNvPr id="1574" name=""/>
            <p:cNvSpPr/>
            <p:nvPr/>
          </p:nvSpPr>
          <p:spPr>
            <a:xfrm>
              <a:off x="5479920" y="4167360"/>
              <a:ext cx="131760" cy="1265040"/>
            </a:xfrm>
            <a:custGeom>
              <a:avLst/>
              <a:gdLst/>
              <a:ahLst/>
              <a:rect l="l" t="t" r="r" b="b"/>
              <a:pathLst>
                <a:path w="83" h="797">
                  <a:moveTo>
                    <a:pt x="0" y="797"/>
                  </a:moveTo>
                  <a:lnTo>
                    <a:pt x="83" y="681"/>
                  </a:lnTo>
                  <a:lnTo>
                    <a:pt x="83" y="6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153040" y="4162320"/>
              <a:ext cx="326880" cy="127008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219640" y="5318280"/>
              <a:ext cx="244440" cy="66600"/>
            </a:xfrm>
            <a:prstGeom prst="rect">
              <a:avLst/>
            </a:prstGeom>
            <a:gradFill rotWithShape="0">
              <a:gsLst>
                <a:gs pos="0">
                  <a:srgbClr val="280078"/>
                </a:gs>
                <a:gs pos="100000">
                  <a:srgbClr val="d2d2d2"/>
                </a:gs>
              </a:gsLst>
              <a:lin ang="5400000"/>
            </a:gra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375160" y="5319720"/>
              <a:ext cx="88920" cy="65160"/>
            </a:xfrm>
            <a:custGeom>
              <a:avLst/>
              <a:gdLst/>
              <a:ahLst/>
              <a:rect l="l" t="t" r="r" b="b"/>
              <a:pathLst>
                <a:path w="56" h="41">
                  <a:moveTo>
                    <a:pt x="54" y="38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41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219640" y="5319720"/>
              <a:ext cx="12600" cy="60480"/>
            </a:xfrm>
            <a:custGeom>
              <a:avLst/>
              <a:gdLst/>
              <a:ahLst/>
              <a:rect l="l" t="t" r="r" b="b"/>
              <a:pathLst>
                <a:path w="8" h="38">
                  <a:moveTo>
                    <a:pt x="0" y="0"/>
                  </a:moveTo>
                  <a:lnTo>
                    <a:pt x="8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219640" y="4176720"/>
              <a:ext cx="244440" cy="1143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216400" y="4229280"/>
              <a:ext cx="1303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975200" y="4176720"/>
              <a:ext cx="182520" cy="1255680"/>
            </a:xfrm>
            <a:custGeom>
              <a:avLst/>
              <a:gdLst/>
              <a:ahLst/>
              <a:rect l="l" t="t" r="r" b="b"/>
              <a:pathLst>
                <a:path w="115" h="791">
                  <a:moveTo>
                    <a:pt x="59" y="791"/>
                  </a:moveTo>
                  <a:lnTo>
                    <a:pt x="0" y="770"/>
                  </a:lnTo>
                  <a:lnTo>
                    <a:pt x="0" y="13"/>
                  </a:lnTo>
                  <a:lnTo>
                    <a:pt x="55" y="8"/>
                  </a:lnTo>
                  <a:lnTo>
                    <a:pt x="115" y="0"/>
                  </a:lnTo>
                  <a:lnTo>
                    <a:pt x="112" y="783"/>
                  </a:lnTo>
                  <a:lnTo>
                    <a:pt x="115" y="783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126040" y="4192560"/>
              <a:ext cx="33120" cy="1206720"/>
            </a:xfrm>
            <a:custGeom>
              <a:avLst/>
              <a:gdLst/>
              <a:ahLst/>
              <a:rect l="l" t="t" r="r" b="b"/>
              <a:pathLst>
                <a:path w="21" h="760">
                  <a:moveTo>
                    <a:pt x="0" y="7"/>
                  </a:moveTo>
                  <a:lnTo>
                    <a:pt x="0" y="753"/>
                  </a:lnTo>
                  <a:lnTo>
                    <a:pt x="21" y="76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464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984560" y="4197240"/>
              <a:ext cx="73080" cy="1217880"/>
            </a:xfrm>
            <a:custGeom>
              <a:avLst/>
              <a:gdLst/>
              <a:ahLst/>
              <a:rect l="l" t="t" r="r" b="b"/>
              <a:pathLst>
                <a:path w="46" h="767">
                  <a:moveTo>
                    <a:pt x="46" y="0"/>
                  </a:moveTo>
                  <a:lnTo>
                    <a:pt x="46" y="767"/>
                  </a:lnTo>
                  <a:lnTo>
                    <a:pt x="0" y="750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081400" y="4192560"/>
              <a:ext cx="30240" cy="1222560"/>
            </a:xfrm>
            <a:custGeom>
              <a:avLst/>
              <a:gdLst/>
              <a:ahLst/>
              <a:rect l="l" t="t" r="r" b="b"/>
              <a:pathLst>
                <a:path w="19" h="770">
                  <a:moveTo>
                    <a:pt x="19" y="0"/>
                  </a:moveTo>
                  <a:lnTo>
                    <a:pt x="19" y="764"/>
                  </a:lnTo>
                  <a:lnTo>
                    <a:pt x="0" y="77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280078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5" name=""/>
          <p:cNvGrpSpPr/>
          <p:nvPr/>
        </p:nvGrpSpPr>
        <p:grpSpPr>
          <a:xfrm>
            <a:off x="3657600" y="4267080"/>
            <a:ext cx="907920" cy="1098720"/>
            <a:chOff x="3657600" y="4267080"/>
            <a:chExt cx="907920" cy="1098720"/>
          </a:xfrm>
        </p:grpSpPr>
        <p:sp>
          <p:nvSpPr>
            <p:cNvPr id="1586" name=""/>
            <p:cNvSpPr/>
            <p:nvPr/>
          </p:nvSpPr>
          <p:spPr>
            <a:xfrm>
              <a:off x="4425840" y="4876920"/>
              <a:ext cx="1126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041720" y="4267080"/>
              <a:ext cx="101520" cy="1092240"/>
            </a:xfrm>
            <a:custGeom>
              <a:avLst/>
              <a:gdLst/>
              <a:ahLst/>
              <a:rect l="l" t="t" r="r" b="b"/>
              <a:pathLst>
                <a:path w="64" h="688">
                  <a:moveTo>
                    <a:pt x="0" y="688"/>
                  </a:moveTo>
                  <a:lnTo>
                    <a:pt x="64" y="591"/>
                  </a:lnTo>
                  <a:lnTo>
                    <a:pt x="64" y="5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797280" y="4267080"/>
              <a:ext cx="244440" cy="109872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827520" y="4291200"/>
              <a:ext cx="187200" cy="10429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660480" y="4272120"/>
              <a:ext cx="136800" cy="1093680"/>
            </a:xfrm>
            <a:custGeom>
              <a:avLst/>
              <a:gdLst/>
              <a:ahLst/>
              <a:rect l="l" t="t" r="r" b="b"/>
              <a:pathLst>
                <a:path w="86" h="689">
                  <a:moveTo>
                    <a:pt x="45" y="689"/>
                  </a:moveTo>
                  <a:lnTo>
                    <a:pt x="0" y="666"/>
                  </a:lnTo>
                  <a:lnTo>
                    <a:pt x="0" y="14"/>
                  </a:lnTo>
                  <a:lnTo>
                    <a:pt x="42" y="8"/>
                  </a:lnTo>
                  <a:lnTo>
                    <a:pt x="86" y="0"/>
                  </a:lnTo>
                  <a:lnTo>
                    <a:pt x="86" y="681"/>
                  </a:lnTo>
                  <a:lnTo>
                    <a:pt x="86" y="681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773520" y="4291200"/>
              <a:ext cx="23760" cy="1037880"/>
            </a:xfrm>
            <a:custGeom>
              <a:avLst/>
              <a:gdLst/>
              <a:ahLst/>
              <a:rect l="l" t="t" r="r" b="b"/>
              <a:pathLst>
                <a:path w="15" h="654">
                  <a:moveTo>
                    <a:pt x="0" y="3"/>
                  </a:moveTo>
                  <a:lnTo>
                    <a:pt x="0" y="653"/>
                  </a:lnTo>
                  <a:lnTo>
                    <a:pt x="15" y="65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3670200" y="4294080"/>
              <a:ext cx="52200" cy="1057320"/>
            </a:xfrm>
            <a:custGeom>
              <a:avLst/>
              <a:gdLst/>
              <a:ahLst/>
              <a:rect l="l" t="t" r="r" b="b"/>
              <a:pathLst>
                <a:path w="33" h="666">
                  <a:moveTo>
                    <a:pt x="33" y="0"/>
                  </a:moveTo>
                  <a:lnTo>
                    <a:pt x="33" y="666"/>
                  </a:lnTo>
                  <a:lnTo>
                    <a:pt x="0" y="651"/>
                  </a:lnTo>
                  <a:lnTo>
                    <a:pt x="0" y="5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736800" y="4291200"/>
              <a:ext cx="20520" cy="1054080"/>
            </a:xfrm>
            <a:custGeom>
              <a:avLst/>
              <a:gdLst/>
              <a:ahLst/>
              <a:rect l="l" t="t" r="r" b="b"/>
              <a:pathLst>
                <a:path w="13" h="664">
                  <a:moveTo>
                    <a:pt x="13" y="0"/>
                  </a:moveTo>
                  <a:lnTo>
                    <a:pt x="13" y="661"/>
                  </a:lnTo>
                  <a:lnTo>
                    <a:pt x="2" y="664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3657600" y="4294080"/>
              <a:ext cx="1159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047840" y="4422960"/>
              <a:ext cx="69840" cy="269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464646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464000" y="4408560"/>
              <a:ext cx="101520" cy="950760"/>
            </a:xfrm>
            <a:custGeom>
              <a:avLst/>
              <a:gdLst/>
              <a:ahLst/>
              <a:rect l="l" t="t" r="r" b="b"/>
              <a:pathLst>
                <a:path w="64" h="599">
                  <a:moveTo>
                    <a:pt x="0" y="599"/>
                  </a:moveTo>
                  <a:lnTo>
                    <a:pt x="64" y="511"/>
                  </a:lnTo>
                  <a:lnTo>
                    <a:pt x="64" y="49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4217760" y="4408560"/>
              <a:ext cx="246240" cy="9507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241520" y="4889520"/>
              <a:ext cx="196920" cy="450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200480" y="4408560"/>
              <a:ext cx="17280" cy="950760"/>
            </a:xfrm>
            <a:custGeom>
              <a:avLst/>
              <a:gdLst/>
              <a:ahLst/>
              <a:rect l="l" t="t" r="r" b="b"/>
              <a:pathLst>
                <a:path w="11" h="599">
                  <a:moveTo>
                    <a:pt x="0" y="7"/>
                  </a:moveTo>
                  <a:lnTo>
                    <a:pt x="0" y="594"/>
                  </a:lnTo>
                  <a:lnTo>
                    <a:pt x="11" y="599"/>
                  </a:lnTo>
                  <a:lnTo>
                    <a:pt x="11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122720" y="4413240"/>
              <a:ext cx="77760" cy="946080"/>
            </a:xfrm>
            <a:custGeom>
              <a:avLst/>
              <a:gdLst/>
              <a:ahLst/>
              <a:rect l="l" t="t" r="r" b="b"/>
              <a:pathLst>
                <a:path w="49" h="596">
                  <a:moveTo>
                    <a:pt x="0" y="596"/>
                  </a:moveTo>
                  <a:lnTo>
                    <a:pt x="0" y="432"/>
                  </a:lnTo>
                  <a:lnTo>
                    <a:pt x="0" y="172"/>
                  </a:lnTo>
                  <a:lnTo>
                    <a:pt x="34" y="142"/>
                  </a:lnTo>
                  <a:lnTo>
                    <a:pt x="34" y="0"/>
                  </a:lnTo>
                  <a:lnTo>
                    <a:pt x="49" y="4"/>
                  </a:lnTo>
                  <a:lnTo>
                    <a:pt x="49" y="591"/>
                  </a:lnTo>
                  <a:lnTo>
                    <a:pt x="49" y="591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192560" y="4424400"/>
              <a:ext cx="25200" cy="915840"/>
            </a:xfrm>
            <a:custGeom>
              <a:avLst/>
              <a:gdLst/>
              <a:ahLst/>
              <a:rect l="l" t="t" r="r" b="b"/>
              <a:pathLst>
                <a:path w="16" h="577">
                  <a:moveTo>
                    <a:pt x="0" y="5"/>
                  </a:moveTo>
                  <a:lnTo>
                    <a:pt x="0" y="573"/>
                  </a:lnTo>
                  <a:lnTo>
                    <a:pt x="16" y="57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db7d00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146480" y="4659480"/>
              <a:ext cx="30240" cy="680760"/>
            </a:xfrm>
            <a:custGeom>
              <a:avLst/>
              <a:gdLst/>
              <a:ahLst/>
              <a:rect l="l" t="t" r="r" b="b"/>
              <a:pathLst>
                <a:path w="19" h="429">
                  <a:moveTo>
                    <a:pt x="1" y="425"/>
                  </a:moveTo>
                  <a:lnTo>
                    <a:pt x="19" y="422"/>
                  </a:lnTo>
                  <a:lnTo>
                    <a:pt x="19" y="0"/>
                  </a:lnTo>
                  <a:lnTo>
                    <a:pt x="0" y="19"/>
                  </a:lnTo>
                  <a:lnTo>
                    <a:pt x="0" y="429"/>
                  </a:lnTo>
                  <a:lnTo>
                    <a:pt x="1" y="426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047840" y="4689360"/>
              <a:ext cx="84240" cy="669960"/>
            </a:xfrm>
            <a:custGeom>
              <a:avLst/>
              <a:gdLst/>
              <a:ahLst/>
              <a:rect l="l" t="t" r="r" b="b"/>
              <a:pathLst>
                <a:path w="53" h="422">
                  <a:moveTo>
                    <a:pt x="0" y="417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422"/>
                  </a:lnTo>
                  <a:lnTo>
                    <a:pt x="53" y="422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047840" y="4640400"/>
              <a:ext cx="128880" cy="4896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53" y="31"/>
                  </a:moveTo>
                  <a:lnTo>
                    <a:pt x="0" y="31"/>
                  </a:lnTo>
                  <a:lnTo>
                    <a:pt x="44" y="0"/>
                  </a:lnTo>
                  <a:lnTo>
                    <a:pt x="81" y="0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50000">
                  <a:srgbClr val="808080"/>
                </a:gs>
                <a:gs pos="100000">
                  <a:srgbClr val="d2d2d2"/>
                </a:gs>
              </a:gsLst>
              <a:lin ang="81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4117680" y="4413240"/>
              <a:ext cx="59040" cy="227160"/>
            </a:xfrm>
            <a:custGeom>
              <a:avLst/>
              <a:gdLst/>
              <a:ahLst/>
              <a:rect l="l" t="t" r="r" b="b"/>
              <a:pathLst>
                <a:path w="37" h="143">
                  <a:moveTo>
                    <a:pt x="0" y="6"/>
                  </a:moveTo>
                  <a:lnTo>
                    <a:pt x="37" y="0"/>
                  </a:lnTo>
                  <a:lnTo>
                    <a:pt x="37" y="143"/>
                  </a:lnTo>
                  <a:lnTo>
                    <a:pt x="0" y="1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0a0a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241520" y="4427640"/>
              <a:ext cx="196920" cy="2347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243320" y="4689360"/>
              <a:ext cx="198360" cy="181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89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7202520" y="4186080"/>
            <a:ext cx="636480" cy="1271880"/>
            <a:chOff x="7202520" y="4186080"/>
            <a:chExt cx="636480" cy="1271880"/>
          </a:xfrm>
        </p:grpSpPr>
        <p:sp>
          <p:nvSpPr>
            <p:cNvPr id="1609" name=""/>
            <p:cNvSpPr/>
            <p:nvPr/>
          </p:nvSpPr>
          <p:spPr>
            <a:xfrm>
              <a:off x="7707240" y="4192560"/>
              <a:ext cx="131760" cy="1265400"/>
            </a:xfrm>
            <a:custGeom>
              <a:avLst/>
              <a:gdLst/>
              <a:ahLst/>
              <a:rect l="l" t="t" r="r" b="b"/>
              <a:pathLst>
                <a:path w="83" h="797">
                  <a:moveTo>
                    <a:pt x="0" y="797"/>
                  </a:moveTo>
                  <a:lnTo>
                    <a:pt x="83" y="680"/>
                  </a:lnTo>
                  <a:lnTo>
                    <a:pt x="83" y="6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381800" y="4186080"/>
              <a:ext cx="325440" cy="127188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446960" y="5343480"/>
              <a:ext cx="242640" cy="61920"/>
            </a:xfrm>
            <a:prstGeom prst="rect">
              <a:avLst/>
            </a:prstGeom>
            <a:gradFill rotWithShape="0">
              <a:gsLst>
                <a:gs pos="0">
                  <a:srgbClr val="280078"/>
                </a:gs>
                <a:gs pos="100000">
                  <a:srgbClr val="d2d2d2"/>
                </a:gs>
              </a:gsLst>
              <a:lin ang="5400000"/>
            </a:gra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600680" y="534528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7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38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446960" y="5345280"/>
              <a:ext cx="12600" cy="5868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0" y="0"/>
                  </a:moveTo>
                  <a:lnTo>
                    <a:pt x="8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446960" y="4200480"/>
              <a:ext cx="242640" cy="11448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443720" y="4254480"/>
              <a:ext cx="1299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202520" y="4200480"/>
              <a:ext cx="182520" cy="1257480"/>
            </a:xfrm>
            <a:custGeom>
              <a:avLst/>
              <a:gdLst/>
              <a:ahLst/>
              <a:rect l="l" t="t" r="r" b="b"/>
              <a:pathLst>
                <a:path w="115" h="792">
                  <a:moveTo>
                    <a:pt x="59" y="792"/>
                  </a:moveTo>
                  <a:lnTo>
                    <a:pt x="0" y="772"/>
                  </a:lnTo>
                  <a:lnTo>
                    <a:pt x="0" y="14"/>
                  </a:lnTo>
                  <a:lnTo>
                    <a:pt x="54" y="7"/>
                  </a:lnTo>
                  <a:lnTo>
                    <a:pt x="115" y="0"/>
                  </a:lnTo>
                  <a:lnTo>
                    <a:pt x="113" y="782"/>
                  </a:lnTo>
                  <a:lnTo>
                    <a:pt x="115" y="782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353360" y="4218120"/>
              <a:ext cx="34920" cy="1207800"/>
            </a:xfrm>
            <a:custGeom>
              <a:avLst/>
              <a:gdLst/>
              <a:ahLst/>
              <a:rect l="l" t="t" r="r" b="b"/>
              <a:pathLst>
                <a:path w="22" h="761">
                  <a:moveTo>
                    <a:pt x="0" y="5"/>
                  </a:moveTo>
                  <a:lnTo>
                    <a:pt x="0" y="752"/>
                  </a:lnTo>
                  <a:lnTo>
                    <a:pt x="22" y="761"/>
                  </a:lnTo>
                  <a:lnTo>
                    <a:pt x="22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464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211880" y="4222800"/>
              <a:ext cx="74520" cy="1217520"/>
            </a:xfrm>
            <a:custGeom>
              <a:avLst/>
              <a:gdLst/>
              <a:ahLst/>
              <a:rect l="l" t="t" r="r" b="b"/>
              <a:pathLst>
                <a:path w="47" h="767">
                  <a:moveTo>
                    <a:pt x="47" y="0"/>
                  </a:moveTo>
                  <a:lnTo>
                    <a:pt x="47" y="767"/>
                  </a:lnTo>
                  <a:lnTo>
                    <a:pt x="0" y="749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308720" y="4218120"/>
              <a:ext cx="30240" cy="1222200"/>
            </a:xfrm>
            <a:custGeom>
              <a:avLst/>
              <a:gdLst/>
              <a:ahLst/>
              <a:rect l="l" t="t" r="r" b="b"/>
              <a:pathLst>
                <a:path w="19" h="770">
                  <a:moveTo>
                    <a:pt x="19" y="0"/>
                  </a:moveTo>
                  <a:lnTo>
                    <a:pt x="19" y="763"/>
                  </a:lnTo>
                  <a:lnTo>
                    <a:pt x="0" y="77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280078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6026040" y="4189320"/>
            <a:ext cx="677880" cy="1257480"/>
            <a:chOff x="6026040" y="4189320"/>
            <a:chExt cx="677880" cy="1257480"/>
          </a:xfrm>
        </p:grpSpPr>
        <p:sp>
          <p:nvSpPr>
            <p:cNvPr id="1621" name=""/>
            <p:cNvSpPr/>
            <p:nvPr/>
          </p:nvSpPr>
          <p:spPr>
            <a:xfrm>
              <a:off x="6613560" y="4189320"/>
              <a:ext cx="90360" cy="1254240"/>
            </a:xfrm>
            <a:custGeom>
              <a:avLst/>
              <a:gdLst/>
              <a:ahLst/>
              <a:rect l="l" t="t" r="r" b="b"/>
              <a:pathLst>
                <a:path w="57" h="790">
                  <a:moveTo>
                    <a:pt x="0" y="790"/>
                  </a:moveTo>
                  <a:lnTo>
                    <a:pt x="57" y="674"/>
                  </a:lnTo>
                  <a:lnTo>
                    <a:pt x="57" y="6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319800" y="4189320"/>
              <a:ext cx="296640" cy="1257480"/>
            </a:xfrm>
            <a:prstGeom prst="rect">
              <a:avLst/>
            </a:prstGeom>
            <a:solidFill>
              <a:srgbClr val="464646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303960" y="4192560"/>
              <a:ext cx="15840" cy="1252440"/>
            </a:xfrm>
            <a:custGeom>
              <a:avLst/>
              <a:gdLst/>
              <a:ahLst/>
              <a:rect l="l" t="t" r="r" b="b"/>
              <a:pathLst>
                <a:path w="10" h="789">
                  <a:moveTo>
                    <a:pt x="0" y="7"/>
                  </a:moveTo>
                  <a:lnTo>
                    <a:pt x="0" y="785"/>
                  </a:lnTo>
                  <a:lnTo>
                    <a:pt x="10" y="789"/>
                  </a:lnTo>
                  <a:lnTo>
                    <a:pt x="10" y="2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168960" y="4189320"/>
              <a:ext cx="155520" cy="1254240"/>
            </a:xfrm>
            <a:custGeom>
              <a:avLst/>
              <a:gdLst/>
              <a:ahLst/>
              <a:rect l="l" t="t" r="r" b="b"/>
              <a:pathLst>
                <a:path w="98" h="790">
                  <a:moveTo>
                    <a:pt x="0" y="789"/>
                  </a:moveTo>
                  <a:lnTo>
                    <a:pt x="6" y="580"/>
                  </a:lnTo>
                  <a:lnTo>
                    <a:pt x="6" y="229"/>
                  </a:lnTo>
                  <a:lnTo>
                    <a:pt x="60" y="191"/>
                  </a:lnTo>
                  <a:lnTo>
                    <a:pt x="60" y="0"/>
                  </a:lnTo>
                  <a:lnTo>
                    <a:pt x="98" y="4"/>
                  </a:lnTo>
                  <a:lnTo>
                    <a:pt x="95" y="790"/>
                  </a:lnTo>
                  <a:lnTo>
                    <a:pt x="98" y="790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80200" y="4216320"/>
              <a:ext cx="56880" cy="1209600"/>
            </a:xfrm>
            <a:custGeom>
              <a:avLst/>
              <a:gdLst/>
              <a:ahLst/>
              <a:rect l="l" t="t" r="r" b="b"/>
              <a:pathLst>
                <a:path w="36" h="762">
                  <a:moveTo>
                    <a:pt x="0" y="0"/>
                  </a:moveTo>
                  <a:lnTo>
                    <a:pt x="0" y="759"/>
                  </a:lnTo>
                  <a:lnTo>
                    <a:pt x="36" y="762"/>
                  </a:lnTo>
                  <a:lnTo>
                    <a:pt x="36" y="0"/>
                  </a:lnTo>
                  <a:lnTo>
                    <a:pt x="32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ffad2c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026040" y="4200480"/>
              <a:ext cx="130320" cy="48744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6183360" y="4518000"/>
              <a:ext cx="80640" cy="903240"/>
            </a:xfrm>
            <a:custGeom>
              <a:avLst/>
              <a:gdLst/>
              <a:ahLst/>
              <a:rect l="l" t="t" r="r" b="b"/>
              <a:pathLst>
                <a:path w="51" h="569">
                  <a:moveTo>
                    <a:pt x="6" y="568"/>
                  </a:moveTo>
                  <a:lnTo>
                    <a:pt x="51" y="564"/>
                  </a:lnTo>
                  <a:lnTo>
                    <a:pt x="51" y="0"/>
                  </a:lnTo>
                  <a:lnTo>
                    <a:pt x="0" y="25"/>
                  </a:lnTo>
                  <a:lnTo>
                    <a:pt x="0" y="569"/>
                  </a:lnTo>
                  <a:lnTo>
                    <a:pt x="3" y="569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026040" y="4680000"/>
              <a:ext cx="195120" cy="763560"/>
            </a:xfrm>
            <a:custGeom>
              <a:avLst/>
              <a:gdLst/>
              <a:ahLst/>
              <a:rect l="l" t="t" r="r" b="b"/>
              <a:pathLst>
                <a:path w="123" h="481">
                  <a:moveTo>
                    <a:pt x="0" y="476"/>
                  </a:moveTo>
                  <a:lnTo>
                    <a:pt x="0" y="0"/>
                  </a:lnTo>
                  <a:lnTo>
                    <a:pt x="119" y="0"/>
                  </a:lnTo>
                  <a:lnTo>
                    <a:pt x="119" y="481"/>
                  </a:lnTo>
                  <a:lnTo>
                    <a:pt x="123" y="481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127560" y="4189320"/>
              <a:ext cx="136440" cy="451080"/>
            </a:xfrm>
            <a:custGeom>
              <a:avLst/>
              <a:gdLst/>
              <a:ahLst/>
              <a:rect l="l" t="t" r="r" b="b"/>
              <a:pathLst>
                <a:path w="86" h="284">
                  <a:moveTo>
                    <a:pt x="0" y="8"/>
                  </a:moveTo>
                  <a:lnTo>
                    <a:pt x="86" y="0"/>
                  </a:lnTo>
                  <a:lnTo>
                    <a:pt x="86" y="284"/>
                  </a:lnTo>
                  <a:lnTo>
                    <a:pt x="0" y="284"/>
                  </a:lnTo>
                  <a:close/>
                </a:path>
              </a:pathLst>
            </a:custGeom>
            <a:gradFill rotWithShape="0">
              <a:gsLst>
                <a:gs pos="0">
                  <a:srgbClr val="6e6e6e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357960" y="4219560"/>
              <a:ext cx="228600" cy="119376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416640" y="4257720"/>
              <a:ext cx="114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026040" y="4640400"/>
              <a:ext cx="231840" cy="41040"/>
            </a:xfrm>
            <a:custGeom>
              <a:avLst/>
              <a:gdLst/>
              <a:ahLst/>
              <a:rect l="l" t="t" r="r" b="b"/>
              <a:pathLst>
                <a:path w="146" h="26">
                  <a:moveTo>
                    <a:pt x="65" y="0"/>
                  </a:moveTo>
                  <a:lnTo>
                    <a:pt x="146" y="0"/>
                  </a:lnTo>
                  <a:lnTo>
                    <a:pt x="119" y="26"/>
                  </a:lnTo>
                  <a:lnTo>
                    <a:pt x="5" y="26"/>
                  </a:lnTo>
                  <a:lnTo>
                    <a:pt x="0" y="26"/>
                  </a:lnTo>
                  <a:close/>
                </a:path>
              </a:pathLst>
            </a:custGeom>
            <a:gradFill rotWithShape="0">
              <a:gsLst>
                <a:gs pos="0">
                  <a:srgbClr val="a0a0a0"/>
                </a:gs>
                <a:gs pos="50000">
                  <a:srgbClr val="464646"/>
                </a:gs>
                <a:gs pos="100000">
                  <a:srgbClr val="a0a0a0"/>
                </a:gs>
              </a:gsLst>
              <a:lin ang="81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059520" y="4562640"/>
              <a:ext cx="41040" cy="648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048360" y="4746600"/>
              <a:ext cx="21960" cy="41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235560" y="4667400"/>
              <a:ext cx="15840" cy="763560"/>
            </a:xfrm>
            <a:custGeom>
              <a:avLst/>
              <a:gdLst/>
              <a:ahLst/>
              <a:rect l="l" t="t" r="r" b="b"/>
              <a:pathLst>
                <a:path w="10" h="481">
                  <a:moveTo>
                    <a:pt x="10" y="0"/>
                  </a:moveTo>
                  <a:lnTo>
                    <a:pt x="10" y="472"/>
                  </a:lnTo>
                  <a:lnTo>
                    <a:pt x="0" y="481"/>
                  </a:lnTo>
                  <a:lnTo>
                    <a:pt x="0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6" name=""/>
          <p:cNvSpPr/>
          <p:nvPr/>
        </p:nvSpPr>
        <p:spPr>
          <a:xfrm rot="5400000">
            <a:off x="2514600" y="4343400"/>
            <a:ext cx="83808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"/>
          <p:cNvSpPr/>
          <p:nvPr/>
        </p:nvSpPr>
        <p:spPr>
          <a:xfrm>
            <a:off x="1066680" y="5181480"/>
            <a:ext cx="990720" cy="762120"/>
          </a:xfrm>
          <a:prstGeom prst="roundRect">
            <a:avLst>
              <a:gd name="adj" fmla="val 16667"/>
            </a:avLst>
          </a:prstGeom>
          <a:solidFill>
            <a:srgbClr val="c0c0c0">
              <a:alpha val="5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"/>
          <p:cNvSpPr/>
          <p:nvPr/>
        </p:nvSpPr>
        <p:spPr>
          <a:xfrm>
            <a:off x="3505320" y="3962520"/>
            <a:ext cx="4572000" cy="167616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89394-963F-47F4-9B31-D375CB24B7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" descr=""/>
          <p:cNvPicPr/>
          <p:nvPr/>
        </p:nvPicPr>
        <p:blipFill>
          <a:blip r:embed="rId1"/>
          <a:stretch/>
        </p:blipFill>
        <p:spPr>
          <a:xfrm>
            <a:off x="1066680" y="3718080"/>
            <a:ext cx="1067040" cy="777600"/>
          </a:xfrm>
          <a:prstGeom prst="rect">
            <a:avLst/>
          </a:prstGeom>
          <a:ln w="0">
            <a:noFill/>
          </a:ln>
        </p:spPr>
      </p:pic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High Availability Management Serv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IP address takeover for public IP address (IPA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Configure scripts to run in the event of failo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Shared disk ensures data preservation during failo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685800" y="4419720"/>
            <a:ext cx="380880" cy="68580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3" name=""/>
          <p:cNvCxnSpPr>
            <a:stCxn id="1642" idx="3"/>
          </p:cNvCxnSpPr>
          <p:nvPr/>
        </p:nvCxnSpPr>
        <p:spPr>
          <a:xfrm flipH="1" rot="16200000">
            <a:off x="741960" y="5238720"/>
            <a:ext cx="457920" cy="191160"/>
          </a:xfrm>
          <a:prstGeom prst="bentConnector2">
            <a:avLst/>
          </a:prstGeom>
          <a:ln w="31680">
            <a:solidFill>
              <a:srgbClr val="000000"/>
            </a:solidFill>
            <a:miter/>
          </a:ln>
        </p:spPr>
      </p:cxnSp>
      <p:cxnSp>
        <p:nvCxnSpPr>
          <p:cNvPr id="1644" name=""/>
          <p:cNvCxnSpPr>
            <a:stCxn id="1642" idx="1"/>
          </p:cNvCxnSpPr>
          <p:nvPr/>
        </p:nvCxnSpPr>
        <p:spPr>
          <a:xfrm flipH="1" flipV="1" rot="5400000">
            <a:off x="813600" y="4090680"/>
            <a:ext cx="391320" cy="267120"/>
          </a:xfrm>
          <a:prstGeom prst="bentConnector2">
            <a:avLst/>
          </a:prstGeom>
          <a:ln w="31680">
            <a:solidFill>
              <a:srgbClr val="000000"/>
            </a:solidFill>
            <a:miter/>
          </a:ln>
        </p:spPr>
      </p:cxnSp>
      <p:sp>
        <p:nvSpPr>
          <p:cNvPr id="1645" name=""/>
          <p:cNvSpPr/>
          <p:nvPr/>
        </p:nvSpPr>
        <p:spPr>
          <a:xfrm>
            <a:off x="457200" y="3657600"/>
            <a:ext cx="1828800" cy="22860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2286000"/>
              <a:gd name="textAreaBottom" fmla="*/ 2196720 h 2286000"/>
            </a:gdLst>
            <a:ahLst/>
            <a:rect l="textAreaLeft" t="textAreaTop" r="textAreaRight" b="textAreaBottom"/>
            <a:pathLst>
              <a:path w="21600" h="26999">
                <a:moveTo>
                  <a:pt x="3600" y="0"/>
                </a:moveTo>
                <a:arcTo wR="3600" hR="3600" stAng="16200000" swAng="-5400000"/>
                <a:lnTo>
                  <a:pt x="0" y="23399"/>
                </a:lnTo>
                <a:arcTo wR="3600" hR="3600" stAng="10800000" swAng="-5400000"/>
                <a:lnTo>
                  <a:pt x="18000" y="26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6" name=""/>
          <p:cNvGrpSpPr/>
          <p:nvPr/>
        </p:nvGrpSpPr>
        <p:grpSpPr>
          <a:xfrm>
            <a:off x="4975200" y="4162320"/>
            <a:ext cx="636480" cy="1270080"/>
            <a:chOff x="4975200" y="4162320"/>
            <a:chExt cx="636480" cy="1270080"/>
          </a:xfrm>
        </p:grpSpPr>
        <p:sp>
          <p:nvSpPr>
            <p:cNvPr id="1647" name=""/>
            <p:cNvSpPr/>
            <p:nvPr/>
          </p:nvSpPr>
          <p:spPr>
            <a:xfrm>
              <a:off x="5479920" y="4167360"/>
              <a:ext cx="131760" cy="1265040"/>
            </a:xfrm>
            <a:custGeom>
              <a:avLst/>
              <a:gdLst/>
              <a:ahLst/>
              <a:rect l="l" t="t" r="r" b="b"/>
              <a:pathLst>
                <a:path w="83" h="797">
                  <a:moveTo>
                    <a:pt x="0" y="797"/>
                  </a:moveTo>
                  <a:lnTo>
                    <a:pt x="83" y="681"/>
                  </a:lnTo>
                  <a:lnTo>
                    <a:pt x="83" y="6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153040" y="4162320"/>
              <a:ext cx="326880" cy="127008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219640" y="5318280"/>
              <a:ext cx="244440" cy="66600"/>
            </a:xfrm>
            <a:prstGeom prst="rect">
              <a:avLst/>
            </a:prstGeom>
            <a:gradFill rotWithShape="0">
              <a:gsLst>
                <a:gs pos="0">
                  <a:srgbClr val="280078"/>
                </a:gs>
                <a:gs pos="100000">
                  <a:srgbClr val="d2d2d2"/>
                </a:gs>
              </a:gsLst>
              <a:lin ang="5400000"/>
            </a:gra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375160" y="5319720"/>
              <a:ext cx="88920" cy="65160"/>
            </a:xfrm>
            <a:custGeom>
              <a:avLst/>
              <a:gdLst/>
              <a:ahLst/>
              <a:rect l="l" t="t" r="r" b="b"/>
              <a:pathLst>
                <a:path w="56" h="41">
                  <a:moveTo>
                    <a:pt x="54" y="38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41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219640" y="5319720"/>
              <a:ext cx="12600" cy="60480"/>
            </a:xfrm>
            <a:custGeom>
              <a:avLst/>
              <a:gdLst/>
              <a:ahLst/>
              <a:rect l="l" t="t" r="r" b="b"/>
              <a:pathLst>
                <a:path w="8" h="38">
                  <a:moveTo>
                    <a:pt x="0" y="0"/>
                  </a:moveTo>
                  <a:lnTo>
                    <a:pt x="8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5219640" y="4176720"/>
              <a:ext cx="244440" cy="1143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216400" y="4229280"/>
              <a:ext cx="13032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975200" y="4176720"/>
              <a:ext cx="182520" cy="1255680"/>
            </a:xfrm>
            <a:custGeom>
              <a:avLst/>
              <a:gdLst/>
              <a:ahLst/>
              <a:rect l="l" t="t" r="r" b="b"/>
              <a:pathLst>
                <a:path w="115" h="791">
                  <a:moveTo>
                    <a:pt x="59" y="791"/>
                  </a:moveTo>
                  <a:lnTo>
                    <a:pt x="0" y="770"/>
                  </a:lnTo>
                  <a:lnTo>
                    <a:pt x="0" y="13"/>
                  </a:lnTo>
                  <a:lnTo>
                    <a:pt x="55" y="8"/>
                  </a:lnTo>
                  <a:lnTo>
                    <a:pt x="115" y="0"/>
                  </a:lnTo>
                  <a:lnTo>
                    <a:pt x="112" y="783"/>
                  </a:lnTo>
                  <a:lnTo>
                    <a:pt x="115" y="783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126040" y="4192560"/>
              <a:ext cx="33120" cy="1206720"/>
            </a:xfrm>
            <a:custGeom>
              <a:avLst/>
              <a:gdLst/>
              <a:ahLst/>
              <a:rect l="l" t="t" r="r" b="b"/>
              <a:pathLst>
                <a:path w="21" h="760">
                  <a:moveTo>
                    <a:pt x="0" y="7"/>
                  </a:moveTo>
                  <a:lnTo>
                    <a:pt x="0" y="753"/>
                  </a:lnTo>
                  <a:lnTo>
                    <a:pt x="21" y="760"/>
                  </a:lnTo>
                  <a:lnTo>
                    <a:pt x="21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464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984560" y="4197240"/>
              <a:ext cx="73080" cy="1217880"/>
            </a:xfrm>
            <a:custGeom>
              <a:avLst/>
              <a:gdLst/>
              <a:ahLst/>
              <a:rect l="l" t="t" r="r" b="b"/>
              <a:pathLst>
                <a:path w="46" h="767">
                  <a:moveTo>
                    <a:pt x="46" y="0"/>
                  </a:moveTo>
                  <a:lnTo>
                    <a:pt x="46" y="767"/>
                  </a:lnTo>
                  <a:lnTo>
                    <a:pt x="0" y="750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081400" y="4192560"/>
              <a:ext cx="30240" cy="1222560"/>
            </a:xfrm>
            <a:custGeom>
              <a:avLst/>
              <a:gdLst/>
              <a:ahLst/>
              <a:rect l="l" t="t" r="r" b="b"/>
              <a:pathLst>
                <a:path w="19" h="770">
                  <a:moveTo>
                    <a:pt x="19" y="0"/>
                  </a:moveTo>
                  <a:lnTo>
                    <a:pt x="19" y="764"/>
                  </a:lnTo>
                  <a:lnTo>
                    <a:pt x="0" y="77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280078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3657600" y="4267080"/>
            <a:ext cx="907920" cy="1098720"/>
            <a:chOff x="3657600" y="4267080"/>
            <a:chExt cx="907920" cy="1098720"/>
          </a:xfrm>
        </p:grpSpPr>
        <p:sp>
          <p:nvSpPr>
            <p:cNvPr id="1659" name=""/>
            <p:cNvSpPr/>
            <p:nvPr/>
          </p:nvSpPr>
          <p:spPr>
            <a:xfrm>
              <a:off x="4425840" y="4876920"/>
              <a:ext cx="11268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041720" y="4267080"/>
              <a:ext cx="101520" cy="1092240"/>
            </a:xfrm>
            <a:custGeom>
              <a:avLst/>
              <a:gdLst/>
              <a:ahLst/>
              <a:rect l="l" t="t" r="r" b="b"/>
              <a:pathLst>
                <a:path w="64" h="688">
                  <a:moveTo>
                    <a:pt x="0" y="688"/>
                  </a:moveTo>
                  <a:lnTo>
                    <a:pt x="64" y="591"/>
                  </a:lnTo>
                  <a:lnTo>
                    <a:pt x="64" y="56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797280" y="4267080"/>
              <a:ext cx="244440" cy="109872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27520" y="4291200"/>
              <a:ext cx="187200" cy="104292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660480" y="4272120"/>
              <a:ext cx="136800" cy="1093680"/>
            </a:xfrm>
            <a:custGeom>
              <a:avLst/>
              <a:gdLst/>
              <a:ahLst/>
              <a:rect l="l" t="t" r="r" b="b"/>
              <a:pathLst>
                <a:path w="86" h="689">
                  <a:moveTo>
                    <a:pt x="45" y="689"/>
                  </a:moveTo>
                  <a:lnTo>
                    <a:pt x="0" y="666"/>
                  </a:lnTo>
                  <a:lnTo>
                    <a:pt x="0" y="14"/>
                  </a:lnTo>
                  <a:lnTo>
                    <a:pt x="42" y="8"/>
                  </a:lnTo>
                  <a:lnTo>
                    <a:pt x="86" y="0"/>
                  </a:lnTo>
                  <a:lnTo>
                    <a:pt x="86" y="681"/>
                  </a:lnTo>
                  <a:lnTo>
                    <a:pt x="86" y="681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773520" y="4291200"/>
              <a:ext cx="23760" cy="1037880"/>
            </a:xfrm>
            <a:custGeom>
              <a:avLst/>
              <a:gdLst/>
              <a:ahLst/>
              <a:rect l="l" t="t" r="r" b="b"/>
              <a:pathLst>
                <a:path w="15" h="654">
                  <a:moveTo>
                    <a:pt x="0" y="3"/>
                  </a:moveTo>
                  <a:lnTo>
                    <a:pt x="0" y="653"/>
                  </a:lnTo>
                  <a:lnTo>
                    <a:pt x="15" y="654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3670200" y="4294080"/>
              <a:ext cx="52200" cy="1057320"/>
            </a:xfrm>
            <a:custGeom>
              <a:avLst/>
              <a:gdLst/>
              <a:ahLst/>
              <a:rect l="l" t="t" r="r" b="b"/>
              <a:pathLst>
                <a:path w="33" h="666">
                  <a:moveTo>
                    <a:pt x="33" y="0"/>
                  </a:moveTo>
                  <a:lnTo>
                    <a:pt x="33" y="666"/>
                  </a:lnTo>
                  <a:lnTo>
                    <a:pt x="0" y="651"/>
                  </a:lnTo>
                  <a:lnTo>
                    <a:pt x="0" y="5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736800" y="4291200"/>
              <a:ext cx="20520" cy="1054080"/>
            </a:xfrm>
            <a:custGeom>
              <a:avLst/>
              <a:gdLst/>
              <a:ahLst/>
              <a:rect l="l" t="t" r="r" b="b"/>
              <a:pathLst>
                <a:path w="13" h="664">
                  <a:moveTo>
                    <a:pt x="13" y="0"/>
                  </a:moveTo>
                  <a:lnTo>
                    <a:pt x="13" y="661"/>
                  </a:lnTo>
                  <a:lnTo>
                    <a:pt x="2" y="664"/>
                  </a:lnTo>
                  <a:lnTo>
                    <a:pt x="2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657600" y="4294080"/>
              <a:ext cx="115920" cy="1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047840" y="4422960"/>
              <a:ext cx="69840" cy="269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464646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464000" y="4408560"/>
              <a:ext cx="101520" cy="950760"/>
            </a:xfrm>
            <a:custGeom>
              <a:avLst/>
              <a:gdLst/>
              <a:ahLst/>
              <a:rect l="l" t="t" r="r" b="b"/>
              <a:pathLst>
                <a:path w="64" h="599">
                  <a:moveTo>
                    <a:pt x="0" y="599"/>
                  </a:moveTo>
                  <a:lnTo>
                    <a:pt x="64" y="511"/>
                  </a:lnTo>
                  <a:lnTo>
                    <a:pt x="64" y="49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217760" y="4408560"/>
              <a:ext cx="246240" cy="9507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4241520" y="4889520"/>
              <a:ext cx="196920" cy="450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4200480" y="4408560"/>
              <a:ext cx="17280" cy="950760"/>
            </a:xfrm>
            <a:custGeom>
              <a:avLst/>
              <a:gdLst/>
              <a:ahLst/>
              <a:rect l="l" t="t" r="r" b="b"/>
              <a:pathLst>
                <a:path w="11" h="599">
                  <a:moveTo>
                    <a:pt x="0" y="7"/>
                  </a:moveTo>
                  <a:lnTo>
                    <a:pt x="0" y="594"/>
                  </a:lnTo>
                  <a:lnTo>
                    <a:pt x="11" y="599"/>
                  </a:lnTo>
                  <a:lnTo>
                    <a:pt x="11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22720" y="4413240"/>
              <a:ext cx="77760" cy="946080"/>
            </a:xfrm>
            <a:custGeom>
              <a:avLst/>
              <a:gdLst/>
              <a:ahLst/>
              <a:rect l="l" t="t" r="r" b="b"/>
              <a:pathLst>
                <a:path w="49" h="596">
                  <a:moveTo>
                    <a:pt x="0" y="596"/>
                  </a:moveTo>
                  <a:lnTo>
                    <a:pt x="0" y="432"/>
                  </a:lnTo>
                  <a:lnTo>
                    <a:pt x="0" y="172"/>
                  </a:lnTo>
                  <a:lnTo>
                    <a:pt x="34" y="142"/>
                  </a:lnTo>
                  <a:lnTo>
                    <a:pt x="34" y="0"/>
                  </a:lnTo>
                  <a:lnTo>
                    <a:pt x="49" y="4"/>
                  </a:lnTo>
                  <a:lnTo>
                    <a:pt x="49" y="591"/>
                  </a:lnTo>
                  <a:lnTo>
                    <a:pt x="49" y="591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192560" y="4424400"/>
              <a:ext cx="25200" cy="915840"/>
            </a:xfrm>
            <a:custGeom>
              <a:avLst/>
              <a:gdLst/>
              <a:ahLst/>
              <a:rect l="l" t="t" r="r" b="b"/>
              <a:pathLst>
                <a:path w="16" h="577">
                  <a:moveTo>
                    <a:pt x="0" y="5"/>
                  </a:moveTo>
                  <a:lnTo>
                    <a:pt x="0" y="573"/>
                  </a:lnTo>
                  <a:lnTo>
                    <a:pt x="16" y="577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db7d00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4146480" y="4659480"/>
              <a:ext cx="30240" cy="680760"/>
            </a:xfrm>
            <a:custGeom>
              <a:avLst/>
              <a:gdLst/>
              <a:ahLst/>
              <a:rect l="l" t="t" r="r" b="b"/>
              <a:pathLst>
                <a:path w="19" h="429">
                  <a:moveTo>
                    <a:pt x="1" y="425"/>
                  </a:moveTo>
                  <a:lnTo>
                    <a:pt x="19" y="422"/>
                  </a:lnTo>
                  <a:lnTo>
                    <a:pt x="19" y="0"/>
                  </a:lnTo>
                  <a:lnTo>
                    <a:pt x="0" y="19"/>
                  </a:lnTo>
                  <a:lnTo>
                    <a:pt x="0" y="429"/>
                  </a:lnTo>
                  <a:lnTo>
                    <a:pt x="1" y="426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4047840" y="4689360"/>
              <a:ext cx="84240" cy="669960"/>
            </a:xfrm>
            <a:custGeom>
              <a:avLst/>
              <a:gdLst/>
              <a:ahLst/>
              <a:rect l="l" t="t" r="r" b="b"/>
              <a:pathLst>
                <a:path w="53" h="422">
                  <a:moveTo>
                    <a:pt x="0" y="417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422"/>
                  </a:lnTo>
                  <a:lnTo>
                    <a:pt x="53" y="422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4047840" y="4640400"/>
              <a:ext cx="128880" cy="4896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53" y="31"/>
                  </a:moveTo>
                  <a:lnTo>
                    <a:pt x="0" y="31"/>
                  </a:lnTo>
                  <a:lnTo>
                    <a:pt x="44" y="0"/>
                  </a:lnTo>
                  <a:lnTo>
                    <a:pt x="81" y="0"/>
                  </a:lnTo>
                  <a:lnTo>
                    <a:pt x="53" y="31"/>
                  </a:lnTo>
                  <a:lnTo>
                    <a:pt x="53" y="31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50000">
                  <a:srgbClr val="808080"/>
                </a:gs>
                <a:gs pos="100000">
                  <a:srgbClr val="d2d2d2"/>
                </a:gs>
              </a:gsLst>
              <a:lin ang="81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4117680" y="4413240"/>
              <a:ext cx="59040" cy="227160"/>
            </a:xfrm>
            <a:custGeom>
              <a:avLst/>
              <a:gdLst/>
              <a:ahLst/>
              <a:rect l="l" t="t" r="r" b="b"/>
              <a:pathLst>
                <a:path w="37" h="143">
                  <a:moveTo>
                    <a:pt x="0" y="6"/>
                  </a:moveTo>
                  <a:lnTo>
                    <a:pt x="37" y="0"/>
                  </a:lnTo>
                  <a:lnTo>
                    <a:pt x="37" y="143"/>
                  </a:lnTo>
                  <a:lnTo>
                    <a:pt x="0" y="14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a0a0a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241520" y="4427640"/>
              <a:ext cx="196920" cy="234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243320" y="4689360"/>
              <a:ext cx="198360" cy="181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808080"/>
                </a:gs>
                <a:gs pos="100000">
                  <a:srgbClr val="000000"/>
                </a:gs>
              </a:gsLst>
              <a:lin ang="189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1" name=""/>
          <p:cNvGrpSpPr/>
          <p:nvPr/>
        </p:nvGrpSpPr>
        <p:grpSpPr>
          <a:xfrm>
            <a:off x="7202520" y="4186080"/>
            <a:ext cx="636480" cy="1271880"/>
            <a:chOff x="7202520" y="4186080"/>
            <a:chExt cx="636480" cy="1271880"/>
          </a:xfrm>
        </p:grpSpPr>
        <p:sp>
          <p:nvSpPr>
            <p:cNvPr id="1682" name=""/>
            <p:cNvSpPr/>
            <p:nvPr/>
          </p:nvSpPr>
          <p:spPr>
            <a:xfrm>
              <a:off x="7707240" y="4192560"/>
              <a:ext cx="131760" cy="1265400"/>
            </a:xfrm>
            <a:custGeom>
              <a:avLst/>
              <a:gdLst/>
              <a:ahLst/>
              <a:rect l="l" t="t" r="r" b="b"/>
              <a:pathLst>
                <a:path w="83" h="797">
                  <a:moveTo>
                    <a:pt x="0" y="797"/>
                  </a:moveTo>
                  <a:lnTo>
                    <a:pt x="83" y="680"/>
                  </a:lnTo>
                  <a:lnTo>
                    <a:pt x="83" y="63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381800" y="4186080"/>
              <a:ext cx="325440" cy="1271880"/>
            </a:xfrm>
            <a:prstGeom prst="rect">
              <a:avLst/>
            </a:prstGeom>
            <a:solidFill>
              <a:srgbClr val="a0a0a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446960" y="5343480"/>
              <a:ext cx="242640" cy="61920"/>
            </a:xfrm>
            <a:prstGeom prst="rect">
              <a:avLst/>
            </a:prstGeom>
            <a:gradFill rotWithShape="0">
              <a:gsLst>
                <a:gs pos="0">
                  <a:srgbClr val="280078"/>
                </a:gs>
                <a:gs pos="100000">
                  <a:srgbClr val="d2d2d2"/>
                </a:gs>
              </a:gsLst>
              <a:lin ang="5400000"/>
            </a:gra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600680" y="534528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55" y="37"/>
                  </a:moveTo>
                  <a:lnTo>
                    <a:pt x="0" y="0"/>
                  </a:lnTo>
                  <a:lnTo>
                    <a:pt x="56" y="0"/>
                  </a:lnTo>
                  <a:lnTo>
                    <a:pt x="56" y="38"/>
                  </a:lnTo>
                  <a:lnTo>
                    <a:pt x="55" y="37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7446960" y="5345280"/>
              <a:ext cx="12600" cy="58680"/>
            </a:xfrm>
            <a:custGeom>
              <a:avLst/>
              <a:gdLst/>
              <a:ahLst/>
              <a:rect l="l" t="t" r="r" b="b"/>
              <a:pathLst>
                <a:path w="8" h="37">
                  <a:moveTo>
                    <a:pt x="0" y="0"/>
                  </a:moveTo>
                  <a:lnTo>
                    <a:pt x="8" y="0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280078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446960" y="4200480"/>
              <a:ext cx="242640" cy="11448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443720" y="4254480"/>
              <a:ext cx="12996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202520" y="4200480"/>
              <a:ext cx="182520" cy="1257480"/>
            </a:xfrm>
            <a:custGeom>
              <a:avLst/>
              <a:gdLst/>
              <a:ahLst/>
              <a:rect l="l" t="t" r="r" b="b"/>
              <a:pathLst>
                <a:path w="115" h="792">
                  <a:moveTo>
                    <a:pt x="59" y="792"/>
                  </a:moveTo>
                  <a:lnTo>
                    <a:pt x="0" y="772"/>
                  </a:lnTo>
                  <a:lnTo>
                    <a:pt x="0" y="14"/>
                  </a:lnTo>
                  <a:lnTo>
                    <a:pt x="54" y="7"/>
                  </a:lnTo>
                  <a:lnTo>
                    <a:pt x="115" y="0"/>
                  </a:lnTo>
                  <a:lnTo>
                    <a:pt x="113" y="782"/>
                  </a:lnTo>
                  <a:lnTo>
                    <a:pt x="115" y="782"/>
                  </a:lnTo>
                  <a:close/>
                </a:path>
              </a:pathLst>
            </a:custGeom>
            <a:solidFill>
              <a:srgbClr val="464646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353360" y="4218120"/>
              <a:ext cx="34920" cy="1207800"/>
            </a:xfrm>
            <a:custGeom>
              <a:avLst/>
              <a:gdLst/>
              <a:ahLst/>
              <a:rect l="l" t="t" r="r" b="b"/>
              <a:pathLst>
                <a:path w="22" h="761">
                  <a:moveTo>
                    <a:pt x="0" y="5"/>
                  </a:moveTo>
                  <a:lnTo>
                    <a:pt x="0" y="752"/>
                  </a:lnTo>
                  <a:lnTo>
                    <a:pt x="22" y="761"/>
                  </a:lnTo>
                  <a:lnTo>
                    <a:pt x="22" y="0"/>
                  </a:lnTo>
                  <a:lnTo>
                    <a:pt x="20" y="0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50000">
                  <a:srgbClr val="919191"/>
                </a:gs>
                <a:gs pos="100000">
                  <a:srgbClr val="464646"/>
                </a:gs>
              </a:gsLst>
              <a:lin ang="0"/>
            </a:gradFill>
            <a:ln w="25560">
              <a:solidFill>
                <a:srgbClr val="46464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211880" y="4222800"/>
              <a:ext cx="74520" cy="1217520"/>
            </a:xfrm>
            <a:custGeom>
              <a:avLst/>
              <a:gdLst/>
              <a:ahLst/>
              <a:rect l="l" t="t" r="r" b="b"/>
              <a:pathLst>
                <a:path w="47" h="767">
                  <a:moveTo>
                    <a:pt x="47" y="0"/>
                  </a:moveTo>
                  <a:lnTo>
                    <a:pt x="47" y="767"/>
                  </a:lnTo>
                  <a:lnTo>
                    <a:pt x="0" y="749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5a5a5a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308720" y="4218120"/>
              <a:ext cx="30240" cy="1222200"/>
            </a:xfrm>
            <a:custGeom>
              <a:avLst/>
              <a:gdLst/>
              <a:ahLst/>
              <a:rect l="l" t="t" r="r" b="b"/>
              <a:pathLst>
                <a:path w="19" h="770">
                  <a:moveTo>
                    <a:pt x="19" y="0"/>
                  </a:moveTo>
                  <a:lnTo>
                    <a:pt x="19" y="763"/>
                  </a:lnTo>
                  <a:lnTo>
                    <a:pt x="0" y="77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280078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3" name=""/>
          <p:cNvGrpSpPr/>
          <p:nvPr/>
        </p:nvGrpSpPr>
        <p:grpSpPr>
          <a:xfrm>
            <a:off x="6026040" y="4189320"/>
            <a:ext cx="677880" cy="1257480"/>
            <a:chOff x="6026040" y="4189320"/>
            <a:chExt cx="677880" cy="1257480"/>
          </a:xfrm>
        </p:grpSpPr>
        <p:sp>
          <p:nvSpPr>
            <p:cNvPr id="1694" name=""/>
            <p:cNvSpPr/>
            <p:nvPr/>
          </p:nvSpPr>
          <p:spPr>
            <a:xfrm>
              <a:off x="6613560" y="4189320"/>
              <a:ext cx="90360" cy="1254240"/>
            </a:xfrm>
            <a:custGeom>
              <a:avLst/>
              <a:gdLst/>
              <a:ahLst/>
              <a:rect l="l" t="t" r="r" b="b"/>
              <a:pathLst>
                <a:path w="57" h="790">
                  <a:moveTo>
                    <a:pt x="0" y="790"/>
                  </a:moveTo>
                  <a:lnTo>
                    <a:pt x="57" y="674"/>
                  </a:lnTo>
                  <a:lnTo>
                    <a:pt x="57" y="6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10800000"/>
            </a:gradFill>
            <a:ln w="2556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319800" y="4189320"/>
              <a:ext cx="296640" cy="1257480"/>
            </a:xfrm>
            <a:prstGeom prst="rect">
              <a:avLst/>
            </a:prstGeom>
            <a:solidFill>
              <a:srgbClr val="464646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303960" y="4192560"/>
              <a:ext cx="15840" cy="1252440"/>
            </a:xfrm>
            <a:custGeom>
              <a:avLst/>
              <a:gdLst/>
              <a:ahLst/>
              <a:rect l="l" t="t" r="r" b="b"/>
              <a:pathLst>
                <a:path w="10" h="789">
                  <a:moveTo>
                    <a:pt x="0" y="7"/>
                  </a:moveTo>
                  <a:lnTo>
                    <a:pt x="0" y="785"/>
                  </a:lnTo>
                  <a:lnTo>
                    <a:pt x="10" y="789"/>
                  </a:lnTo>
                  <a:lnTo>
                    <a:pt x="10" y="2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d2d2d2"/>
                </a:gs>
                <a:gs pos="100000">
                  <a:srgbClr val="6e6e6e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168960" y="4189320"/>
              <a:ext cx="155520" cy="1254240"/>
            </a:xfrm>
            <a:custGeom>
              <a:avLst/>
              <a:gdLst/>
              <a:ahLst/>
              <a:rect l="l" t="t" r="r" b="b"/>
              <a:pathLst>
                <a:path w="98" h="790">
                  <a:moveTo>
                    <a:pt x="0" y="789"/>
                  </a:moveTo>
                  <a:lnTo>
                    <a:pt x="6" y="580"/>
                  </a:lnTo>
                  <a:lnTo>
                    <a:pt x="6" y="229"/>
                  </a:lnTo>
                  <a:lnTo>
                    <a:pt x="60" y="191"/>
                  </a:lnTo>
                  <a:lnTo>
                    <a:pt x="60" y="0"/>
                  </a:lnTo>
                  <a:lnTo>
                    <a:pt x="98" y="4"/>
                  </a:lnTo>
                  <a:lnTo>
                    <a:pt x="95" y="790"/>
                  </a:lnTo>
                  <a:lnTo>
                    <a:pt x="98" y="790"/>
                  </a:lnTo>
                  <a:close/>
                </a:path>
              </a:pathLst>
            </a:custGeom>
            <a:solidFill>
              <a:srgbClr val="5a5a5a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280200" y="4216320"/>
              <a:ext cx="56880" cy="1209600"/>
            </a:xfrm>
            <a:custGeom>
              <a:avLst/>
              <a:gdLst/>
              <a:ahLst/>
              <a:rect l="l" t="t" r="r" b="b"/>
              <a:pathLst>
                <a:path w="36" h="762">
                  <a:moveTo>
                    <a:pt x="0" y="0"/>
                  </a:moveTo>
                  <a:lnTo>
                    <a:pt x="0" y="759"/>
                  </a:lnTo>
                  <a:lnTo>
                    <a:pt x="36" y="762"/>
                  </a:lnTo>
                  <a:lnTo>
                    <a:pt x="36" y="0"/>
                  </a:lnTo>
                  <a:lnTo>
                    <a:pt x="32" y="0"/>
                  </a:lnTo>
                  <a:close/>
                </a:path>
              </a:pathLst>
            </a:custGeom>
            <a:gradFill rotWithShape="0">
              <a:gsLst>
                <a:gs pos="0">
                  <a:srgbClr val="722900"/>
                </a:gs>
                <a:gs pos="50000">
                  <a:srgbClr val="ffad2c"/>
                </a:gs>
                <a:gs pos="100000">
                  <a:srgbClr val="722900"/>
                </a:gs>
              </a:gsLst>
              <a:lin ang="0"/>
            </a:gradFill>
            <a:ln w="25560">
              <a:solidFill>
                <a:srgbClr val="db7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026040" y="4200480"/>
              <a:ext cx="130320" cy="48744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183360" y="4518000"/>
              <a:ext cx="80640" cy="903240"/>
            </a:xfrm>
            <a:custGeom>
              <a:avLst/>
              <a:gdLst/>
              <a:ahLst/>
              <a:rect l="l" t="t" r="r" b="b"/>
              <a:pathLst>
                <a:path w="51" h="569">
                  <a:moveTo>
                    <a:pt x="6" y="568"/>
                  </a:moveTo>
                  <a:lnTo>
                    <a:pt x="51" y="564"/>
                  </a:lnTo>
                  <a:lnTo>
                    <a:pt x="51" y="0"/>
                  </a:lnTo>
                  <a:lnTo>
                    <a:pt x="0" y="25"/>
                  </a:lnTo>
                  <a:lnTo>
                    <a:pt x="0" y="569"/>
                  </a:lnTo>
                  <a:lnTo>
                    <a:pt x="3" y="569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026040" y="4680000"/>
              <a:ext cx="195120" cy="763560"/>
            </a:xfrm>
            <a:custGeom>
              <a:avLst/>
              <a:gdLst/>
              <a:ahLst/>
              <a:rect l="l" t="t" r="r" b="b"/>
              <a:pathLst>
                <a:path w="123" h="481">
                  <a:moveTo>
                    <a:pt x="0" y="476"/>
                  </a:moveTo>
                  <a:lnTo>
                    <a:pt x="0" y="0"/>
                  </a:lnTo>
                  <a:lnTo>
                    <a:pt x="119" y="0"/>
                  </a:lnTo>
                  <a:lnTo>
                    <a:pt x="119" y="481"/>
                  </a:lnTo>
                  <a:lnTo>
                    <a:pt x="123" y="481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323232"/>
                </a:gs>
              </a:gsLst>
              <a:lin ang="10800000"/>
            </a:gradFill>
            <a:ln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127560" y="4189320"/>
              <a:ext cx="136440" cy="451080"/>
            </a:xfrm>
            <a:custGeom>
              <a:avLst/>
              <a:gdLst/>
              <a:ahLst/>
              <a:rect l="l" t="t" r="r" b="b"/>
              <a:pathLst>
                <a:path w="86" h="284">
                  <a:moveTo>
                    <a:pt x="0" y="8"/>
                  </a:moveTo>
                  <a:lnTo>
                    <a:pt x="86" y="0"/>
                  </a:lnTo>
                  <a:lnTo>
                    <a:pt x="86" y="284"/>
                  </a:lnTo>
                  <a:lnTo>
                    <a:pt x="0" y="284"/>
                  </a:lnTo>
                  <a:close/>
                </a:path>
              </a:pathLst>
            </a:custGeom>
            <a:gradFill rotWithShape="0">
              <a:gsLst>
                <a:gs pos="0">
                  <a:srgbClr val="6e6e6e"/>
                </a:gs>
                <a:gs pos="100000">
                  <a:srgbClr val="000000"/>
                </a:gs>
              </a:gsLst>
              <a:lin ang="108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357960" y="4219560"/>
              <a:ext cx="228600" cy="11937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55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416640" y="4257720"/>
              <a:ext cx="11412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5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" spc="-1" strike="noStrike">
                  <a:solidFill>
                    <a:srgbClr val="ffffff"/>
                  </a:solidFill>
                  <a:latin typeface="Garamond"/>
                </a:rPr>
                <a:t>IBM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026040" y="4640400"/>
              <a:ext cx="231840" cy="41040"/>
            </a:xfrm>
            <a:custGeom>
              <a:avLst/>
              <a:gdLst/>
              <a:ahLst/>
              <a:rect l="l" t="t" r="r" b="b"/>
              <a:pathLst>
                <a:path w="146" h="26">
                  <a:moveTo>
                    <a:pt x="65" y="0"/>
                  </a:moveTo>
                  <a:lnTo>
                    <a:pt x="146" y="0"/>
                  </a:lnTo>
                  <a:lnTo>
                    <a:pt x="119" y="26"/>
                  </a:lnTo>
                  <a:lnTo>
                    <a:pt x="5" y="26"/>
                  </a:lnTo>
                  <a:lnTo>
                    <a:pt x="0" y="26"/>
                  </a:lnTo>
                  <a:close/>
                </a:path>
              </a:pathLst>
            </a:custGeom>
            <a:gradFill rotWithShape="0">
              <a:gsLst>
                <a:gs pos="0">
                  <a:srgbClr val="a0a0a0"/>
                </a:gs>
                <a:gs pos="50000">
                  <a:srgbClr val="464646"/>
                </a:gs>
                <a:gs pos="100000">
                  <a:srgbClr val="a0a0a0"/>
                </a:gs>
              </a:gsLst>
              <a:lin ang="8100000"/>
            </a:gradFill>
            <a:ln w="2556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059520" y="4562640"/>
              <a:ext cx="41040" cy="648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048360" y="4746600"/>
              <a:ext cx="21960" cy="414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235560" y="4667400"/>
              <a:ext cx="15840" cy="763560"/>
            </a:xfrm>
            <a:custGeom>
              <a:avLst/>
              <a:gdLst/>
              <a:ahLst/>
              <a:rect l="l" t="t" r="r" b="b"/>
              <a:pathLst>
                <a:path w="10" h="481">
                  <a:moveTo>
                    <a:pt x="10" y="0"/>
                  </a:moveTo>
                  <a:lnTo>
                    <a:pt x="10" y="472"/>
                  </a:lnTo>
                  <a:lnTo>
                    <a:pt x="0" y="481"/>
                  </a:lnTo>
                  <a:lnTo>
                    <a:pt x="0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9" name=""/>
          <p:cNvSpPr/>
          <p:nvPr/>
        </p:nvSpPr>
        <p:spPr>
          <a:xfrm rot="5400000">
            <a:off x="2514600" y="4343400"/>
            <a:ext cx="838080" cy="838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505320" y="3962520"/>
            <a:ext cx="4572000" cy="167616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1066680" y="3657600"/>
            <a:ext cx="838440" cy="8380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2" name="" descr=""/>
          <p:cNvPicPr/>
          <p:nvPr/>
        </p:nvPicPr>
        <p:blipFill>
          <a:blip r:embed="rId8"/>
          <a:stretch/>
        </p:blipFill>
        <p:spPr>
          <a:xfrm>
            <a:off x="1143000" y="5029200"/>
            <a:ext cx="1066680" cy="7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68DC8-6224-49EE-A3C2-ABE15B1E56D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306000" y="3048120"/>
            <a:ext cx="8837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ydian"/>
              </a:rPr>
              <a:t>History, Value, Reference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A5C2-7F83-476E-B9D8-D52806BDAE2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53720" y="60912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CSM 1.4.1 (May 6, 2005) Highligh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rnalize Diagnostic Probe Infra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de install performance increase - support DHCP, tftp, and NIM on install serv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CSM managed node at higher OS level than mgmt 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Squadrons Open Power 710, p5 510, p5 575 servers, JS20 GA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RHEL 4 on xSeries and pSe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ing of syslog and AIX error log on all no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ast privilege access to CSM comman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ing of HMCs from the CSM mgmt 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deration Network Manager (FNM) on CSM mgmt 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firewall between mgmt svr and no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ability item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 dependence on name resolution on no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ping command to ping nodes in parall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install xSeries nodes &amp; blades via UUID, instead of MAC add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-defined properties can be added to nodes, devices, or the clu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RHEL 3 QU5 in CSM 1.4.1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1A47-836F-42E4-AC3A-3C45A96B97A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153720" y="533520"/>
            <a:ext cx="8837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CSM 1.4.1.10 (8/05) Highligh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203040" y="1142640"/>
            <a:ext cx="8686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deCenter 8850 Opteron blade (LS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ES 9 SP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rease in node scaling to 256 on pSeries Linux &amp; AI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a Linux mgmt server in a mixed Linux/AIX clu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pluggable target types for dsh &amp; DCEM (to support Director, AIX, &amp; NIM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rdware Control of Squadrons FSP direct attach (special bid only until 12/05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203040" y="4330800"/>
            <a:ext cx="86868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upport f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-20412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5-5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-20412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5-520 up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1480" indent="-20412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5-550, P5-550Q up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80000"/>
              </a:lnSpc>
              <a:spcBef>
                <a:spcPts val="649"/>
              </a:spcBef>
              <a:spcAft>
                <a:spcPts val="275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512 scaling for P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154080" y="3705120"/>
            <a:ext cx="8837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  <a:ea typeface="Arial"/>
              </a:rPr>
              <a:t>CSM 1.4.1.12 (10/05) Highl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D29DF-AD5E-48AB-8570-03B9DCBD208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153720" y="60912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CSM 1.5 (12/05) Highligh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creased integration with HPC applications such as GPFS, LoadLeveler, PE (MPI)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M monitoring and management of Blue Gene clus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-OS flashing of BIOS/firmware, hw scanning, and CMOS settings (both xSeries and pSeries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capabilities for disks, and additional performance monitor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rovements for CSM for Linux installs, including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onal use of HTTP to serve files during the installation of Lin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eries and JS20 Linux node installation without the use of a remote cons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flexibility in the DHCP config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rnel updates during node instal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ort for user-built custom kernel and ramdisk for node instal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roved scaling performance for Linux node install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e adapter configuration for Linu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M WebSM interface on pLinu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rdware Control of Squadrons FSP direct attach (GA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612"/>
              </a:spcBef>
              <a:spcAft>
                <a:spcPts val="264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mple script for node provision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C8AE-2CC9-4BE9-88DA-5D876D6FF22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53720" y="60912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CSM 1.6.0 (10/2006) Highligh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x345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IV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62"/>
              </a:spcBef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upport LPARs controlled by IV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462"/>
              </a:spcBef>
              <a:spcAft>
                <a:spcPts val="275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nitoring of, and dsh to, IV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SLES 10 on xSeries and pSe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CentOS 4 and Scientific Linux 4 on xSe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d structure for supporting new distros more easil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kless nodes using warewulf (Linux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ES Linux OS upgrade w/o reinstalling (&amp; partial RHEL suppor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roved HMC service event monitoring (more attributes &amp; more efficien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ing enhancements for Blue Ge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hanced MinManaged support (CFM and SMS supporte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ic logging of all console output from no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 MS recovery enhanc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erarchical CSM docu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for RHEL 5, CentOS 5, and SL 5 (shortly after GA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FFB9-2000-4146-93B4-CA438433A5B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153720" y="533520"/>
            <a:ext cx="8837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CSM’s 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er cluster set up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W configur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node 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PC software set up (GPFS, LL, ESS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exible node installation o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itional Kickstart/AutoYAST/NIM installation with parallel enhanc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Managed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less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de installation customization scripts make it easy for the customer to install/set up additional applications when a node is inst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on the nodes can be updated/maintained w/o reinstalling the n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c IBM HW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malized remote hardware control &amp; console capabilities via HMC, Mgmt Module, RSA, BMC, terminal server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0A68-E222-4082-A7D5-727694048AC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293840" y="4680000"/>
            <a:ext cx="6310440" cy="130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1079ff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52280" y="522000"/>
            <a:ext cx="832356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Lydian"/>
              </a:rPr>
              <a:t>A CSM Cl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286080" y="1333440"/>
            <a:ext cx="10476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Garamond"/>
              </a:rPr>
              <a:t>IB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38520" y="1444680"/>
            <a:ext cx="101520" cy="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Garamond"/>
              </a:rPr>
              <a:t>IB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2720" y="1298520"/>
            <a:ext cx="118800" cy="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" spc="-1" strike="noStrike">
                <a:solidFill>
                  <a:srgbClr val="ffffff"/>
                </a:solidFill>
                <a:latin typeface="Garamond"/>
              </a:rPr>
              <a:t>IB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65200" y="4819680"/>
            <a:ext cx="275436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naged No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Times New Roman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IX on System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Times New Roman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inux on System p and System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Times New Roman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362240" y="950760"/>
            <a:ext cx="6175080" cy="3402000"/>
            <a:chOff x="1362240" y="950760"/>
            <a:chExt cx="6175080" cy="3402000"/>
          </a:xfrm>
        </p:grpSpPr>
        <p:sp>
          <p:nvSpPr>
            <p:cNvPr id="341" name=""/>
            <p:cNvSpPr/>
            <p:nvPr/>
          </p:nvSpPr>
          <p:spPr>
            <a:xfrm>
              <a:off x="4464000" y="2063880"/>
              <a:ext cx="0" cy="33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3535200" y="950760"/>
              <a:ext cx="1828800" cy="1068120"/>
              <a:chOff x="3535200" y="950760"/>
              <a:chExt cx="1828800" cy="1068120"/>
            </a:xfrm>
          </p:grpSpPr>
          <p:pic>
            <p:nvPicPr>
              <p:cNvPr id="3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043160" y="950760"/>
                <a:ext cx="761760" cy="58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3535200" y="1562040"/>
                <a:ext cx="18288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Aft>
                    <a:spcPts val="275"/>
                  </a:spcAft>
                  <a:tabLst>
                    <a:tab algn="l" pos="0"/>
                    <a:tab algn="l" pos="822240"/>
                    <a:tab algn="l" pos="1644480"/>
                    <a:tab algn="l" pos="2467080"/>
                    <a:tab algn="l" pos="3289320"/>
                    <a:tab algn="l" pos="4111560"/>
                    <a:tab algn="l" pos="4933800"/>
                    <a:tab algn="l" pos="5756400"/>
                    <a:tab algn="l" pos="6578640"/>
                    <a:tab algn="l" pos="7400880"/>
                    <a:tab algn="l" pos="8223120"/>
                    <a:tab algn="l" pos="9045720"/>
                    <a:tab algn="l" pos="9867960"/>
                    <a:tab algn="l" pos="1069020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Lydian"/>
                  </a:rPr>
                  <a:t>CSM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"/>
                  </a:rPr>
                  <a:t>Management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Lydian"/>
                  </a:rPr>
                  <a:t> Server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1362240" y="2576520"/>
              <a:ext cx="6175080" cy="1776240"/>
              <a:chOff x="1362240" y="2576520"/>
              <a:chExt cx="6175080" cy="177624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2928960" y="2868480"/>
                <a:ext cx="578520" cy="1123920"/>
                <a:chOff x="2928960" y="2868480"/>
                <a:chExt cx="578520" cy="11239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3388680" y="2871720"/>
                  <a:ext cx="118800" cy="1120680"/>
                </a:xfrm>
                <a:custGeom>
                  <a:avLst/>
                  <a:gdLst/>
                  <a:ahLst/>
                  <a:rect l="l" t="t" r="r" b="b"/>
                  <a:pathLst>
                    <a:path w="83" h="797">
                      <a:moveTo>
                        <a:pt x="0" y="797"/>
                      </a:moveTo>
                      <a:lnTo>
                        <a:pt x="83" y="681"/>
                      </a:lnTo>
                      <a:lnTo>
                        <a:pt x="83" y="64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919191"/>
                    </a:gs>
                  </a:gsLst>
                  <a:lin ang="10800000"/>
                </a:gradFill>
                <a:ln w="25560">
                  <a:solidFill>
                    <a:srgbClr val="a0a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3090600" y="2868480"/>
                  <a:ext cx="297720" cy="1123920"/>
                </a:xfrm>
                <a:prstGeom prst="rect">
                  <a:avLst/>
                </a:prstGeom>
                <a:solidFill>
                  <a:srgbClr val="a0a0a0"/>
                </a:solidFill>
                <a:ln w="25560">
                  <a:solidFill>
                    <a:srgbClr val="6e6e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3152520" y="3892680"/>
                  <a:ext cx="222120" cy="58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80078"/>
                    </a:gs>
                    <a:gs pos="100000">
                      <a:srgbClr val="d2d2d2"/>
                    </a:gs>
                  </a:gsLst>
                  <a:lin ang="5400000"/>
                </a:gradFill>
                <a:ln w="25560">
                  <a:solidFill>
                    <a:srgbClr val="6e6e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293640" y="3894120"/>
                  <a:ext cx="80640" cy="57240"/>
                </a:xfrm>
                <a:custGeom>
                  <a:avLst/>
                  <a:gdLst/>
                  <a:ahLst/>
                  <a:rect l="l" t="t" r="r" b="b"/>
                  <a:pathLst>
                    <a:path w="56" h="41">
                      <a:moveTo>
                        <a:pt x="54" y="38"/>
                      </a:moveTo>
                      <a:lnTo>
                        <a:pt x="0" y="0"/>
                      </a:lnTo>
                      <a:lnTo>
                        <a:pt x="56" y="0"/>
                      </a:lnTo>
                      <a:lnTo>
                        <a:pt x="56" y="41"/>
                      </a:lnTo>
                      <a:lnTo>
                        <a:pt x="54" y="38"/>
                      </a:lnTo>
                      <a:close/>
                    </a:path>
                  </a:pathLst>
                </a:custGeom>
                <a:solidFill>
                  <a:srgbClr val="280078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152520" y="3894120"/>
                  <a:ext cx="10800" cy="52200"/>
                </a:xfrm>
                <a:custGeom>
                  <a:avLst/>
                  <a:gdLst/>
                  <a:ahLst/>
                  <a:rect l="l" t="t" r="r" b="b"/>
                  <a:pathLst>
                    <a:path w="8" h="38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0" y="38"/>
                      </a:lnTo>
                      <a:lnTo>
                        <a:pt x="0" y="38"/>
                      </a:lnTo>
                      <a:close/>
                    </a:path>
                  </a:pathLst>
                </a:custGeom>
                <a:solidFill>
                  <a:srgbClr val="280078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3152520" y="2879640"/>
                  <a:ext cx="222120" cy="101448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149280" y="2927160"/>
                  <a:ext cx="11736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Aft>
                      <a:spcPts val="37"/>
                    </a:spcAft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Garamond"/>
                    </a:rPr>
                    <a:t>IBM</a:t>
                  </a: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928960" y="2879640"/>
                  <a:ext cx="166320" cy="1112760"/>
                </a:xfrm>
                <a:custGeom>
                  <a:avLst/>
                  <a:gdLst/>
                  <a:ahLst/>
                  <a:rect l="l" t="t" r="r" b="b"/>
                  <a:pathLst>
                    <a:path w="115" h="791">
                      <a:moveTo>
                        <a:pt x="59" y="791"/>
                      </a:moveTo>
                      <a:lnTo>
                        <a:pt x="0" y="770"/>
                      </a:lnTo>
                      <a:lnTo>
                        <a:pt x="0" y="13"/>
                      </a:lnTo>
                      <a:lnTo>
                        <a:pt x="55" y="8"/>
                      </a:lnTo>
                      <a:lnTo>
                        <a:pt x="115" y="0"/>
                      </a:lnTo>
                      <a:lnTo>
                        <a:pt x="112" y="783"/>
                      </a:lnTo>
                      <a:lnTo>
                        <a:pt x="115" y="783"/>
                      </a:lnTo>
                      <a:close/>
                    </a:path>
                  </a:pathLst>
                </a:custGeom>
                <a:solidFill>
                  <a:srgbClr val="464646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3066840" y="2894040"/>
                  <a:ext cx="29880" cy="1069920"/>
                </a:xfrm>
                <a:custGeom>
                  <a:avLst/>
                  <a:gdLst/>
                  <a:ahLst/>
                  <a:rect l="l" t="t" r="r" b="b"/>
                  <a:pathLst>
                    <a:path w="21" h="760">
                      <a:moveTo>
                        <a:pt x="0" y="7"/>
                      </a:moveTo>
                      <a:lnTo>
                        <a:pt x="0" y="753"/>
                      </a:lnTo>
                      <a:lnTo>
                        <a:pt x="21" y="760"/>
                      </a:lnTo>
                      <a:lnTo>
                        <a:pt x="21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64646"/>
                    </a:gs>
                    <a:gs pos="50000">
                      <a:srgbClr val="919191"/>
                    </a:gs>
                    <a:gs pos="100000">
                      <a:srgbClr val="464646"/>
                    </a:gs>
                  </a:gsLst>
                  <a:lin ang="0"/>
                </a:gradFill>
                <a:ln w="25560">
                  <a:solidFill>
                    <a:srgbClr val="46464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2938320" y="2898720"/>
                  <a:ext cx="66240" cy="1079640"/>
                </a:xfrm>
                <a:custGeom>
                  <a:avLst/>
                  <a:gdLst/>
                  <a:ahLst/>
                  <a:rect l="l" t="t" r="r" b="b"/>
                  <a:pathLst>
                    <a:path w="46" h="767">
                      <a:moveTo>
                        <a:pt x="46" y="0"/>
                      </a:moveTo>
                      <a:lnTo>
                        <a:pt x="46" y="767"/>
                      </a:lnTo>
                      <a:lnTo>
                        <a:pt x="0" y="750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4b4b4"/>
                    </a:gs>
                    <a:gs pos="100000">
                      <a:srgbClr val="5a5a5a"/>
                    </a:gs>
                  </a:gsLst>
                  <a:lin ang="10800000"/>
                </a:gra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3025440" y="2894040"/>
                  <a:ext cx="28440" cy="1084320"/>
                </a:xfrm>
                <a:custGeom>
                  <a:avLst/>
                  <a:gdLst/>
                  <a:ahLst/>
                  <a:rect l="l" t="t" r="r" b="b"/>
                  <a:pathLst>
                    <a:path w="19" h="770">
                      <a:moveTo>
                        <a:pt x="19" y="0"/>
                      </a:moveTo>
                      <a:lnTo>
                        <a:pt x="19" y="764"/>
                      </a:lnTo>
                      <a:lnTo>
                        <a:pt x="0" y="770"/>
                      </a:lnTo>
                      <a:lnTo>
                        <a:pt x="0" y="7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4b4b4"/>
                    </a:gs>
                    <a:gs pos="100000">
                      <a:srgbClr val="280078"/>
                    </a:gs>
                  </a:gsLst>
                  <a:lin ang="10800000"/>
                </a:gra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5664240" y="2867040"/>
                <a:ext cx="616680" cy="1112760"/>
                <a:chOff x="5664240" y="2867040"/>
                <a:chExt cx="616680" cy="111276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198840" y="2867040"/>
                  <a:ext cx="82080" cy="1110960"/>
                </a:xfrm>
                <a:custGeom>
                  <a:avLst/>
                  <a:gdLst/>
                  <a:ahLst/>
                  <a:rect l="l" t="t" r="r" b="b"/>
                  <a:pathLst>
                    <a:path w="57" h="790">
                      <a:moveTo>
                        <a:pt x="0" y="790"/>
                      </a:moveTo>
                      <a:lnTo>
                        <a:pt x="57" y="674"/>
                      </a:lnTo>
                      <a:lnTo>
                        <a:pt x="57" y="62"/>
                      </a:lnTo>
                      <a:lnTo>
                        <a:pt x="0" y="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808080"/>
                    </a:gs>
                  </a:gsLst>
                  <a:lin ang="10800000"/>
                </a:gradFill>
                <a:ln w="25560">
                  <a:solidFill>
                    <a:srgbClr val="a0a0a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5932080" y="2867040"/>
                  <a:ext cx="269280" cy="1112760"/>
                </a:xfrm>
                <a:prstGeom prst="rect">
                  <a:avLst/>
                </a:prstGeom>
                <a:solidFill>
                  <a:srgbClr val="464646"/>
                </a:solidFill>
                <a:ln w="25560">
                  <a:solidFill>
                    <a:srgbClr val="6e6e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5916240" y="2868480"/>
                  <a:ext cx="15480" cy="1110960"/>
                </a:xfrm>
                <a:custGeom>
                  <a:avLst/>
                  <a:gdLst/>
                  <a:ahLst/>
                  <a:rect l="l" t="t" r="r" b="b"/>
                  <a:pathLst>
                    <a:path w="10" h="789">
                      <a:moveTo>
                        <a:pt x="0" y="7"/>
                      </a:moveTo>
                      <a:lnTo>
                        <a:pt x="0" y="785"/>
                      </a:lnTo>
                      <a:lnTo>
                        <a:pt x="10" y="789"/>
                      </a:lnTo>
                      <a:lnTo>
                        <a:pt x="10" y="2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2d2d2"/>
                    </a:gs>
                    <a:gs pos="100000">
                      <a:srgbClr val="6e6e6e"/>
                    </a:gs>
                  </a:gsLst>
                  <a:lin ang="10800000"/>
                </a:gradFill>
                <a:ln w="25560">
                  <a:solidFill>
                    <a:srgbClr val="6e6e6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793840" y="2867040"/>
                  <a:ext cx="141120" cy="1110960"/>
                </a:xfrm>
                <a:custGeom>
                  <a:avLst/>
                  <a:gdLst/>
                  <a:ahLst/>
                  <a:rect l="l" t="t" r="r" b="b"/>
                  <a:pathLst>
                    <a:path w="98" h="790">
                      <a:moveTo>
                        <a:pt x="0" y="789"/>
                      </a:moveTo>
                      <a:lnTo>
                        <a:pt x="6" y="580"/>
                      </a:lnTo>
                      <a:lnTo>
                        <a:pt x="6" y="229"/>
                      </a:lnTo>
                      <a:lnTo>
                        <a:pt x="60" y="191"/>
                      </a:lnTo>
                      <a:lnTo>
                        <a:pt x="60" y="0"/>
                      </a:lnTo>
                      <a:lnTo>
                        <a:pt x="98" y="4"/>
                      </a:lnTo>
                      <a:lnTo>
                        <a:pt x="95" y="790"/>
                      </a:lnTo>
                      <a:lnTo>
                        <a:pt x="98" y="790"/>
                      </a:lnTo>
                      <a:close/>
                    </a:path>
                  </a:pathLst>
                </a:custGeom>
                <a:solidFill>
                  <a:srgbClr val="5a5a5a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895360" y="2890800"/>
                  <a:ext cx="52200" cy="1071000"/>
                </a:xfrm>
                <a:custGeom>
                  <a:avLst/>
                  <a:gdLst/>
                  <a:ahLst/>
                  <a:rect l="l" t="t" r="r" b="b"/>
                  <a:pathLst>
                    <a:path w="36" h="762">
                      <a:moveTo>
                        <a:pt x="0" y="0"/>
                      </a:moveTo>
                      <a:lnTo>
                        <a:pt x="0" y="759"/>
                      </a:lnTo>
                      <a:lnTo>
                        <a:pt x="36" y="762"/>
                      </a:lnTo>
                      <a:lnTo>
                        <a:pt x="36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22900"/>
                    </a:gs>
                    <a:gs pos="50000">
                      <a:srgbClr val="ffad2c"/>
                    </a:gs>
                    <a:gs pos="100000">
                      <a:srgbClr val="722900"/>
                    </a:gs>
                  </a:gsLst>
                  <a:lin ang="0"/>
                </a:gradFill>
                <a:ln w="25560">
                  <a:solidFill>
                    <a:srgbClr val="db7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5664240" y="2876400"/>
                  <a:ext cx="118440" cy="431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19191"/>
                    </a:gs>
                    <a:gs pos="100000">
                      <a:srgbClr val="323232"/>
                    </a:gs>
                  </a:gsLst>
                  <a:lin ang="10800000"/>
                </a:gra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806440" y="3157200"/>
                  <a:ext cx="74520" cy="799920"/>
                </a:xfrm>
                <a:custGeom>
                  <a:avLst/>
                  <a:gdLst/>
                  <a:ahLst/>
                  <a:rect l="l" t="t" r="r" b="b"/>
                  <a:pathLst>
                    <a:path w="51" h="569">
                      <a:moveTo>
                        <a:pt x="6" y="568"/>
                      </a:moveTo>
                      <a:lnTo>
                        <a:pt x="51" y="564"/>
                      </a:lnTo>
                      <a:lnTo>
                        <a:pt x="51" y="0"/>
                      </a:lnTo>
                      <a:lnTo>
                        <a:pt x="0" y="25"/>
                      </a:lnTo>
                      <a:lnTo>
                        <a:pt x="0" y="569"/>
                      </a:lnTo>
                      <a:lnTo>
                        <a:pt x="3" y="56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19191"/>
                    </a:gs>
                    <a:gs pos="100000">
                      <a:srgbClr val="323232"/>
                    </a:gs>
                  </a:gsLst>
                  <a:lin ang="10800000"/>
                </a:gra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664240" y="3300120"/>
                  <a:ext cx="177120" cy="677520"/>
                </a:xfrm>
                <a:custGeom>
                  <a:avLst/>
                  <a:gdLst/>
                  <a:ahLst/>
                  <a:rect l="l" t="t" r="r" b="b"/>
                  <a:pathLst>
                    <a:path w="123" h="481">
                      <a:moveTo>
                        <a:pt x="0" y="476"/>
                      </a:moveTo>
                      <a:lnTo>
                        <a:pt x="0" y="0"/>
                      </a:lnTo>
                      <a:lnTo>
                        <a:pt x="119" y="0"/>
                      </a:lnTo>
                      <a:lnTo>
                        <a:pt x="119" y="481"/>
                      </a:lnTo>
                      <a:lnTo>
                        <a:pt x="123" y="48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323232"/>
                    </a:gs>
                  </a:gsLst>
                  <a:lin ang="10800000"/>
                </a:gradFill>
                <a:ln w="255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755680" y="2867040"/>
                  <a:ext cx="125280" cy="398160"/>
                </a:xfrm>
                <a:custGeom>
                  <a:avLst/>
                  <a:gdLst/>
                  <a:ahLst/>
                  <a:rect l="l" t="t" r="r" b="b"/>
                  <a:pathLst>
                    <a:path w="86" h="284">
                      <a:moveTo>
                        <a:pt x="0" y="8"/>
                      </a:moveTo>
                      <a:lnTo>
                        <a:pt x="86" y="0"/>
                      </a:lnTo>
                      <a:lnTo>
                        <a:pt x="86" y="284"/>
                      </a:lnTo>
                      <a:lnTo>
                        <a:pt x="0" y="28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e6e6e"/>
                    </a:gs>
                    <a:gs pos="100000">
                      <a:srgbClr val="000000"/>
                    </a:gs>
                  </a:gsLst>
                  <a:lin ang="10800000"/>
                </a:gradFill>
                <a:ln w="25560">
                  <a:solidFill>
                    <a:srgbClr val="6e6e6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965200" y="2892240"/>
                  <a:ext cx="209160" cy="105840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25560">
                  <a:solidFill>
                    <a:srgbClr val="46464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6019200" y="2927160"/>
                  <a:ext cx="10440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spcAft>
                      <a:spcPts val="51"/>
                    </a:spcAft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1" lang="en-US" sz="300" spc="-1" strike="noStrike">
                      <a:solidFill>
                        <a:srgbClr val="ffffff"/>
                      </a:solidFill>
                      <a:latin typeface="Garamond"/>
                    </a:rPr>
                    <a:t>IBM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5664240" y="3265200"/>
                  <a:ext cx="210600" cy="36360"/>
                </a:xfrm>
                <a:custGeom>
                  <a:avLst/>
                  <a:gdLst/>
                  <a:ahLst/>
                  <a:rect l="l" t="t" r="r" b="b"/>
                  <a:pathLst>
                    <a:path w="146" h="26">
                      <a:moveTo>
                        <a:pt x="65" y="0"/>
                      </a:moveTo>
                      <a:lnTo>
                        <a:pt x="146" y="0"/>
                      </a:lnTo>
                      <a:lnTo>
                        <a:pt x="119" y="26"/>
                      </a:lnTo>
                      <a:lnTo>
                        <a:pt x="5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a0a0a0"/>
                    </a:gs>
                    <a:gs pos="50000">
                      <a:srgbClr val="464646"/>
                    </a:gs>
                    <a:gs pos="100000">
                      <a:srgbClr val="a0a0a0"/>
                    </a:gs>
                  </a:gsLst>
                  <a:lin ang="8100000"/>
                </a:gradFill>
                <a:ln w="25560">
                  <a:solidFill>
                    <a:srgbClr val="6e6e6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693760" y="3197160"/>
                  <a:ext cx="37800" cy="56520"/>
                </a:xfrm>
                <a:prstGeom prst="rect">
                  <a:avLst/>
                </a:prstGeom>
                <a:solidFill>
                  <a:srgbClr val="000000"/>
                </a:solidFill>
                <a:ln w="25560">
                  <a:solidFill>
                    <a:srgbClr val="6e6e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684400" y="3360600"/>
                  <a:ext cx="20160" cy="36000"/>
                </a:xfrm>
                <a:prstGeom prst="rect">
                  <a:avLst/>
                </a:prstGeom>
                <a:solidFill>
                  <a:srgbClr val="000000"/>
                </a:solidFill>
                <a:ln w="25560">
                  <a:solidFill>
                    <a:srgbClr val="6e6e6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5854320" y="3288960"/>
                  <a:ext cx="13680" cy="677520"/>
                </a:xfrm>
                <a:custGeom>
                  <a:avLst/>
                  <a:gdLst/>
                  <a:ahLst/>
                  <a:rect l="l" t="t" r="r" b="b"/>
                  <a:pathLst>
                    <a:path w="10" h="481">
                      <a:moveTo>
                        <a:pt x="10" y="0"/>
                      </a:moveTo>
                      <a:lnTo>
                        <a:pt x="10" y="472"/>
                      </a:lnTo>
                      <a:lnTo>
                        <a:pt x="0" y="481"/>
                      </a:lnTo>
                      <a:lnTo>
                        <a:pt x="0" y="15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>
                <a:off x="1362240" y="2576520"/>
                <a:ext cx="6175080" cy="17762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75" name=""/>
              <p:cNvGraphicFramePr/>
              <p:nvPr/>
            </p:nvGraphicFramePr>
            <p:xfrm>
              <a:off x="1784160" y="3137040"/>
              <a:ext cx="1002960" cy="55404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376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784160" y="3137040"/>
                        <a:ext cx="1002960" cy="554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pic>
            <p:nvPicPr>
              <p:cNvPr id="37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622920" y="3052800"/>
                <a:ext cx="466200" cy="762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841560" y="2832120"/>
                <a:ext cx="1295280" cy="55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816360" y="3784680"/>
                <a:ext cx="1447200" cy="179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0" name=""/>
          <p:cNvSpPr/>
          <p:nvPr/>
        </p:nvSpPr>
        <p:spPr>
          <a:xfrm>
            <a:off x="4716360" y="4807080"/>
            <a:ext cx="2754360" cy="10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n-node De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24"/>
              </a:spcAft>
              <a:buClr>
                <a:srgbClr val="000000"/>
              </a:buClr>
              <a:buFont typeface="Times New Roman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ardware Control Point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BladeCenter MM, HMC, BMC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264"/>
              </a:spcAft>
              <a:buClr>
                <a:srgbClr val="000000"/>
              </a:buClr>
              <a:buFont typeface="Times New Roman"/>
              <a:buChar char="•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witches, console server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35C2E-BD6D-48A5-81CB-D45E7BA86F3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53720" y="533520"/>
            <a:ext cx="88376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CSM’s Valu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ced monitoring capabiliti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defined conditions and responses for quick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y customizable to add sensors, conditions,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probes for software problem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3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roduct to manage both AIX &amp; Linux (both xSeries &amp; pSeri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3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blades to Blue G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exible and customiz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, consistent, well-documented CLI can be used in customer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add:  power methods, console methods, MAC methods, post-install scripts, CFM pre/post scripts, sensors, conditions, responses, pro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y documented and suppor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, online docs in PDF and 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and external CSM mailing lists for customers and develo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8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BM service organ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CAC7-1E20-460C-AEAA-2CC12E5BCB7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8" name=""/>
          <p:cNvGraphicFramePr/>
          <p:nvPr/>
        </p:nvGraphicFramePr>
        <p:xfrm>
          <a:off x="131760" y="797040"/>
          <a:ext cx="8840880" cy="5014800"/>
        </p:xfrm>
        <a:graphic>
          <a:graphicData uri="http://schemas.openxmlformats.org/drawingml/2006/table">
            <a:tbl>
              <a:tblPr/>
              <a:tblGrid>
                <a:gridCol w="2514600"/>
                <a:gridCol w="6326280"/>
              </a:tblGrid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M Docs &amp;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bc5c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bc5c3"/>
                    </a:solidFill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  <a:ea typeface="Arial"/>
                        </a:rPr>
                        <a:t>http://www14.software.ibm.com/webapp/set2/sas/f/csm/home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ernal Web 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http://rs6000.pok.ibm.com/afs/apd/project/csm/www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ernal Web 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http://www.ibm.com/servers/eserver/clusters/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cumentation Onli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http://publib.boulder.ibm.com/infocenter/clresctr/index.jsp?topic=/com.ibm.cluster.csm.doc/clusterbooks.htm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ministration Gu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nning and Installation Gu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and and Technical Refe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CT Administration Gu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SCT Technical Refe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  <a:ea typeface="Arial"/>
                        </a:rPr>
                        <a:t>http://www14.software.ibm.com/webapp/set2/sas/f/csm/documentation/csm_faq.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ternal Mailing L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  <a:ea typeface="Arial"/>
                        </a:rPr>
                        <a:t>http://www-128.ibm.com/developerworks/forums/dw_forum.jsp?forum=907&amp;cat=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M Guide for PSSP Admins Red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http://rs6000.pok.ibm.com/afs/apd/project/csm/www/Redbooks/CSMforPSSPAdmins-sg246953.p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MC Monitoring Red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http://publib-b.boulder.ibm.com/Redbooks.nsf/RedbookAbstracts/SG246615.html?O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CS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3333ff"/>
                          </a:solidFill>
                          <a:uFillTx/>
                          <a:latin typeface="Arial"/>
                          <a:ea typeface="Arial"/>
                        </a:rPr>
                        <a:t>http://www14.software.ibm.com/webapp/set2/sas/f/csm/utilities/xCSMfixhome.ht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08F5BA-C51F-46C1-A1A6-B1A37DEB8EE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066680" y="2819520"/>
            <a:ext cx="699768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4254480" y="2857680"/>
            <a:ext cx="0" cy="2666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222960" y="415116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222960" y="4152960"/>
            <a:ext cx="648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22476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22476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4152960"/>
            <a:ext cx="180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222960" y="41623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4760" y="415764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2476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227640" y="4157640"/>
            <a:ext cx="180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234120" y="4157640"/>
            <a:ext cx="144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234120" y="415764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23412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23556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2373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3556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240600" y="41623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24060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24060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24060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23412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19600" y="3998880"/>
            <a:ext cx="50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22944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2341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38840" y="4187880"/>
            <a:ext cx="4680" cy="468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4"/>
                </a:moveTo>
                <a:lnTo>
                  <a:pt x="3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229440" y="41623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23412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23412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341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234120" y="41623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800600" y="4187880"/>
            <a:ext cx="6480" cy="46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216480" y="416232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1648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21648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21648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21648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21648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203880" y="42894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0"/>
                </a:move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839000" y="41511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83900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83900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83900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84224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839000" y="41623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839000" y="4157640"/>
            <a:ext cx="4680" cy="468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839000" y="4157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3900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84224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848720" y="4157640"/>
            <a:ext cx="144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848720" y="4157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84872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8501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85160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85016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853400" y="4157640"/>
            <a:ext cx="3240" cy="46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4"/>
                </a:moveTo>
                <a:lnTo>
                  <a:pt x="2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853400" y="41623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85340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85340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85340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84872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843680" y="4151160"/>
            <a:ext cx="50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84368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8487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553080" y="4187880"/>
            <a:ext cx="5040" cy="468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4"/>
                </a:moveTo>
                <a:lnTo>
                  <a:pt x="3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843680" y="41623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84872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84872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8487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848720" y="41623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32880" y="4157640"/>
            <a:ext cx="6120" cy="46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832880" y="41623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832880" y="41529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83288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83288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832880" y="41529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832880" y="4151160"/>
            <a:ext cx="612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832880" y="4152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807320" y="42894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4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818480" y="42894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0"/>
                </a:move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373880" y="4151160"/>
            <a:ext cx="32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7388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375680" y="4152960"/>
            <a:ext cx="28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37568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37712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73880" y="416232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373880" y="4157640"/>
            <a:ext cx="4680" cy="468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375680" y="4157640"/>
            <a:ext cx="28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37568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37712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383600" y="4157640"/>
            <a:ext cx="144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383600" y="415764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38360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38504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38648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38504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89720" y="4157640"/>
            <a:ext cx="180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389720" y="41623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389720" y="415764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389720" y="415764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389720" y="41529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38360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380360" y="41511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3803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38360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479920" y="4035600"/>
            <a:ext cx="3240" cy="46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4"/>
                </a:moveTo>
                <a:lnTo>
                  <a:pt x="2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380360" y="41623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8360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38360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38360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383600" y="41623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367760" y="4157640"/>
            <a:ext cx="6120" cy="46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367760" y="41623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367760" y="41529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36776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36776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367760" y="41529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367760" y="4151160"/>
            <a:ext cx="612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367760" y="4152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58040" y="4289400"/>
            <a:ext cx="360" cy="79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cubicBezTo>
                  <a:pt x="0" y="0"/>
                  <a:pt x="1" y="3"/>
                  <a:pt x="1" y="3"/>
                </a:cubicBezTo>
                <a:cubicBezTo>
                  <a:pt x="1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754680" y="4152960"/>
            <a:ext cx="648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75648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75648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759720" y="4152960"/>
            <a:ext cx="14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754680" y="41623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464080" y="4187880"/>
            <a:ext cx="648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56480" y="415764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75648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59720" y="4157640"/>
            <a:ext cx="14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65840" y="4157640"/>
            <a:ext cx="180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765840" y="415764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76584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76764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76908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767640" y="4152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772320" y="4157640"/>
            <a:ext cx="144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772320" y="41623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77232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77232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77232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765840" y="41529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761160" y="415116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7611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58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61160" y="41623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676584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76584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7658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65840" y="41623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748560" y="41623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7485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74856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74856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7485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748560" y="4151160"/>
            <a:ext cx="612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748560" y="4152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22960" y="28209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222960" y="2822400"/>
            <a:ext cx="648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224760" y="282420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22476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227640" y="2824200"/>
            <a:ext cx="180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222960" y="2832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24760" y="282564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22476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227640" y="2825640"/>
            <a:ext cx="180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234120" y="282744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234120" y="282564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234120" y="27496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235560" y="28242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23736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235560" y="28242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240600" y="28321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240600" y="28256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240600" y="2825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24060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23412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229440" y="274464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22944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23412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229440" y="27511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229440" y="2832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23412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23412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23412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234120" y="28321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16480" y="275112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216480" y="283212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216480" y="2825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216480" y="2825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21648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216480" y="274464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216480" y="28224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203880" y="29592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0"/>
                </a:move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839000" y="28209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83900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83900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83900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84224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839000" y="2832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839000" y="282744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839000" y="2825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83900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842240" y="28256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848720" y="282744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848720" y="2825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848720" y="282564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85016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851600" y="28224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50160" y="28242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853400" y="282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2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853400" y="2832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853400" y="2825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853400" y="2825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85340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84872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843680" y="2820960"/>
            <a:ext cx="504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843680" y="28224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84872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843680" y="2827440"/>
            <a:ext cx="504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843680" y="28321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84872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84872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848720" y="28321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832880" y="28321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832880" y="282240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832880" y="282564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832880" y="2825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832880" y="282420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832880" y="282096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32880" y="282240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807320" y="29592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4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818480" y="29592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0"/>
                </a:move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373880" y="2820960"/>
            <a:ext cx="324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373880" y="282240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375680" y="2824200"/>
            <a:ext cx="28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37568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37712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373880" y="283212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373880" y="2827440"/>
            <a:ext cx="46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375680" y="2825640"/>
            <a:ext cx="28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37568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377120" y="28256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383600" y="282744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383600" y="282564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383600" y="282564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38504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386480" y="28224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385040" y="28242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389720" y="2827440"/>
            <a:ext cx="180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389720" y="28321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389720" y="28256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389720" y="282564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389720" y="2824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38360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380360" y="28209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38036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738360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80360" y="282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2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380360" y="2832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38360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38360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738360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383600" y="28321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367760" y="28321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7367760" y="282240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7367760" y="282564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367760" y="2825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367760" y="282420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7367760" y="282096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367760" y="282240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358040" y="2959200"/>
            <a:ext cx="360" cy="79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cubicBezTo>
                  <a:pt x="0" y="0"/>
                  <a:pt x="1" y="3"/>
                  <a:pt x="1" y="3"/>
                </a:cubicBezTo>
                <a:cubicBezTo>
                  <a:pt x="1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6754680" y="2820960"/>
            <a:ext cx="504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6754680" y="2822400"/>
            <a:ext cx="648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756480" y="282420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75648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759720" y="2824200"/>
            <a:ext cx="14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754680" y="28321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754680" y="2827440"/>
            <a:ext cx="648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6756480" y="282564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75648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759720" y="2825640"/>
            <a:ext cx="14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765840" y="2827440"/>
            <a:ext cx="180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765840" y="282564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765840" y="2825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76764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76908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6767640" y="282420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6772320" y="282744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772320" y="28321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772320" y="28256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772320" y="2825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77232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765840" y="2824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761160" y="28209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76116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76584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761160" y="2832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76584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76584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76584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765840" y="28321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748560" y="28321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748560" y="282240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748560" y="2825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748560" y="2825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74856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748560" y="282096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748560" y="282240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692520" y="4152960"/>
            <a:ext cx="792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69252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69720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69252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69576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692520" y="41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9720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9420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687840" y="4157640"/>
            <a:ext cx="360" cy="32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683160" y="41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686040" y="41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6831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813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68136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681360" y="4157640"/>
            <a:ext cx="1800" cy="32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681360" y="416088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681360" y="41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681360" y="4156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681360" y="41529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6878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989520" y="4149720"/>
            <a:ext cx="46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0" y="0"/>
                </a:lnTo>
                <a:lnTo>
                  <a:pt x="4" y="0"/>
                </a:lnTo>
                <a:lnTo>
                  <a:pt x="4" y="2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68784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6878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687840" y="416088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68784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687840" y="41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6878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687840" y="416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70044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70368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005360" y="4156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703680" y="4156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70368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409840" y="41799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0" y="0"/>
                </a:lnTo>
                <a:lnTo>
                  <a:pt x="0" y="2"/>
                </a:lnTo>
                <a:lnTo>
                  <a:pt x="3" y="2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70044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724200" y="4287960"/>
            <a:ext cx="360" cy="79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cubicBezTo>
                  <a:pt x="1" y="0"/>
                  <a:pt x="1" y="2"/>
                  <a:pt x="1" y="3"/>
                </a:cubicBezTo>
                <a:cubicBezTo>
                  <a:pt x="1" y="5"/>
                  <a:pt x="1" y="5"/>
                  <a:pt x="0" y="5"/>
                </a:cubicBezTo>
                <a:cubicBezTo>
                  <a:pt x="0" y="5"/>
                  <a:pt x="0" y="5"/>
                  <a:pt x="0" y="6"/>
                </a:cubicBezTo>
                <a:cubicBezTo>
                  <a:pt x="1" y="6"/>
                  <a:pt x="1" y="4"/>
                  <a:pt x="1" y="3"/>
                </a:cubicBezTo>
                <a:cubicBezTo>
                  <a:pt x="1" y="3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2381400" y="41497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207792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07792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08296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077920" y="41529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207972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028880" y="4248000"/>
            <a:ext cx="612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077920" y="41562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8296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79600" y="41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073240" y="4157640"/>
            <a:ext cx="360" cy="32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068560" y="41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071800" y="4156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0685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06676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06676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776160" y="4187880"/>
            <a:ext cx="1800" cy="32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2066760" y="416088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2066760" y="41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066760" y="4156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066760" y="41529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0732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073240" y="415296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0732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073240" y="416088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07324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073240" y="41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0732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073240" y="416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084400" y="41608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08764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08764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087640" y="41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8764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8440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116080" y="428796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4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108160" y="4287960"/>
            <a:ext cx="360" cy="7920"/>
          </a:xfrm>
          <a:custGeom>
            <a:avLst/>
            <a:gdLst/>
            <a:ahLst/>
            <a:rect l="l" t="t" r="r" b="b"/>
            <a:pathLst>
              <a:path w="1" h="6">
                <a:moveTo>
                  <a:pt x="1" y="0"/>
                </a:moveTo>
                <a:cubicBezTo>
                  <a:pt x="1" y="0"/>
                  <a:pt x="0" y="3"/>
                  <a:pt x="0" y="3"/>
                </a:cubicBezTo>
                <a:cubicBezTo>
                  <a:pt x="0" y="4"/>
                  <a:pt x="1" y="6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3"/>
                </a:cubicBezTo>
                <a:cubicBezTo>
                  <a:pt x="1" y="2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544840" y="41497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54484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544840" y="415296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54808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544840" y="4152960"/>
            <a:ext cx="36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54484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544840" y="415620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54808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544840" y="4156200"/>
            <a:ext cx="36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536920" y="4157640"/>
            <a:ext cx="1440" cy="32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533680" y="41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53512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53368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53044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53044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481040" y="4248000"/>
            <a:ext cx="3240" cy="32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0" y="0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530440" y="41608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83212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530440" y="41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53044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53692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5383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53836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538360" y="4157640"/>
            <a:ext cx="468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0" y="0"/>
                </a:lnTo>
                <a:lnTo>
                  <a:pt x="3" y="0"/>
                </a:lnTo>
                <a:lnTo>
                  <a:pt x="3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53836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53836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538360" y="41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53836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536920" y="41608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549520" y="4157640"/>
            <a:ext cx="648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549520" y="41608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5527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55276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52760" y="41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5527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54952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3160800" y="4152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16080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16548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16080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6224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3160800" y="4157640"/>
            <a:ext cx="612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160800" y="41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16548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160800" y="4156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156120" y="4157640"/>
            <a:ext cx="360" cy="32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151080" y="41562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15288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15108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14964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14964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149640" y="4157640"/>
            <a:ext cx="1440" cy="32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49640" y="41608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149640" y="4156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149640" y="4156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14964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1561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156120" y="4149720"/>
            <a:ext cx="46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0" y="0"/>
                </a:lnTo>
                <a:lnTo>
                  <a:pt x="4" y="0"/>
                </a:lnTo>
                <a:lnTo>
                  <a:pt x="4" y="2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15612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1561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156120" y="416088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15612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156120" y="41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1561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156120" y="416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166920" y="41608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1701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17016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170160" y="41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1701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468600" y="414972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0" y="0"/>
                </a:lnTo>
                <a:lnTo>
                  <a:pt x="0" y="2"/>
                </a:lnTo>
                <a:lnTo>
                  <a:pt x="4" y="2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16692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191040" y="4287960"/>
            <a:ext cx="360" cy="7920"/>
          </a:xfrm>
          <a:custGeom>
            <a:avLst/>
            <a:gdLst/>
            <a:ahLst/>
            <a:rect l="l" t="t" r="r" b="b"/>
            <a:pathLst>
              <a:path w="1" h="6">
                <a:moveTo>
                  <a:pt x="1" y="0"/>
                </a:move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6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2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69576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692520" y="2820960"/>
            <a:ext cx="792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69252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69720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69252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69576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69252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69720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692520" y="2824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687840" y="282564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68316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86040" y="282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316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68136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68136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681360" y="28224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681360" y="2825640"/>
            <a:ext cx="1800" cy="50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681360" y="283068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681360" y="282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681360" y="2824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681360" y="2822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6878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687840" y="2820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687840" y="2820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6878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687840" y="2825640"/>
            <a:ext cx="46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687840" y="283068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68784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68784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6878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687840" y="283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2409840" y="285588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0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370044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703680" y="2820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3703680" y="2824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70368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703680" y="28224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7004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7004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724200" y="2959200"/>
            <a:ext cx="360" cy="6120"/>
          </a:xfrm>
          <a:custGeom>
            <a:avLst/>
            <a:gdLst/>
            <a:ahLst/>
            <a:rect l="l" t="t" r="r" b="b"/>
            <a:pathLst>
              <a:path w="1" h="5">
                <a:moveTo>
                  <a:pt x="0" y="0"/>
                </a:moveTo>
                <a:cubicBezTo>
                  <a:pt x="1" y="0"/>
                  <a:pt x="1" y="1"/>
                  <a:pt x="1" y="2"/>
                </a:cubicBezTo>
                <a:cubicBezTo>
                  <a:pt x="1" y="4"/>
                  <a:pt x="1" y="4"/>
                  <a:pt x="0" y="4"/>
                </a:cubicBezTo>
                <a:cubicBezTo>
                  <a:pt x="0" y="4"/>
                  <a:pt x="0" y="4"/>
                  <a:pt x="0" y="5"/>
                </a:cubicBezTo>
                <a:cubicBezTo>
                  <a:pt x="1" y="5"/>
                  <a:pt x="1" y="4"/>
                  <a:pt x="1" y="2"/>
                </a:cubicBezTo>
                <a:cubicBezTo>
                  <a:pt x="1" y="2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07972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207792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077920" y="28224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208296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077920" y="2822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207972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2227320" y="2825640"/>
            <a:ext cx="612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2077920" y="28242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208296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2077920" y="282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2073240" y="282564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206856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2071800" y="2824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206856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2066760" y="2820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2066760" y="2820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066760" y="28224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2066760" y="2825640"/>
            <a:ext cx="1800" cy="50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2066760" y="283068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2066760" y="282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066760" y="2824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2066760" y="2822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20732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2073240" y="282096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073240" y="282096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0732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073240" y="283068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207324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207324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0732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73240" y="283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084400" y="28306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087640" y="28209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087640" y="2824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08764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08764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08440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208440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116080" y="2959200"/>
            <a:ext cx="360" cy="61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4"/>
                </a:cubicBezTo>
                <a:cubicBezTo>
                  <a:pt x="0" y="4"/>
                  <a:pt x="0" y="5"/>
                  <a:pt x="0" y="5"/>
                </a:cubicBezTo>
                <a:cubicBezTo>
                  <a:pt x="0" y="5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108160" y="2959200"/>
            <a:ext cx="360" cy="61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cubicBezTo>
                  <a:pt x="1" y="0"/>
                  <a:pt x="0" y="2"/>
                  <a:pt x="0" y="2"/>
                </a:cubicBezTo>
                <a:cubicBezTo>
                  <a:pt x="0" y="4"/>
                  <a:pt x="1" y="5"/>
                  <a:pt x="1" y="5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2"/>
                </a:cubicBezTo>
                <a:cubicBezTo>
                  <a:pt x="1" y="1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25448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2544840" y="2820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2544840" y="282240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4808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544840" y="2822400"/>
            <a:ext cx="36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54484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2846520" y="2825640"/>
            <a:ext cx="46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2544840" y="282420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254808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2544840" y="2824200"/>
            <a:ext cx="36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2536920" y="2825640"/>
            <a:ext cx="1440" cy="50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53368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535120" y="2824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53368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25304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5304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530440" y="28224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832120" y="2825640"/>
            <a:ext cx="324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0" y="0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530440" y="28306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530440" y="2824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53044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253044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536920" y="28224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253836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253836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253836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253836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53836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53836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53836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536920" y="28306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2549520" y="28306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54440" y="28209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552760" y="2824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255276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255276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254952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254952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31622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3160800" y="2820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316080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316548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3160800" y="28224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316224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316080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316548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3160800" y="2824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156120" y="282564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3151080" y="28242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152880" y="2824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3151080" y="28224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149640" y="2820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3149640" y="2820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3149640" y="28224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3149640" y="2825640"/>
            <a:ext cx="1440" cy="50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3149640" y="28306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3149640" y="2824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314964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3149640" y="28224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15612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3156120" y="2820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3156120" y="2820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315612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3457440" y="2825640"/>
            <a:ext cx="504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3156120" y="283068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315612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315612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15612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3156120" y="283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3316320" y="2825640"/>
            <a:ext cx="64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3166920" y="28306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3471840" y="28209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3170160" y="2824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317016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317016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316692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16692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191040" y="2959200"/>
            <a:ext cx="360" cy="61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cubicBezTo>
                  <a:pt x="0" y="0"/>
                  <a:pt x="0" y="2"/>
                  <a:pt x="0" y="2"/>
                </a:cubicBezTo>
                <a:cubicBezTo>
                  <a:pt x="0" y="4"/>
                  <a:pt x="0" y="5"/>
                  <a:pt x="1" y="5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H="1" flipV="1">
            <a:off x="4241520" y="2374920"/>
            <a:ext cx="12600" cy="4190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5" name=""/>
          <p:cNvGrpSpPr/>
          <p:nvPr/>
        </p:nvGrpSpPr>
        <p:grpSpPr>
          <a:xfrm>
            <a:off x="6883560" y="3238560"/>
            <a:ext cx="1815840" cy="1981080"/>
            <a:chOff x="6883560" y="3238560"/>
            <a:chExt cx="1815840" cy="1981080"/>
          </a:xfrm>
        </p:grpSpPr>
        <p:sp>
          <p:nvSpPr>
            <p:cNvPr id="996" name=""/>
            <p:cNvSpPr/>
            <p:nvPr/>
          </p:nvSpPr>
          <p:spPr>
            <a:xfrm>
              <a:off x="7886520" y="4182840"/>
              <a:ext cx="6120" cy="4320"/>
            </a:xfrm>
            <a:custGeom>
              <a:avLst/>
              <a:gdLst/>
              <a:ahLst/>
              <a:rect l="l" t="t" r="r" b="b"/>
              <a:pathLst>
                <a:path w="5" h="4">
                  <a:moveTo>
                    <a:pt x="5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904160" y="4182840"/>
              <a:ext cx="1080" cy="4320"/>
            </a:xfrm>
            <a:custGeom>
              <a:avLst/>
              <a:gdLst/>
              <a:ahLst/>
              <a:rect l="l" t="t" r="r" b="b"/>
              <a:pathLst>
                <a:path w="1" h="4">
                  <a:moveTo>
                    <a:pt x="1" y="4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270560" y="4024080"/>
              <a:ext cx="6120" cy="144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418240" y="4176360"/>
              <a:ext cx="4680" cy="144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0" y="1"/>
                  </a:moveTo>
                  <a:lnTo>
                    <a:pt x="3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8424720" y="4182840"/>
              <a:ext cx="4320" cy="43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8412120" y="4182840"/>
              <a:ext cx="5760" cy="43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0"/>
                  </a:move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315200" y="4927320"/>
              <a:ext cx="1012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75"/>
                </a:spcAft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ydian"/>
                </a:rPr>
                <a:t>Blue Gen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883560" y="3238560"/>
              <a:ext cx="1815840" cy="1981080"/>
            </a:xfrm>
            <a:prstGeom prst="rect">
              <a:avLst/>
            </a:prstGeom>
            <a:noFill/>
            <a:ln w="507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4" name="" descr=""/>
            <p:cNvPicPr/>
            <p:nvPr/>
          </p:nvPicPr>
          <p:blipFill>
            <a:blip r:embed="rId1"/>
            <a:stretch/>
          </p:blipFill>
          <p:spPr>
            <a:xfrm>
              <a:off x="7022880" y="3639960"/>
              <a:ext cx="1561680" cy="125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"/>
          <p:cNvSpPr/>
          <p:nvPr/>
        </p:nvSpPr>
        <p:spPr>
          <a:xfrm>
            <a:off x="5435640" y="1384200"/>
            <a:ext cx="1295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ydian"/>
              </a:rPr>
              <a:t>BladeC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5372280" y="1333440"/>
            <a:ext cx="1460160" cy="984240"/>
            <a:chOff x="5372280" y="1333440"/>
            <a:chExt cx="1460160" cy="984240"/>
          </a:xfrm>
        </p:grpSpPr>
        <p:sp>
          <p:nvSpPr>
            <p:cNvPr id="1007" name=""/>
            <p:cNvSpPr/>
            <p:nvPr/>
          </p:nvSpPr>
          <p:spPr>
            <a:xfrm>
              <a:off x="5372280" y="1333440"/>
              <a:ext cx="1460160" cy="984240"/>
            </a:xfrm>
            <a:prstGeom prst="rect">
              <a:avLst/>
            </a:prstGeom>
            <a:noFill/>
            <a:ln w="507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8" name="" descr=""/>
            <p:cNvPicPr/>
            <p:nvPr/>
          </p:nvPicPr>
          <p:blipFill>
            <a:blip r:embed="rId2"/>
            <a:stretch/>
          </p:blipFill>
          <p:spPr>
            <a:xfrm>
              <a:off x="5448240" y="1663560"/>
              <a:ext cx="1294920" cy="559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9" name=""/>
          <p:cNvGrpSpPr/>
          <p:nvPr/>
        </p:nvGrpSpPr>
        <p:grpSpPr>
          <a:xfrm>
            <a:off x="4851360" y="3416400"/>
            <a:ext cx="1319400" cy="1621800"/>
            <a:chOff x="4851360" y="3416400"/>
            <a:chExt cx="1319400" cy="1621800"/>
          </a:xfrm>
        </p:grpSpPr>
        <p:sp>
          <p:nvSpPr>
            <p:cNvPr id="1010" name=""/>
            <p:cNvSpPr/>
            <p:nvPr/>
          </p:nvSpPr>
          <p:spPr>
            <a:xfrm>
              <a:off x="5350680" y="4060440"/>
              <a:ext cx="3960" cy="288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084640" y="4068360"/>
              <a:ext cx="3960" cy="28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095440" y="4068360"/>
              <a:ext cx="3960" cy="288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851360" y="3416400"/>
              <a:ext cx="1319400" cy="1536480"/>
            </a:xfrm>
            <a:prstGeom prst="rect">
              <a:avLst/>
            </a:prstGeom>
            <a:noFill/>
            <a:ln w="507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952160" y="4444560"/>
              <a:ext cx="11761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ydian"/>
                </a:rPr>
                <a:t>HA Clusters</a:t>
              </a:r>
              <a:br>
                <a:rPr sz="1500"/>
              </a:br>
              <a:r>
                <a:rPr b="0" lang="en-US" sz="1200" spc="-1" strike="noStrike">
                  <a:solidFill>
                    <a:srgbClr val="000000"/>
                  </a:solidFill>
                  <a:latin typeface="Lydian"/>
                </a:rPr>
                <a:t>(HACMP or Tivol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5" name=""/>
            <p:cNvGrpSpPr/>
            <p:nvPr/>
          </p:nvGrpSpPr>
          <p:grpSpPr>
            <a:xfrm>
              <a:off x="5189400" y="3543120"/>
              <a:ext cx="741960" cy="855000"/>
              <a:chOff x="5189400" y="3543120"/>
              <a:chExt cx="741960" cy="855000"/>
            </a:xfrm>
          </p:grpSpPr>
          <p:pic>
            <p:nvPicPr>
              <p:cNvPr id="101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20080" y="3695040"/>
                <a:ext cx="414720" cy="55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16640" y="3847320"/>
                <a:ext cx="414720" cy="550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89400" y="3543120"/>
                <a:ext cx="414360" cy="55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9" name=""/>
          <p:cNvSpPr/>
          <p:nvPr/>
        </p:nvSpPr>
        <p:spPr>
          <a:xfrm>
            <a:off x="819000" y="4638600"/>
            <a:ext cx="648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635200" y="3276720"/>
            <a:ext cx="7920" cy="4680"/>
          </a:xfrm>
          <a:custGeom>
            <a:avLst/>
            <a:gdLst/>
            <a:ahLst/>
            <a:rect l="l" t="t" r="r" b="b"/>
            <a:pathLst>
              <a:path w="5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5" y="3"/>
                </a:lnTo>
                <a:lnTo>
                  <a:pt x="5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16000" y="3133800"/>
            <a:ext cx="2522520" cy="2333520"/>
            <a:chOff x="216000" y="3133800"/>
            <a:chExt cx="2522520" cy="2333520"/>
          </a:xfrm>
        </p:grpSpPr>
        <p:sp>
          <p:nvSpPr>
            <p:cNvPr id="1022" name=""/>
            <p:cNvSpPr/>
            <p:nvPr/>
          </p:nvSpPr>
          <p:spPr>
            <a:xfrm>
              <a:off x="1590840" y="4145040"/>
              <a:ext cx="324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602000" y="4145040"/>
              <a:ext cx="6480" cy="32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71840" y="4175280"/>
              <a:ext cx="4680" cy="32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382760" y="4175280"/>
              <a:ext cx="5040" cy="32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648080" y="5235840"/>
              <a:ext cx="411120" cy="155520"/>
            </a:xfrm>
            <a:custGeom>
              <a:avLst/>
              <a:gdLst/>
              <a:ahLst/>
              <a:rect l="l" t="t" r="r" b="b"/>
              <a:pathLst>
                <a:path w="285" h="110">
                  <a:moveTo>
                    <a:pt x="249" y="3"/>
                  </a:moveTo>
                  <a:lnTo>
                    <a:pt x="245" y="10"/>
                  </a:lnTo>
                  <a:lnTo>
                    <a:pt x="235" y="8"/>
                  </a:lnTo>
                  <a:lnTo>
                    <a:pt x="233" y="6"/>
                  </a:lnTo>
                  <a:lnTo>
                    <a:pt x="141" y="23"/>
                  </a:lnTo>
                  <a:lnTo>
                    <a:pt x="135" y="35"/>
                  </a:lnTo>
                  <a:lnTo>
                    <a:pt x="125" y="29"/>
                  </a:lnTo>
                  <a:lnTo>
                    <a:pt x="117" y="41"/>
                  </a:lnTo>
                  <a:lnTo>
                    <a:pt x="109" y="37"/>
                  </a:lnTo>
                  <a:lnTo>
                    <a:pt x="105" y="35"/>
                  </a:lnTo>
                  <a:lnTo>
                    <a:pt x="3" y="54"/>
                  </a:lnTo>
                  <a:lnTo>
                    <a:pt x="0" y="64"/>
                  </a:lnTo>
                  <a:lnTo>
                    <a:pt x="1" y="96"/>
                  </a:lnTo>
                  <a:lnTo>
                    <a:pt x="285" y="110"/>
                  </a:lnTo>
                  <a:lnTo>
                    <a:pt x="2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2257560" y="4383360"/>
              <a:ext cx="0" cy="225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862200" y="4626000"/>
              <a:ext cx="7920" cy="32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5" y="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 flipV="1">
              <a:off x="520560" y="4378320"/>
              <a:ext cx="2057400" cy="129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70240" y="3789360"/>
              <a:ext cx="382320" cy="344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611360" y="3845160"/>
              <a:ext cx="0" cy="311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087560" y="3819600"/>
              <a:ext cx="0" cy="311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1834920" y="3859200"/>
              <a:ext cx="257400" cy="260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611360" y="4294440"/>
              <a:ext cx="0" cy="31248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087560" y="4268880"/>
              <a:ext cx="0" cy="31104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819440" y="4259520"/>
              <a:ext cx="385920" cy="345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524160" y="4262400"/>
              <a:ext cx="372960" cy="389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83000" y="4114800"/>
              <a:ext cx="1274760" cy="171720"/>
            </a:xfrm>
            <a:custGeom>
              <a:avLst/>
              <a:gdLst/>
              <a:ahLst/>
              <a:rect l="l" t="t" r="r" b="b"/>
              <a:pathLst>
                <a:path w="882" h="122">
                  <a:moveTo>
                    <a:pt x="166" y="122"/>
                  </a:moveTo>
                  <a:lnTo>
                    <a:pt x="11" y="113"/>
                  </a:lnTo>
                  <a:lnTo>
                    <a:pt x="0" y="0"/>
                  </a:lnTo>
                  <a:lnTo>
                    <a:pt x="662" y="0"/>
                  </a:lnTo>
                  <a:lnTo>
                    <a:pt x="882" y="9"/>
                  </a:lnTo>
                  <a:lnTo>
                    <a:pt x="882" y="122"/>
                  </a:lnTo>
                  <a:close/>
                </a:path>
              </a:pathLst>
            </a:custGeom>
            <a:gradFill rotWithShape="0">
              <a:gsLst>
                <a:gs pos="0">
                  <a:srgbClr val="b4b4b4"/>
                </a:gs>
                <a:gs pos="100000">
                  <a:srgbClr val="f0f0f0"/>
                </a:gs>
              </a:gsLst>
              <a:lin ang="10800000"/>
            </a:gra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98840" y="4114800"/>
              <a:ext cx="280800" cy="171720"/>
            </a:xfrm>
            <a:custGeom>
              <a:avLst/>
              <a:gdLst/>
              <a:ahLst/>
              <a:rect l="l" t="t" r="r" b="b"/>
              <a:pathLst>
                <a:path w="195" h="122">
                  <a:moveTo>
                    <a:pt x="0" y="0"/>
                  </a:moveTo>
                  <a:lnTo>
                    <a:pt x="156" y="9"/>
                  </a:lnTo>
                  <a:lnTo>
                    <a:pt x="156" y="49"/>
                  </a:lnTo>
                  <a:lnTo>
                    <a:pt x="195" y="49"/>
                  </a:lnTo>
                  <a:lnTo>
                    <a:pt x="165" y="55"/>
                  </a:lnTo>
                  <a:lnTo>
                    <a:pt x="165" y="72"/>
                  </a:lnTo>
                  <a:lnTo>
                    <a:pt x="195" y="72"/>
                  </a:lnTo>
                  <a:lnTo>
                    <a:pt x="160" y="80"/>
                  </a:lnTo>
                  <a:lnTo>
                    <a:pt x="195" y="80"/>
                  </a:lnTo>
                  <a:lnTo>
                    <a:pt x="160" y="86"/>
                  </a:lnTo>
                  <a:lnTo>
                    <a:pt x="195" y="86"/>
                  </a:lnTo>
                  <a:lnTo>
                    <a:pt x="160" y="94"/>
                  </a:lnTo>
                  <a:lnTo>
                    <a:pt x="195" y="94"/>
                  </a:lnTo>
                  <a:lnTo>
                    <a:pt x="160" y="102"/>
                  </a:lnTo>
                  <a:lnTo>
                    <a:pt x="195" y="102"/>
                  </a:lnTo>
                  <a:lnTo>
                    <a:pt x="160" y="109"/>
                  </a:lnTo>
                  <a:lnTo>
                    <a:pt x="195" y="109"/>
                  </a:lnTo>
                  <a:lnTo>
                    <a:pt x="156" y="117"/>
                  </a:lnTo>
                  <a:lnTo>
                    <a:pt x="156" y="122"/>
                  </a:lnTo>
                  <a:lnTo>
                    <a:pt x="0" y="113"/>
                  </a:lnTo>
                  <a:lnTo>
                    <a:pt x="0" y="52"/>
                  </a:lnTo>
                  <a:lnTo>
                    <a:pt x="0" y="49"/>
                  </a:lnTo>
                  <a:close/>
                </a:path>
              </a:pathLst>
            </a:custGeom>
            <a:gradFill rotWithShape="0">
              <a:gsLst>
                <a:gs pos="0">
                  <a:srgbClr val="464646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746360" y="4216680"/>
              <a:ext cx="0" cy="6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1036440" y="4216680"/>
              <a:ext cx="709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995840" y="4214880"/>
              <a:ext cx="0" cy="6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1820880" y="4214880"/>
              <a:ext cx="174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1805040" y="4214880"/>
              <a:ext cx="16200" cy="60480"/>
            </a:xfrm>
            <a:custGeom>
              <a:avLst/>
              <a:gdLst/>
              <a:ahLst/>
              <a:rect l="l" t="t" r="r" b="b"/>
              <a:pathLst>
                <a:path w="11" h="43">
                  <a:moveTo>
                    <a:pt x="11" y="0"/>
                  </a:moveTo>
                  <a:lnTo>
                    <a:pt x="0" y="0"/>
                  </a:lnTo>
                  <a:lnTo>
                    <a:pt x="0" y="4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805040" y="4214880"/>
              <a:ext cx="190800" cy="12600"/>
            </a:xfrm>
            <a:custGeom>
              <a:avLst/>
              <a:gdLst/>
              <a:ahLst/>
              <a:rect l="l" t="t" r="r" b="b"/>
              <a:pathLst>
                <a:path w="132" h="9">
                  <a:moveTo>
                    <a:pt x="109" y="0"/>
                  </a:moveTo>
                  <a:lnTo>
                    <a:pt x="132" y="9"/>
                  </a:lnTo>
                  <a:lnTo>
                    <a:pt x="2" y="9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803600" y="4227480"/>
              <a:ext cx="182520" cy="7920"/>
            </a:xfrm>
            <a:custGeom>
              <a:avLst/>
              <a:gdLst/>
              <a:ahLst/>
              <a:rect l="l" t="t" r="r" b="b"/>
              <a:pathLst>
                <a:path w="126" h="6">
                  <a:moveTo>
                    <a:pt x="110" y="0"/>
                  </a:moveTo>
                  <a:lnTo>
                    <a:pt x="126" y="6"/>
                  </a:lnTo>
                  <a:lnTo>
                    <a:pt x="1" y="6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803600" y="4235400"/>
              <a:ext cx="182520" cy="11160"/>
            </a:xfrm>
            <a:custGeom>
              <a:avLst/>
              <a:gdLst/>
              <a:ahLst/>
              <a:rect l="l" t="t" r="r" b="b"/>
              <a:pathLst>
                <a:path w="126" h="8">
                  <a:moveTo>
                    <a:pt x="110" y="0"/>
                  </a:moveTo>
                  <a:lnTo>
                    <a:pt x="126" y="8"/>
                  </a:lnTo>
                  <a:lnTo>
                    <a:pt x="1" y="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803600" y="4246560"/>
              <a:ext cx="182520" cy="11160"/>
            </a:xfrm>
            <a:custGeom>
              <a:avLst/>
              <a:gdLst/>
              <a:ahLst/>
              <a:rect l="l" t="t" r="r" b="b"/>
              <a:pathLst>
                <a:path w="126" h="8">
                  <a:moveTo>
                    <a:pt x="110" y="0"/>
                  </a:moveTo>
                  <a:lnTo>
                    <a:pt x="126" y="8"/>
                  </a:lnTo>
                  <a:lnTo>
                    <a:pt x="1" y="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1803600" y="4257720"/>
              <a:ext cx="182520" cy="11160"/>
            </a:xfrm>
            <a:custGeom>
              <a:avLst/>
              <a:gdLst/>
              <a:ahLst/>
              <a:rect l="l" t="t" r="r" b="b"/>
              <a:pathLst>
                <a:path w="126" h="7">
                  <a:moveTo>
                    <a:pt x="110" y="0"/>
                  </a:moveTo>
                  <a:lnTo>
                    <a:pt x="126" y="7"/>
                  </a:lnTo>
                  <a:lnTo>
                    <a:pt x="1" y="7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803600" y="4268880"/>
              <a:ext cx="182520" cy="11160"/>
            </a:xfrm>
            <a:custGeom>
              <a:avLst/>
              <a:gdLst/>
              <a:ahLst/>
              <a:rect l="l" t="t" r="r" b="b"/>
              <a:pathLst>
                <a:path w="126" h="8">
                  <a:moveTo>
                    <a:pt x="110" y="0"/>
                  </a:moveTo>
                  <a:lnTo>
                    <a:pt x="126" y="8"/>
                  </a:lnTo>
                  <a:lnTo>
                    <a:pt x="1" y="8"/>
                  </a:lnTo>
                  <a:lnTo>
                    <a:pt x="0" y="0"/>
                  </a:lnTo>
                  <a:lnTo>
                    <a:pt x="1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805040" y="4183200"/>
              <a:ext cx="190800" cy="9360"/>
            </a:xfrm>
            <a:custGeom>
              <a:avLst/>
              <a:gdLst/>
              <a:ahLst/>
              <a:rect l="l" t="t" r="r" b="b"/>
              <a:pathLst>
                <a:path w="132" h="6">
                  <a:moveTo>
                    <a:pt x="120" y="0"/>
                  </a:moveTo>
                  <a:lnTo>
                    <a:pt x="132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803600" y="4183200"/>
              <a:ext cx="192240" cy="9360"/>
            </a:xfrm>
            <a:custGeom>
              <a:avLst/>
              <a:gdLst/>
              <a:ahLst/>
              <a:rect l="l" t="t" r="r" b="b"/>
              <a:pathLst>
                <a:path w="133" h="6">
                  <a:moveTo>
                    <a:pt x="133" y="6"/>
                  </a:moveTo>
                  <a:lnTo>
                    <a:pt x="133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12" y="6"/>
                  </a:lnTo>
                  <a:lnTo>
                    <a:pt x="1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024200" y="4127760"/>
              <a:ext cx="1033560" cy="158760"/>
            </a:xfrm>
            <a:custGeom>
              <a:avLst/>
              <a:gdLst/>
              <a:ahLst/>
              <a:rect l="l" t="t" r="r" b="b"/>
              <a:pathLst>
                <a:path w="715" h="113">
                  <a:moveTo>
                    <a:pt x="715" y="113"/>
                  </a:moveTo>
                  <a:lnTo>
                    <a:pt x="715" y="0"/>
                  </a:lnTo>
                  <a:lnTo>
                    <a:pt x="0" y="0"/>
                  </a:lnTo>
                  <a:lnTo>
                    <a:pt x="0" y="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036800" y="4192560"/>
              <a:ext cx="0" cy="2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024200" y="4276800"/>
              <a:ext cx="1033560" cy="9720"/>
            </a:xfrm>
            <a:custGeom>
              <a:avLst/>
              <a:gdLst/>
              <a:ahLst/>
              <a:rect l="l" t="t" r="r" b="b"/>
              <a:pathLst>
                <a:path w="715" h="7">
                  <a:moveTo>
                    <a:pt x="715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98840" y="4114800"/>
              <a:ext cx="1258920" cy="171720"/>
            </a:xfrm>
            <a:custGeom>
              <a:avLst/>
              <a:gdLst/>
              <a:ahLst/>
              <a:rect l="l" t="t" r="r" b="b"/>
              <a:pathLst>
                <a:path w="871" h="122">
                  <a:moveTo>
                    <a:pt x="871" y="9"/>
                  </a:moveTo>
                  <a:lnTo>
                    <a:pt x="64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156" y="122"/>
                  </a:lnTo>
                  <a:lnTo>
                    <a:pt x="156" y="1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 flipV="1">
              <a:off x="816120" y="4114800"/>
              <a:ext cx="208080" cy="12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973440" y="4214880"/>
              <a:ext cx="63360" cy="58680"/>
            </a:xfrm>
            <a:custGeom>
              <a:avLst/>
              <a:gdLst/>
              <a:ahLst/>
              <a:rect l="l" t="t" r="r" b="b"/>
              <a:pathLst>
                <a:path w="44" h="42">
                  <a:moveTo>
                    <a:pt x="44" y="0"/>
                  </a:moveTo>
                  <a:lnTo>
                    <a:pt x="12" y="0"/>
                  </a:lnTo>
                  <a:lnTo>
                    <a:pt x="0" y="42"/>
                  </a:lnTo>
                  <a:lnTo>
                    <a:pt x="12" y="4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616400" y="4132440"/>
              <a:ext cx="415800" cy="32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024200" y="4227480"/>
              <a:ext cx="722160" cy="7920"/>
            </a:xfrm>
            <a:custGeom>
              <a:avLst/>
              <a:gdLst/>
              <a:ahLst/>
              <a:rect l="l" t="t" r="r" b="b"/>
              <a:pathLst>
                <a:path w="500" h="6">
                  <a:moveTo>
                    <a:pt x="436" y="0"/>
                  </a:moveTo>
                  <a:lnTo>
                    <a:pt x="500" y="6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990720" y="4233960"/>
              <a:ext cx="33480" cy="1440"/>
            </a:xfrm>
            <a:custGeom>
              <a:avLst/>
              <a:gdLst/>
              <a:ahLst/>
              <a:rect l="l" t="t" r="r" b="b"/>
              <a:pathLst>
                <a:path w="23" h="1">
                  <a:moveTo>
                    <a:pt x="23" y="1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1036440" y="4227480"/>
              <a:ext cx="42840" cy="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24200" y="4235400"/>
              <a:ext cx="722160" cy="11160"/>
            </a:xfrm>
            <a:custGeom>
              <a:avLst/>
              <a:gdLst/>
              <a:ahLst/>
              <a:rect l="l" t="t" r="r" b="b"/>
              <a:pathLst>
                <a:path w="500" h="8">
                  <a:moveTo>
                    <a:pt x="436" y="0"/>
                  </a:moveTo>
                  <a:lnTo>
                    <a:pt x="500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990720" y="4243320"/>
              <a:ext cx="33480" cy="324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23" y="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1036440" y="4235400"/>
              <a:ext cx="428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024200" y="4246560"/>
              <a:ext cx="722160" cy="11160"/>
            </a:xfrm>
            <a:custGeom>
              <a:avLst/>
              <a:gdLst/>
              <a:ahLst/>
              <a:rect l="l" t="t" r="r" b="b"/>
              <a:pathLst>
                <a:path w="500" h="8">
                  <a:moveTo>
                    <a:pt x="436" y="0"/>
                  </a:moveTo>
                  <a:lnTo>
                    <a:pt x="500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990720" y="4251600"/>
              <a:ext cx="33480" cy="612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23" y="5"/>
                  </a:move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1036440" y="4246560"/>
              <a:ext cx="428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024200" y="4257720"/>
              <a:ext cx="722160" cy="11160"/>
            </a:xfrm>
            <a:custGeom>
              <a:avLst/>
              <a:gdLst/>
              <a:ahLst/>
              <a:rect l="l" t="t" r="r" b="b"/>
              <a:pathLst>
                <a:path w="500" h="7">
                  <a:moveTo>
                    <a:pt x="436" y="0"/>
                  </a:moveTo>
                  <a:lnTo>
                    <a:pt x="500" y="7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990720" y="4265640"/>
              <a:ext cx="33480" cy="3240"/>
            </a:xfrm>
            <a:custGeom>
              <a:avLst/>
              <a:gdLst/>
              <a:ahLst/>
              <a:rect l="l" t="t" r="r" b="b"/>
              <a:pathLst>
                <a:path w="23" h="2">
                  <a:moveTo>
                    <a:pt x="23" y="2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>
              <a:off x="1036440" y="4257720"/>
              <a:ext cx="428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024200" y="4268880"/>
              <a:ext cx="722160" cy="11160"/>
            </a:xfrm>
            <a:custGeom>
              <a:avLst/>
              <a:gdLst/>
              <a:ahLst/>
              <a:rect l="l" t="t" r="r" b="b"/>
              <a:pathLst>
                <a:path w="500" h="8">
                  <a:moveTo>
                    <a:pt x="436" y="0"/>
                  </a:moveTo>
                  <a:lnTo>
                    <a:pt x="500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990720" y="4273560"/>
              <a:ext cx="3348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23" y="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1036440" y="4268880"/>
              <a:ext cx="42840" cy="11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1036440" y="4216680"/>
              <a:ext cx="42840" cy="1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024200" y="4216680"/>
              <a:ext cx="722160" cy="10800"/>
            </a:xfrm>
            <a:custGeom>
              <a:avLst/>
              <a:gdLst/>
              <a:ahLst/>
              <a:rect l="l" t="t" r="r" b="b"/>
              <a:pathLst>
                <a:path w="500" h="8">
                  <a:moveTo>
                    <a:pt x="436" y="0"/>
                  </a:moveTo>
                  <a:lnTo>
                    <a:pt x="500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990720" y="4222800"/>
              <a:ext cx="33480" cy="4680"/>
            </a:xfrm>
            <a:custGeom>
              <a:avLst/>
              <a:gdLst/>
              <a:ahLst/>
              <a:rect l="l" t="t" r="r" b="b"/>
              <a:pathLst>
                <a:path w="23" h="3">
                  <a:moveTo>
                    <a:pt x="23" y="3"/>
                  </a:move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1024200" y="4183200"/>
              <a:ext cx="722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1036440" y="4183200"/>
              <a:ext cx="4284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036800" y="4183200"/>
              <a:ext cx="709560" cy="9360"/>
            </a:xfrm>
            <a:custGeom>
              <a:avLst/>
              <a:gdLst/>
              <a:ahLst/>
              <a:rect l="l" t="t" r="r" b="b"/>
              <a:pathLst>
                <a:path w="491" h="6">
                  <a:moveTo>
                    <a:pt x="430" y="0"/>
                  </a:moveTo>
                  <a:lnTo>
                    <a:pt x="491" y="6"/>
                  </a:lnTo>
                  <a:lnTo>
                    <a:pt x="0" y="6"/>
                  </a:lnTo>
                  <a:lnTo>
                    <a:pt x="0" y="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990720" y="4187880"/>
              <a:ext cx="46080" cy="4680"/>
            </a:xfrm>
            <a:custGeom>
              <a:avLst/>
              <a:gdLst/>
              <a:ahLst/>
              <a:rect l="l" t="t" r="r" b="b"/>
              <a:pathLst>
                <a:path w="32" h="3">
                  <a:moveTo>
                    <a:pt x="32" y="3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990720" y="4176720"/>
              <a:ext cx="33480" cy="1116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23" y="5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740240" y="4183200"/>
              <a:ext cx="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165320" y="4135680"/>
              <a:ext cx="155520" cy="936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0" bIns="-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798840" y="4164120"/>
              <a:ext cx="1258920" cy="12600"/>
            </a:xfrm>
            <a:custGeom>
              <a:avLst/>
              <a:gdLst/>
              <a:ahLst/>
              <a:rect l="l" t="t" r="r" b="b"/>
              <a:pathLst>
                <a:path w="871" h="9">
                  <a:moveTo>
                    <a:pt x="871" y="9"/>
                  </a:moveTo>
                  <a:lnTo>
                    <a:pt x="160" y="9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000440" y="4127760"/>
              <a:ext cx="23760" cy="48960"/>
            </a:xfrm>
            <a:custGeom>
              <a:avLst/>
              <a:gdLst/>
              <a:ahLst/>
              <a:rect l="l" t="t" r="r" b="b"/>
              <a:pathLst>
                <a:path w="16" h="35">
                  <a:moveTo>
                    <a:pt x="0" y="0"/>
                  </a:moveTo>
                  <a:lnTo>
                    <a:pt x="0" y="32"/>
                  </a:lnTo>
                  <a:lnTo>
                    <a:pt x="16" y="3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V="1">
              <a:off x="508320" y="4383360"/>
              <a:ext cx="0" cy="225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1719360" y="4383360"/>
              <a:ext cx="0" cy="225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 flipV="1">
              <a:off x="976680" y="4383360"/>
              <a:ext cx="0" cy="225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16000" y="3133800"/>
              <a:ext cx="2522520" cy="2333520"/>
            </a:xfrm>
            <a:prstGeom prst="rect">
              <a:avLst/>
            </a:prstGeom>
            <a:noFill/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881280" y="5149800"/>
              <a:ext cx="1239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75"/>
                </a:spcAft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ydian"/>
                </a:rPr>
                <a:t>Cluster 160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8"/>
            <a:stretch/>
          </p:blipFill>
          <p:spPr>
            <a:xfrm>
              <a:off x="289080" y="4552920"/>
              <a:ext cx="48276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9"/>
            <a:stretch/>
          </p:blipFill>
          <p:spPr>
            <a:xfrm>
              <a:off x="365400" y="3333960"/>
              <a:ext cx="48240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" descr=""/>
            <p:cNvPicPr/>
            <p:nvPr/>
          </p:nvPicPr>
          <p:blipFill>
            <a:blip r:embed="rId10"/>
            <a:stretch/>
          </p:blipFill>
          <p:spPr>
            <a:xfrm>
              <a:off x="1965600" y="3333960"/>
              <a:ext cx="48240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5" name="" descr=""/>
            <p:cNvPicPr/>
            <p:nvPr/>
          </p:nvPicPr>
          <p:blipFill>
            <a:blip r:embed="rId11"/>
            <a:stretch/>
          </p:blipFill>
          <p:spPr>
            <a:xfrm>
              <a:off x="1432080" y="3333960"/>
              <a:ext cx="4827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6" name="" descr=""/>
            <p:cNvPicPr/>
            <p:nvPr/>
          </p:nvPicPr>
          <p:blipFill>
            <a:blip r:embed="rId12"/>
            <a:stretch/>
          </p:blipFill>
          <p:spPr>
            <a:xfrm>
              <a:off x="898560" y="3333960"/>
              <a:ext cx="48276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7" name="" descr=""/>
            <p:cNvPicPr/>
            <p:nvPr/>
          </p:nvPicPr>
          <p:blipFill>
            <a:blip r:embed="rId13"/>
            <a:stretch/>
          </p:blipFill>
          <p:spPr>
            <a:xfrm>
              <a:off x="1965600" y="4552920"/>
              <a:ext cx="48240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8" name="" descr=""/>
            <p:cNvPicPr/>
            <p:nvPr/>
          </p:nvPicPr>
          <p:blipFill>
            <a:blip r:embed="rId14"/>
            <a:stretch/>
          </p:blipFill>
          <p:spPr>
            <a:xfrm>
              <a:off x="822600" y="4552920"/>
              <a:ext cx="48240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9" name="" descr=""/>
            <p:cNvPicPr/>
            <p:nvPr/>
          </p:nvPicPr>
          <p:blipFill>
            <a:blip r:embed="rId15"/>
            <a:stretch/>
          </p:blipFill>
          <p:spPr>
            <a:xfrm>
              <a:off x="1355760" y="4552920"/>
              <a:ext cx="482760" cy="551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0" name=""/>
          <p:cNvGrpSpPr/>
          <p:nvPr/>
        </p:nvGrpSpPr>
        <p:grpSpPr>
          <a:xfrm>
            <a:off x="7050240" y="1289160"/>
            <a:ext cx="1663560" cy="1060200"/>
            <a:chOff x="7050240" y="1289160"/>
            <a:chExt cx="1663560" cy="1060200"/>
          </a:xfrm>
        </p:grpSpPr>
        <p:sp>
          <p:nvSpPr>
            <p:cNvPr id="1101" name=""/>
            <p:cNvSpPr/>
            <p:nvPr/>
          </p:nvSpPr>
          <p:spPr>
            <a:xfrm>
              <a:off x="7050240" y="1289160"/>
              <a:ext cx="1663560" cy="1060200"/>
            </a:xfrm>
            <a:prstGeom prst="rect">
              <a:avLst/>
            </a:prstGeom>
            <a:noFill/>
            <a:ln w="507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354800" y="1320840"/>
              <a:ext cx="1295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75"/>
                </a:spcAft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ydian"/>
                </a:rPr>
                <a:t>Cluster 1350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3" name=""/>
            <p:cNvGrpSpPr/>
            <p:nvPr/>
          </p:nvGrpSpPr>
          <p:grpSpPr>
            <a:xfrm>
              <a:off x="7124760" y="1541520"/>
              <a:ext cx="1533240" cy="761400"/>
              <a:chOff x="7124760" y="1541520"/>
              <a:chExt cx="1533240" cy="761400"/>
            </a:xfrm>
          </p:grpSpPr>
          <p:pic>
            <p:nvPicPr>
              <p:cNvPr id="1104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124760" y="1541520"/>
                <a:ext cx="466560" cy="76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657920" y="1541520"/>
                <a:ext cx="466920" cy="761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8191440" y="1541520"/>
                <a:ext cx="466560" cy="761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07" name=""/>
          <p:cNvGrpSpPr/>
          <p:nvPr/>
        </p:nvGrpSpPr>
        <p:grpSpPr>
          <a:xfrm>
            <a:off x="3467160" y="1268280"/>
            <a:ext cx="1828800" cy="1068120"/>
            <a:chOff x="3467160" y="1268280"/>
            <a:chExt cx="1828800" cy="1068120"/>
          </a:xfrm>
        </p:grpSpPr>
        <p:pic>
          <p:nvPicPr>
            <p:cNvPr id="1108" name="" descr=""/>
            <p:cNvPicPr/>
            <p:nvPr/>
          </p:nvPicPr>
          <p:blipFill>
            <a:blip r:embed="rId19"/>
            <a:stretch/>
          </p:blipFill>
          <p:spPr>
            <a:xfrm>
              <a:off x="3975120" y="1268280"/>
              <a:ext cx="761760" cy="5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"/>
            <p:cNvSpPr/>
            <p:nvPr/>
          </p:nvSpPr>
          <p:spPr>
            <a:xfrm>
              <a:off x="3467160" y="1879560"/>
              <a:ext cx="18288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Aft>
                  <a:spcPts val="275"/>
                </a:spcAft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Lydian"/>
                </a:rPr>
                <a:t>CSM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r>
                <a:rPr b="1" lang="en-US" sz="1500" spc="-1" strike="noStrike">
                  <a:solidFill>
                    <a:srgbClr val="000000"/>
                  </a:solidFill>
                  <a:latin typeface="Lydian"/>
                </a:rPr>
                <a:t> Serv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0" name=""/>
          <p:cNvSpPr/>
          <p:nvPr/>
        </p:nvSpPr>
        <p:spPr>
          <a:xfrm flipH="1" flipV="1">
            <a:off x="1061640" y="2590560"/>
            <a:ext cx="3240" cy="2062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152280" y="302760"/>
            <a:ext cx="83235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Lydian"/>
              </a:rPr>
              <a:t>CSM supports System p and System x, AIX and Lin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" descr=""/>
          <p:cNvPicPr/>
          <p:nvPr/>
        </p:nvPicPr>
        <p:blipFill>
          <a:blip r:embed="rId20"/>
          <a:stretch/>
        </p:blipFill>
        <p:spPr>
          <a:xfrm>
            <a:off x="3124080" y="3686040"/>
            <a:ext cx="669960" cy="1094040"/>
          </a:xfrm>
          <a:prstGeom prst="rect">
            <a:avLst/>
          </a:prstGeom>
          <a:ln w="0">
            <a:noFill/>
          </a:ln>
        </p:spPr>
      </p:pic>
      <p:sp>
        <p:nvSpPr>
          <p:cNvPr id="1113" name=""/>
          <p:cNvSpPr/>
          <p:nvPr/>
        </p:nvSpPr>
        <p:spPr>
          <a:xfrm>
            <a:off x="2946240" y="4788000"/>
            <a:ext cx="11271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Lydian"/>
              </a:rPr>
              <a:t>BCU for Linu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882880" y="3378240"/>
            <a:ext cx="1154160" cy="1739880"/>
          </a:xfrm>
          <a:prstGeom prst="rect">
            <a:avLst/>
          </a:prstGeom>
          <a:noFill/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 flipV="1">
            <a:off x="8039160" y="2832120"/>
            <a:ext cx="0" cy="393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 flipV="1">
            <a:off x="5473800" y="2819520"/>
            <a:ext cx="0" cy="5587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8039160" y="2387520"/>
            <a:ext cx="0" cy="393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190440" y="1206360"/>
            <a:ext cx="1469880" cy="1523880"/>
            <a:chOff x="190440" y="1206360"/>
            <a:chExt cx="1469880" cy="1523880"/>
          </a:xfrm>
        </p:grpSpPr>
        <p:pic>
          <p:nvPicPr>
            <p:cNvPr id="1119" name="" descr=""/>
            <p:cNvPicPr/>
            <p:nvPr/>
          </p:nvPicPr>
          <p:blipFill>
            <a:blip r:embed="rId21"/>
            <a:stretch/>
          </p:blipFill>
          <p:spPr>
            <a:xfrm>
              <a:off x="799920" y="1739880"/>
              <a:ext cx="482760" cy="5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0" name=""/>
            <p:cNvSpPr/>
            <p:nvPr/>
          </p:nvSpPr>
          <p:spPr>
            <a:xfrm>
              <a:off x="190440" y="1206360"/>
              <a:ext cx="1447560" cy="1371600"/>
            </a:xfrm>
            <a:prstGeom prst="rect">
              <a:avLst/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66400" y="2273400"/>
              <a:ext cx="1393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75"/>
                </a:spcAft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ydian"/>
                </a:rPr>
                <a:t>System p Serv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2" name="" descr=""/>
            <p:cNvPicPr/>
            <p:nvPr/>
          </p:nvPicPr>
          <p:blipFill>
            <a:blip r:embed="rId22"/>
            <a:stretch/>
          </p:blipFill>
          <p:spPr>
            <a:xfrm>
              <a:off x="419040" y="1434960"/>
              <a:ext cx="482400" cy="55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3" name="" descr=""/>
            <p:cNvPicPr/>
            <p:nvPr/>
          </p:nvPicPr>
          <p:blipFill>
            <a:blip r:embed="rId23"/>
            <a:stretch/>
          </p:blipFill>
          <p:spPr>
            <a:xfrm>
              <a:off x="647640" y="1587600"/>
              <a:ext cx="482400" cy="5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" descr=""/>
            <p:cNvPicPr/>
            <p:nvPr/>
          </p:nvPicPr>
          <p:blipFill>
            <a:blip r:embed="rId24"/>
            <a:stretch/>
          </p:blipFill>
          <p:spPr>
            <a:xfrm>
              <a:off x="266400" y="1282680"/>
              <a:ext cx="482760" cy="550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5" name=""/>
          <p:cNvGrpSpPr/>
          <p:nvPr/>
        </p:nvGrpSpPr>
        <p:grpSpPr>
          <a:xfrm>
            <a:off x="1803240" y="1270080"/>
            <a:ext cx="1600200" cy="1396800"/>
            <a:chOff x="1803240" y="1270080"/>
            <a:chExt cx="1600200" cy="1396800"/>
          </a:xfrm>
        </p:grpSpPr>
        <p:sp>
          <p:nvSpPr>
            <p:cNvPr id="1126" name=""/>
            <p:cNvSpPr/>
            <p:nvPr/>
          </p:nvSpPr>
          <p:spPr>
            <a:xfrm>
              <a:off x="1930320" y="2210040"/>
              <a:ext cx="13935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275"/>
                </a:spcAft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ydian"/>
                </a:rPr>
                <a:t>System x Serve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803240" y="1270080"/>
              <a:ext cx="1600200" cy="1231920"/>
            </a:xfrm>
            <a:prstGeom prst="rect">
              <a:avLst/>
            </a:prstGeom>
            <a:noFill/>
            <a:ln w="50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8" name="" descr=""/>
            <p:cNvPicPr/>
            <p:nvPr/>
          </p:nvPicPr>
          <p:blipFill>
            <a:blip r:embed="rId25"/>
            <a:stretch/>
          </p:blipFill>
          <p:spPr>
            <a:xfrm>
              <a:off x="1893600" y="1359000"/>
              <a:ext cx="147960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9" name="" descr=""/>
            <p:cNvPicPr/>
            <p:nvPr/>
          </p:nvPicPr>
          <p:blipFill>
            <a:blip r:embed="rId26"/>
            <a:srcRect l="1821" t="0" r="1821" b="0"/>
            <a:stretch/>
          </p:blipFill>
          <p:spPr>
            <a:xfrm>
              <a:off x="1893600" y="1795680"/>
              <a:ext cx="1465200" cy="1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" descr=""/>
            <p:cNvPicPr/>
            <p:nvPr/>
          </p:nvPicPr>
          <p:blipFill>
            <a:blip r:embed="rId27"/>
            <a:stretch/>
          </p:blipFill>
          <p:spPr>
            <a:xfrm>
              <a:off x="1893600" y="1557720"/>
              <a:ext cx="147960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1" name="" descr=""/>
            <p:cNvPicPr/>
            <p:nvPr/>
          </p:nvPicPr>
          <p:blipFill>
            <a:blip r:embed="rId28"/>
            <a:srcRect l="1821" t="0" r="1821" b="0"/>
            <a:stretch/>
          </p:blipFill>
          <p:spPr>
            <a:xfrm>
              <a:off x="1893600" y="1994040"/>
              <a:ext cx="1465200" cy="19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2" name=""/>
          <p:cNvSpPr/>
          <p:nvPr/>
        </p:nvSpPr>
        <p:spPr>
          <a:xfrm flipV="1">
            <a:off x="6058080" y="2387520"/>
            <a:ext cx="0" cy="393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 flipV="1">
            <a:off x="2540160" y="2514240"/>
            <a:ext cx="0" cy="2667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3301920" y="5549760"/>
            <a:ext cx="1905120" cy="1015920"/>
            <a:chOff x="3301920" y="5549760"/>
            <a:chExt cx="1905120" cy="1015920"/>
          </a:xfrm>
        </p:grpSpPr>
        <p:sp>
          <p:nvSpPr>
            <p:cNvPr id="1135" name=""/>
            <p:cNvSpPr/>
            <p:nvPr/>
          </p:nvSpPr>
          <p:spPr>
            <a:xfrm>
              <a:off x="3378240" y="5549760"/>
              <a:ext cx="1752480" cy="304920"/>
            </a:xfrm>
            <a:prstGeom prst="rect">
              <a:avLst/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6" name="" descr=""/>
            <p:cNvPicPr/>
            <p:nvPr/>
          </p:nvPicPr>
          <p:blipFill>
            <a:blip r:embed="rId29"/>
            <a:stretch/>
          </p:blipFill>
          <p:spPr>
            <a:xfrm>
              <a:off x="3530520" y="5626080"/>
              <a:ext cx="1447920" cy="1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>
              <a:off x="3301920" y="5832360"/>
              <a:ext cx="1905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"/>
                </a:rPr>
                <a:t>Devices, HMCs,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Lydian"/>
                </a:rPr>
                <a:t>terminal servers, et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"/>
          <p:cNvSpPr/>
          <p:nvPr/>
        </p:nvSpPr>
        <p:spPr>
          <a:xfrm flipV="1">
            <a:off x="1587600" y="2793960"/>
            <a:ext cx="0" cy="2923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 flipV="1">
            <a:off x="3429000" y="2806200"/>
            <a:ext cx="0" cy="520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4E58-7043-430B-B9CD-CFB0EB9FC8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"/>
          <p:cNvSpPr/>
          <p:nvPr/>
        </p:nvSpPr>
        <p:spPr>
          <a:xfrm>
            <a:off x="1628640" y="1587600"/>
            <a:ext cx="67946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node 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static and dynamic nod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BIOS updating, firmware fla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installing and maintaining OS and other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automatic security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running distributed comma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synchronizing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monitoring and automated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out-of-band hardware control and remote cons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diagnostics 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2440" indent="-82440">
              <a:lnSpc>
                <a:spcPct val="100000"/>
              </a:lnSpc>
              <a:spcAft>
                <a:spcPts val="451"/>
              </a:spcAft>
              <a:buClr>
                <a:srgbClr val="941cac"/>
              </a:buClr>
              <a:buFont typeface="Wingdings" charset="2"/>
              <a:buChar char="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HA management server 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43080" y="884520"/>
            <a:ext cx="832320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CSM’s Management Server is a single point of control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D1F8-DC87-4F21-BFE4-B73D6770F6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CSM Backgrou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77840" y="1396800"/>
            <a:ext cx="868680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07720" indent="-207720">
              <a:lnSpc>
                <a:spcPct val="12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Development started in 2000, first release in 200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>
              <a:lnSpc>
                <a:spcPct val="12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Developed by the RS/6000 SP2 software (PSSP) group for the management of AIX, Linux, and mixed clu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>
              <a:lnSpc>
                <a:spcPct val="12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Borrowed ideas and technology from PSSP for AIX on p, and from xCAT for Linux on x and 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>
              <a:lnSpc>
                <a:spcPct val="12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Significant use of open source: openssh, rdist, autoupdate, tftp, pxelinux, fping, expect, conserver, opencimom, system im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7720" indent="-207720">
              <a:lnSpc>
                <a:spcPct val="12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Reliable Scalable Cluster Technology (RSCT) event/resource infrastructure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8E58-06F2-4415-8381-A61AD0B8B6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Who uses CSM? ---&gt; Clients with AIX and/or Linux clusters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0440" y="120600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ydian"/>
              </a:rPr>
              <a:t>The scientific crow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2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National Laboratories (nuclear physics, weather forecas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2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Universities (anything and everyth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2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Corporate research (energy, mining, chemical, pharmaceuti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Lydian"/>
              </a:rPr>
              <a:t>Commercial customer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2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Banking (web banking, financial simulation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2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Insurance (db apps, risk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2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Retail (online stores, customer serv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2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Automotive (crash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lnSpc>
                <a:spcPct val="12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Web ho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2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E85F-A4BB-4D8F-8646-9C3809CC31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Lydian"/>
              </a:rPr>
              <a:t>User Interfa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Complete command line interfac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Lydi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Distributed Command Execution Manager (DCEM) – dsh &amp; nodegrp GUI for AIX &amp; Linu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SMIT panels – out of date, and incomplete now? - AIX onl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Web-based System Manager – monitoring, node, and nodegrp GUIs for AIX and Linux on 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788"/>
              </a:spcBef>
              <a:spcAft>
                <a:spcPts val="337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ydian"/>
              </a:rPr>
              <a:t>Experimental web browser interface on xCSM – Linux on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82836-06A4-420A-B73E-1BC63C08B9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21:22:41Z</dcterms:created>
  <dc:creator>Marty Fullam</dc:creator>
  <dc:description/>
  <dc:language>en-US</dc:language>
  <cp:lastModifiedBy>IBM_USER</cp:lastModifiedBy>
  <dcterms:modified xsi:type="dcterms:W3CDTF">2006-09-28T20:48:45Z</dcterms:modified>
  <cp:revision>293</cp:revision>
  <dc:subject/>
  <dc:title>CSM presentation</dc:title>
</cp:coreProperties>
</file>